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72782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284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968040" y="728640"/>
            <a:ext cx="4792680" cy="359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e0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57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3813120" y="9137520"/>
            <a:ext cx="2916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0" y="9137520"/>
            <a:ext cx="2913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0" y="0"/>
            <a:ext cx="2913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PlaceHolder 1"/>
          <p:cNvSpPr>
            <a:spLocks noGrp="1"/>
          </p:cNvSpPr>
          <p:nvPr>
            <p:ph type="body"/>
          </p:nvPr>
        </p:nvSpPr>
        <p:spPr>
          <a:xfrm>
            <a:off x="895320" y="4565160"/>
            <a:ext cx="4935600" cy="4334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6160" bIns="56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WO connecter 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vent plug in back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PlaceHolder 2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4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4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5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5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6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7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7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8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8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9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5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20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20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21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5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6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3813120" y="9137520"/>
            <a:ext cx="2916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0" y="9137520"/>
            <a:ext cx="2913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0" y="0"/>
            <a:ext cx="2913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PlaceHolder 1"/>
          <p:cNvSpPr>
            <a:spLocks noGrp="1"/>
          </p:cNvSpPr>
          <p:nvPr>
            <p:ph type="body"/>
          </p:nvPr>
        </p:nvSpPr>
        <p:spPr>
          <a:xfrm>
            <a:off x="895320" y="4565160"/>
            <a:ext cx="4935600" cy="4334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6160" bIns="56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WO connecter 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vent plug in back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PlaceHolder 2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7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8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9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9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0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58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0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1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2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2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3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3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4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5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5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6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7" name=""/>
          <p:cNvSpPr/>
          <p:nvPr/>
        </p:nvSpPr>
        <p:spPr>
          <a:xfrm>
            <a:off x="3813120" y="9137520"/>
            <a:ext cx="2916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8" name=""/>
          <p:cNvSpPr/>
          <p:nvPr/>
        </p:nvSpPr>
        <p:spPr>
          <a:xfrm>
            <a:off x="0" y="9137520"/>
            <a:ext cx="2913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9" name=""/>
          <p:cNvSpPr/>
          <p:nvPr/>
        </p:nvSpPr>
        <p:spPr>
          <a:xfrm>
            <a:off x="0" y="0"/>
            <a:ext cx="2913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0" name="PlaceHolder 1"/>
          <p:cNvSpPr>
            <a:spLocks noGrp="1"/>
          </p:cNvSpPr>
          <p:nvPr>
            <p:ph type="body"/>
          </p:nvPr>
        </p:nvSpPr>
        <p:spPr>
          <a:xfrm>
            <a:off x="895320" y="4565160"/>
            <a:ext cx="4935600" cy="4334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6160" bIns="56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categorized by performance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speed defined as performance between 10~100Kb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s are in interactive 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very low cost and ease of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speed defines as between .5 ~ 10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low cost, ease of use and Guaranteed laten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defines as performance between 50 ~ 100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Ease of use and very low band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is targeting low and medium speed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focus on low cost and high volum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1" name="PlaceHolder 2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6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7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8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8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9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9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0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1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1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2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>
            <a:off x="3813120" y="9137520"/>
            <a:ext cx="2916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0" y="9137520"/>
            <a:ext cx="2913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0" y="0"/>
            <a:ext cx="2913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PlaceHolder 1"/>
          <p:cNvSpPr>
            <a:spLocks noGrp="1"/>
          </p:cNvSpPr>
          <p:nvPr>
            <p:ph type="body"/>
          </p:nvPr>
        </p:nvSpPr>
        <p:spPr>
          <a:xfrm>
            <a:off x="895320" y="4565160"/>
            <a:ext cx="4935600" cy="4334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6160" bIns="56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categorized by performance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speed defined as performance between 10~100Kb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s are in interactive 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very low cost and ease of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speed defines as between .5 ~ 10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low cost, ease of use and Guaranteed laten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defines as performance between 50 ~ 100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Ease of use and very low band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is targeting low and medium speed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focus on low cost and high volum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PlaceHolder 2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2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3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4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4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5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5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6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7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7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8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>
            <a:off x="3813120" y="9137520"/>
            <a:ext cx="2916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>
            <a:off x="0" y="9137520"/>
            <a:ext cx="2913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0" y="0"/>
            <a:ext cx="2913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PlaceHolder 1"/>
          <p:cNvSpPr>
            <a:spLocks noGrp="1"/>
          </p:cNvSpPr>
          <p:nvPr>
            <p:ph type="body"/>
          </p:nvPr>
        </p:nvSpPr>
        <p:spPr>
          <a:xfrm>
            <a:off x="895320" y="4565160"/>
            <a:ext cx="4935600" cy="4334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6160" bIns="56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categorized by performance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speed defined as performance between 10~100Kb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s are in interactive 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very low cost and ease of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speed defines as between .5 ~ 10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low cost, ease of use and Guaranteed laten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defines as performance between 50 ~ 100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Ease of use and very low band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is targeting low and medium speed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focus on low cost and high volum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PlaceHolder 2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8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9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0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0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1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1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2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3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3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4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1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4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5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6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6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7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7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8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9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9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0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2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0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1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2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2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3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3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4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5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5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6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2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6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7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3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8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8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9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9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0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1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1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2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2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3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884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40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32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666520" y="127080"/>
            <a:ext cx="6324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140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884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140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340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732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6520" y="127080"/>
            <a:ext cx="6324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7040" y="6335640"/>
            <a:ext cx="7186680" cy="523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-2000"/>
          </a:blip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e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1240" y="6451560"/>
            <a:ext cx="73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F807-9D33-4CE8-B8A4-27BE85A82730}" type="slidenum">
              <a:rPr b="1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267680" y="6373800"/>
            <a:ext cx="182880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374920"/>
            <a:ext cx="9144000" cy="4483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>
            <a:lum bright="-2000"/>
          </a:blip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e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240" y="6451560"/>
            <a:ext cx="73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3405-4B27-462C-960C-66E32B58304C}" type="slidenum">
              <a:rPr b="1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51920" y="5410080"/>
            <a:ext cx="3063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hilippe Larcher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(ppl@cypress.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ypress-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629400" y="0"/>
          <a:ext cx="238428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0"/>
                    <a:ext cx="238428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USB : les principes de base</a:t>
            </a: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371600" y="5715000"/>
            <a:ext cx="525780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2438280"/>
            <a:ext cx="2590920" cy="99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0"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Bus USB 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p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isation : D+, D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imentation 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ND, VBUS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V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no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Connecteurs 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érie A (extrémité amo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érie B (extrémité aval - op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Câbles 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ind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 périph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ueur max. 3m (non blindé), 5m (blind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724280" y="2971440"/>
            <a:ext cx="1295640" cy="609480"/>
          </a:xfrm>
          <a:prstGeom prst="line">
            <a:avLst/>
          </a:prstGeom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95360" y="34282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ef3f8"/>
                </a:solidFill>
                <a:latin typeface="Arial"/>
              </a:rPr>
              <a:t>F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246720" y="34282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ef3f8"/>
                </a:solidFill>
                <a:latin typeface="Arial"/>
              </a:rPr>
              <a:t>Em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467480" y="2514600"/>
            <a:ext cx="1162080" cy="8762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809640" cy="7426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543800" y="3809880"/>
            <a:ext cx="1085760" cy="8575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819000" cy="9050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095880" y="3733920"/>
            <a:ext cx="259092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38680" y="4038480"/>
            <a:ext cx="457200" cy="228600"/>
          </a:xfrm>
          <a:prstGeom prst="line">
            <a:avLst/>
          </a:prstGeom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51160" y="5715000"/>
            <a:ext cx="5135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B High Speed : 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s c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es et conne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3" name=""/>
          <p:cNvSpPr/>
          <p:nvPr/>
        </p:nvSpPr>
        <p:spPr>
          <a:xfrm>
            <a:off x="145080" y="1523880"/>
            <a:ext cx="4567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isation des transactions Bulk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225" name=""/>
          <p:cNvSpPr/>
          <p:nvPr/>
        </p:nvSpPr>
        <p:spPr>
          <a:xfrm>
            <a:off x="228600" y="3352680"/>
            <a:ext cx="8763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'echec de la transaction (NAK) est sign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pr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è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e transfert du paquet Data, qui accapare inutilement l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nouvel acquittement est p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u pou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ter ce p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 :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Y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ode High Speed uniqueme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action accep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 et buffer suffisant pour la transaction suivante :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action accep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 mais buffer insuffisant pour une prochaine transaction : NY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action refu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 : N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 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nse NYET ou NAK le Host peut tester la disponibili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u Device pour la prochaine transaction par une transaction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nse NAK : pas de buffer disponible pour une transaction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nse ACK : buffer disponible, une transaction OUT peu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e relan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6" name=""/>
          <p:cNvGrpSpPr/>
          <p:nvPr/>
        </p:nvGrpSpPr>
        <p:grpSpPr>
          <a:xfrm>
            <a:off x="5181480" y="1371600"/>
            <a:ext cx="3428640" cy="1077120"/>
            <a:chOff x="5181480" y="1371600"/>
            <a:chExt cx="3428640" cy="1077120"/>
          </a:xfrm>
        </p:grpSpPr>
        <p:sp>
          <p:nvSpPr>
            <p:cNvPr id="6227" name=""/>
            <p:cNvSpPr/>
            <p:nvPr/>
          </p:nvSpPr>
          <p:spPr>
            <a:xfrm>
              <a:off x="8001000" y="1371600"/>
              <a:ext cx="533160" cy="1067040"/>
            </a:xfrm>
            <a:custGeom>
              <a:avLst/>
              <a:gdLst>
                <a:gd name="textAreaLeft" fmla="*/ 25920 w 533160"/>
                <a:gd name="textAreaRight" fmla="*/ 507240 w 53316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215">
                  <a:moveTo>
                    <a:pt x="3600" y="0"/>
                  </a:moveTo>
                  <a:arcTo wR="3600" hR="3600" stAng="16200000" swAng="-5400000"/>
                  <a:lnTo>
                    <a:pt x="0" y="39615"/>
                  </a:lnTo>
                  <a:arcTo wR="3600" hR="3600" stAng="10800000" swAng="-5400000"/>
                  <a:lnTo>
                    <a:pt x="18000" y="43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6324480" y="137160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5181480" y="137160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5257800" y="144792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5486400" y="144792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5715000" y="144792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5943600" y="144792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6400800" y="144792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6629400" y="1447920"/>
              <a:ext cx="99036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619760" y="144792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8153280" y="144792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5256720" y="2209680"/>
              <a:ext cx="955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6705000" y="2209680"/>
              <a:ext cx="869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8001000" y="2209680"/>
              <a:ext cx="6091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1" name=""/>
          <p:cNvSpPr/>
          <p:nvPr/>
        </p:nvSpPr>
        <p:spPr>
          <a:xfrm>
            <a:off x="228600" y="274320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e transaction Bulk Out peu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 refu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(Nak) par un Device faute de buffer instanta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nt disponible, et re-t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ul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e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2" name=""/>
          <p:cNvSpPr/>
          <p:nvPr/>
        </p:nvSpPr>
        <p:spPr>
          <a:xfrm>
            <a:off x="306360" y="1371600"/>
            <a:ext cx="28699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Transacti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6244" name=""/>
          <p:cNvGrpSpPr/>
          <p:nvPr/>
        </p:nvGrpSpPr>
        <p:grpSpPr>
          <a:xfrm>
            <a:off x="914400" y="2514600"/>
            <a:ext cx="609480" cy="380880"/>
            <a:chOff x="914400" y="2514600"/>
            <a:chExt cx="609480" cy="380880"/>
          </a:xfrm>
        </p:grpSpPr>
        <p:sp>
          <p:nvSpPr>
            <p:cNvPr id="6245" name=""/>
            <p:cNvSpPr/>
            <p:nvPr/>
          </p:nvSpPr>
          <p:spPr>
            <a:xfrm>
              <a:off x="91440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121932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121932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8" name=""/>
          <p:cNvGrpSpPr/>
          <p:nvPr/>
        </p:nvGrpSpPr>
        <p:grpSpPr>
          <a:xfrm>
            <a:off x="4876920" y="2514600"/>
            <a:ext cx="609480" cy="380880"/>
            <a:chOff x="4876920" y="2514600"/>
            <a:chExt cx="609480" cy="380880"/>
          </a:xfrm>
        </p:grpSpPr>
        <p:sp>
          <p:nvSpPr>
            <p:cNvPr id="6249" name=""/>
            <p:cNvSpPr/>
            <p:nvPr/>
          </p:nvSpPr>
          <p:spPr>
            <a:xfrm>
              <a:off x="487692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518184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518184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2" name=""/>
          <p:cNvGrpSpPr/>
          <p:nvPr/>
        </p:nvGrpSpPr>
        <p:grpSpPr>
          <a:xfrm>
            <a:off x="7162920" y="2514600"/>
            <a:ext cx="609480" cy="380880"/>
            <a:chOff x="7162920" y="2514600"/>
            <a:chExt cx="609480" cy="380880"/>
          </a:xfrm>
        </p:grpSpPr>
        <p:sp>
          <p:nvSpPr>
            <p:cNvPr id="6253" name=""/>
            <p:cNvSpPr/>
            <p:nvPr/>
          </p:nvSpPr>
          <p:spPr>
            <a:xfrm>
              <a:off x="716292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46784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46784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6" name=""/>
          <p:cNvGrpSpPr/>
          <p:nvPr/>
        </p:nvGrpSpPr>
        <p:grpSpPr>
          <a:xfrm>
            <a:off x="4876920" y="3657600"/>
            <a:ext cx="609480" cy="380880"/>
            <a:chOff x="4876920" y="3657600"/>
            <a:chExt cx="609480" cy="380880"/>
          </a:xfrm>
        </p:grpSpPr>
        <p:sp>
          <p:nvSpPr>
            <p:cNvPr id="6257" name=""/>
            <p:cNvSpPr/>
            <p:nvPr/>
          </p:nvSpPr>
          <p:spPr>
            <a:xfrm>
              <a:off x="4876920" y="3733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518184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518184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0" name=""/>
          <p:cNvGrpSpPr/>
          <p:nvPr/>
        </p:nvGrpSpPr>
        <p:grpSpPr>
          <a:xfrm>
            <a:off x="914400" y="3657600"/>
            <a:ext cx="609480" cy="380880"/>
            <a:chOff x="914400" y="3657600"/>
            <a:chExt cx="609480" cy="380880"/>
          </a:xfrm>
        </p:grpSpPr>
        <p:sp>
          <p:nvSpPr>
            <p:cNvPr id="6261" name=""/>
            <p:cNvSpPr/>
            <p:nvPr/>
          </p:nvSpPr>
          <p:spPr>
            <a:xfrm>
              <a:off x="914400" y="3733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121932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121932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4" name=""/>
          <p:cNvGrpSpPr/>
          <p:nvPr/>
        </p:nvGrpSpPr>
        <p:grpSpPr>
          <a:xfrm>
            <a:off x="1676520" y="4724280"/>
            <a:ext cx="609480" cy="380880"/>
            <a:chOff x="1676520" y="4724280"/>
            <a:chExt cx="609480" cy="380880"/>
          </a:xfrm>
        </p:grpSpPr>
        <p:sp>
          <p:nvSpPr>
            <p:cNvPr id="6265" name=""/>
            <p:cNvSpPr/>
            <p:nvPr/>
          </p:nvSpPr>
          <p:spPr>
            <a:xfrm>
              <a:off x="16765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19814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19814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8" name=""/>
          <p:cNvGrpSpPr/>
          <p:nvPr/>
        </p:nvGrpSpPr>
        <p:grpSpPr>
          <a:xfrm>
            <a:off x="2362320" y="4724280"/>
            <a:ext cx="609480" cy="380880"/>
            <a:chOff x="2362320" y="4724280"/>
            <a:chExt cx="609480" cy="380880"/>
          </a:xfrm>
        </p:grpSpPr>
        <p:sp>
          <p:nvSpPr>
            <p:cNvPr id="6269" name=""/>
            <p:cNvSpPr/>
            <p:nvPr/>
          </p:nvSpPr>
          <p:spPr>
            <a:xfrm>
              <a:off x="23623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6672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6672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2" name=""/>
          <p:cNvGrpSpPr/>
          <p:nvPr/>
        </p:nvGrpSpPr>
        <p:grpSpPr>
          <a:xfrm>
            <a:off x="914400" y="4724280"/>
            <a:ext cx="609480" cy="380880"/>
            <a:chOff x="914400" y="4724280"/>
            <a:chExt cx="609480" cy="380880"/>
          </a:xfrm>
        </p:grpSpPr>
        <p:sp>
          <p:nvSpPr>
            <p:cNvPr id="6273" name=""/>
            <p:cNvSpPr/>
            <p:nvPr/>
          </p:nvSpPr>
          <p:spPr>
            <a:xfrm>
              <a:off x="914400" y="480060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121932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121932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6" name=""/>
          <p:cNvSpPr/>
          <p:nvPr/>
        </p:nvSpPr>
        <p:spPr>
          <a:xfrm>
            <a:off x="121932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1219320" y="2819520"/>
            <a:ext cx="761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1219320" y="28195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1219320" y="4038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12193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304920" y="3200400"/>
            <a:ext cx="81532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2" name=""/>
          <p:cNvGrpSpPr/>
          <p:nvPr/>
        </p:nvGrpSpPr>
        <p:grpSpPr>
          <a:xfrm>
            <a:off x="3505320" y="4724280"/>
            <a:ext cx="609480" cy="380880"/>
            <a:chOff x="3505320" y="4724280"/>
            <a:chExt cx="609480" cy="380880"/>
          </a:xfrm>
        </p:grpSpPr>
        <p:sp>
          <p:nvSpPr>
            <p:cNvPr id="6283" name=""/>
            <p:cNvSpPr/>
            <p:nvPr/>
          </p:nvSpPr>
          <p:spPr>
            <a:xfrm>
              <a:off x="35053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Y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8102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38102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6" name=""/>
          <p:cNvGrpSpPr/>
          <p:nvPr/>
        </p:nvGrpSpPr>
        <p:grpSpPr>
          <a:xfrm>
            <a:off x="4876920" y="4724280"/>
            <a:ext cx="609480" cy="380880"/>
            <a:chOff x="4876920" y="4724280"/>
            <a:chExt cx="609480" cy="380880"/>
          </a:xfrm>
        </p:grpSpPr>
        <p:sp>
          <p:nvSpPr>
            <p:cNvPr id="6287" name=""/>
            <p:cNvSpPr/>
            <p:nvPr/>
          </p:nvSpPr>
          <p:spPr>
            <a:xfrm>
              <a:off x="48769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51818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51818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0" name=""/>
          <p:cNvGrpSpPr/>
          <p:nvPr/>
        </p:nvGrpSpPr>
        <p:grpSpPr>
          <a:xfrm>
            <a:off x="4191120" y="4724280"/>
            <a:ext cx="609480" cy="380880"/>
            <a:chOff x="4191120" y="4724280"/>
            <a:chExt cx="609480" cy="380880"/>
          </a:xfrm>
        </p:grpSpPr>
        <p:sp>
          <p:nvSpPr>
            <p:cNvPr id="6291" name=""/>
            <p:cNvSpPr/>
            <p:nvPr/>
          </p:nvSpPr>
          <p:spPr>
            <a:xfrm>
              <a:off x="41911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44960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44960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4" name=""/>
          <p:cNvGrpSpPr/>
          <p:nvPr/>
        </p:nvGrpSpPr>
        <p:grpSpPr>
          <a:xfrm>
            <a:off x="5562720" y="4724280"/>
            <a:ext cx="609480" cy="380880"/>
            <a:chOff x="5562720" y="4724280"/>
            <a:chExt cx="609480" cy="380880"/>
          </a:xfrm>
        </p:grpSpPr>
        <p:sp>
          <p:nvSpPr>
            <p:cNvPr id="6295" name=""/>
            <p:cNvSpPr/>
            <p:nvPr/>
          </p:nvSpPr>
          <p:spPr>
            <a:xfrm>
              <a:off x="55627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58676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58676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8" name=""/>
          <p:cNvSpPr/>
          <p:nvPr/>
        </p:nvSpPr>
        <p:spPr>
          <a:xfrm>
            <a:off x="518148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5181480" y="4038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 flipH="1">
            <a:off x="3809880" y="3962520"/>
            <a:ext cx="13716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 flipH="1">
            <a:off x="4495320" y="3962520"/>
            <a:ext cx="6858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5181480" y="3962520"/>
            <a:ext cx="6858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19810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26668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38098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44956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7" name=""/>
          <p:cNvGrpSpPr/>
          <p:nvPr/>
        </p:nvGrpSpPr>
        <p:grpSpPr>
          <a:xfrm>
            <a:off x="6477120" y="4724280"/>
            <a:ext cx="609480" cy="380880"/>
            <a:chOff x="6477120" y="4724280"/>
            <a:chExt cx="609480" cy="380880"/>
          </a:xfrm>
        </p:grpSpPr>
        <p:sp>
          <p:nvSpPr>
            <p:cNvPr id="6308" name=""/>
            <p:cNvSpPr/>
            <p:nvPr/>
          </p:nvSpPr>
          <p:spPr>
            <a:xfrm>
              <a:off x="64771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67820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67820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1" name=""/>
          <p:cNvGrpSpPr/>
          <p:nvPr/>
        </p:nvGrpSpPr>
        <p:grpSpPr>
          <a:xfrm>
            <a:off x="7162920" y="4724280"/>
            <a:ext cx="609480" cy="380880"/>
            <a:chOff x="7162920" y="4724280"/>
            <a:chExt cx="609480" cy="380880"/>
          </a:xfrm>
        </p:grpSpPr>
        <p:sp>
          <p:nvSpPr>
            <p:cNvPr id="6312" name=""/>
            <p:cNvSpPr/>
            <p:nvPr/>
          </p:nvSpPr>
          <p:spPr>
            <a:xfrm>
              <a:off x="71629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4678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4678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5" name=""/>
          <p:cNvGrpSpPr/>
          <p:nvPr/>
        </p:nvGrpSpPr>
        <p:grpSpPr>
          <a:xfrm>
            <a:off x="7848720" y="4724280"/>
            <a:ext cx="609480" cy="380880"/>
            <a:chOff x="7848720" y="4724280"/>
            <a:chExt cx="609480" cy="380880"/>
          </a:xfrm>
        </p:grpSpPr>
        <p:sp>
          <p:nvSpPr>
            <p:cNvPr id="6316" name=""/>
            <p:cNvSpPr/>
            <p:nvPr/>
          </p:nvSpPr>
          <p:spPr>
            <a:xfrm>
              <a:off x="78487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81536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81536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9" name=""/>
          <p:cNvSpPr/>
          <p:nvPr/>
        </p:nvSpPr>
        <p:spPr>
          <a:xfrm>
            <a:off x="7467480" y="28954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 flipH="1">
            <a:off x="6781320" y="2819520"/>
            <a:ext cx="68580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7467480" y="2819520"/>
            <a:ext cx="68580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-108360" y="2362320"/>
            <a:ext cx="1240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-108000" y="3276720"/>
            <a:ext cx="1141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-184680" y="4572000"/>
            <a:ext cx="15426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ndsh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4615920" y="182880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2862360" y="6019920"/>
            <a:ext cx="134928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690080" y="6019920"/>
            <a:ext cx="15548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882000" y="3276720"/>
            <a:ext cx="11174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2786400" y="4648320"/>
            <a:ext cx="1429920" cy="27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6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6900120" y="2309760"/>
            <a:ext cx="19130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igh Speed OUT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1219320" y="4191120"/>
            <a:ext cx="43020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>
            <a:off x="304920" y="4572000"/>
            <a:ext cx="81532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3" name=""/>
          <p:cNvGrpSpPr/>
          <p:nvPr/>
        </p:nvGrpSpPr>
        <p:grpSpPr>
          <a:xfrm>
            <a:off x="3809880" y="5943600"/>
            <a:ext cx="609480" cy="380880"/>
            <a:chOff x="3809880" y="5943600"/>
            <a:chExt cx="609480" cy="380880"/>
          </a:xfrm>
        </p:grpSpPr>
        <p:sp>
          <p:nvSpPr>
            <p:cNvPr id="6334" name=""/>
            <p:cNvSpPr/>
            <p:nvPr/>
          </p:nvSpPr>
          <p:spPr>
            <a:xfrm>
              <a:off x="3809880" y="6019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41148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41148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7" name=""/>
          <p:cNvGrpSpPr/>
          <p:nvPr/>
        </p:nvGrpSpPr>
        <p:grpSpPr>
          <a:xfrm>
            <a:off x="5867280" y="5943600"/>
            <a:ext cx="609480" cy="380880"/>
            <a:chOff x="5867280" y="5943600"/>
            <a:chExt cx="609480" cy="380880"/>
          </a:xfrm>
        </p:grpSpPr>
        <p:sp>
          <p:nvSpPr>
            <p:cNvPr id="6338" name=""/>
            <p:cNvSpPr/>
            <p:nvPr/>
          </p:nvSpPr>
          <p:spPr>
            <a:xfrm>
              <a:off x="5867280" y="6019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61722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61722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1" name=""/>
          <p:cNvSpPr/>
          <p:nvPr/>
        </p:nvSpPr>
        <p:spPr>
          <a:xfrm flipH="1">
            <a:off x="1218960" y="2057400"/>
            <a:ext cx="3886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5257800" y="2057400"/>
            <a:ext cx="2209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8419680" y="5334120"/>
            <a:ext cx="108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def3f8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5377680" y="4038480"/>
            <a:ext cx="1117440" cy="25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7663680" y="3276720"/>
            <a:ext cx="11174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4920480" y="3276720"/>
            <a:ext cx="11174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5181480" y="3962520"/>
            <a:ext cx="1143000" cy="1523880"/>
          </a:xfrm>
          <a:custGeom>
            <a:avLst/>
            <a:gdLst/>
            <a:ahLst/>
            <a:rect l="l" t="t" r="r" b="b"/>
            <a:pathLst>
              <a:path w="720" h="960">
                <a:moveTo>
                  <a:pt x="0" y="0"/>
                </a:moveTo>
                <a:lnTo>
                  <a:pt x="384" y="192"/>
                </a:lnTo>
                <a:lnTo>
                  <a:pt x="624" y="192"/>
                </a:lnTo>
                <a:lnTo>
                  <a:pt x="672" y="240"/>
                </a:lnTo>
                <a:lnTo>
                  <a:pt x="672" y="912"/>
                </a:lnTo>
                <a:lnTo>
                  <a:pt x="720" y="9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51814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58672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>
            <a:off x="67816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>
            <a:off x="7467480" y="2819520"/>
            <a:ext cx="1143000" cy="2666880"/>
          </a:xfrm>
          <a:custGeom>
            <a:avLst/>
            <a:gdLst/>
            <a:ahLst/>
            <a:rect l="l" t="t" r="r" b="b"/>
            <a:pathLst>
              <a:path w="720" h="1680">
                <a:moveTo>
                  <a:pt x="0" y="0"/>
                </a:moveTo>
                <a:lnTo>
                  <a:pt x="336" y="384"/>
                </a:lnTo>
                <a:lnTo>
                  <a:pt x="624" y="384"/>
                </a:lnTo>
                <a:lnTo>
                  <a:pt x="672" y="432"/>
                </a:lnTo>
                <a:lnTo>
                  <a:pt x="672" y="1632"/>
                </a:lnTo>
                <a:lnTo>
                  <a:pt x="720" y="16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1219320" y="43434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672"/>
                </a:lnTo>
                <a:lnTo>
                  <a:pt x="288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1219320" y="3352680"/>
            <a:ext cx="380880" cy="1143000"/>
          </a:xfrm>
          <a:custGeom>
            <a:avLst/>
            <a:gdLst/>
            <a:ahLst/>
            <a:rect l="l" t="t" r="r" b="b"/>
            <a:pathLst>
              <a:path w="240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 flipV="1">
            <a:off x="1981080" y="3657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 flipV="1">
            <a:off x="2666880" y="3657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>
            <a:off x="5181480" y="3352680"/>
            <a:ext cx="106704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lnTo>
                  <a:pt x="48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1219320" y="5410080"/>
            <a:ext cx="7619760" cy="76320"/>
          </a:xfrm>
          <a:custGeom>
            <a:avLst/>
            <a:gdLst/>
            <a:ahLst/>
            <a:rect l="l" t="t" r="r" b="b"/>
            <a:pathLst>
              <a:path w="4800" h="48">
                <a:moveTo>
                  <a:pt x="0" y="0"/>
                </a:moveTo>
                <a:lnTo>
                  <a:pt x="48" y="48"/>
                </a:lnTo>
                <a:lnTo>
                  <a:pt x="4800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74674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>
            <a:off x="81532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1" name=""/>
          <p:cNvSpPr/>
          <p:nvPr/>
        </p:nvSpPr>
        <p:spPr>
          <a:xfrm>
            <a:off x="304920" y="3200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304920" y="4572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298080" y="1371600"/>
            <a:ext cx="332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ef3f8"/>
                </a:solidFill>
                <a:latin typeface="Arial"/>
              </a:rPr>
              <a:t>Interrupt Transacti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6365" name=""/>
          <p:cNvGrpSpPr/>
          <p:nvPr/>
        </p:nvGrpSpPr>
        <p:grpSpPr>
          <a:xfrm>
            <a:off x="914400" y="2514600"/>
            <a:ext cx="609480" cy="380880"/>
            <a:chOff x="914400" y="2514600"/>
            <a:chExt cx="609480" cy="380880"/>
          </a:xfrm>
        </p:grpSpPr>
        <p:sp>
          <p:nvSpPr>
            <p:cNvPr id="6366" name=""/>
            <p:cNvSpPr/>
            <p:nvPr/>
          </p:nvSpPr>
          <p:spPr>
            <a:xfrm>
              <a:off x="91440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121932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121932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9" name=""/>
          <p:cNvGrpSpPr/>
          <p:nvPr/>
        </p:nvGrpSpPr>
        <p:grpSpPr>
          <a:xfrm>
            <a:off x="4876920" y="2514600"/>
            <a:ext cx="609480" cy="380880"/>
            <a:chOff x="4876920" y="2514600"/>
            <a:chExt cx="609480" cy="380880"/>
          </a:xfrm>
        </p:grpSpPr>
        <p:sp>
          <p:nvSpPr>
            <p:cNvPr id="6370" name=""/>
            <p:cNvSpPr/>
            <p:nvPr/>
          </p:nvSpPr>
          <p:spPr>
            <a:xfrm>
              <a:off x="487692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518184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518184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3" name=""/>
          <p:cNvGrpSpPr/>
          <p:nvPr/>
        </p:nvGrpSpPr>
        <p:grpSpPr>
          <a:xfrm>
            <a:off x="4876920" y="3657600"/>
            <a:ext cx="609480" cy="380880"/>
            <a:chOff x="4876920" y="3657600"/>
            <a:chExt cx="609480" cy="380880"/>
          </a:xfrm>
        </p:grpSpPr>
        <p:sp>
          <p:nvSpPr>
            <p:cNvPr id="6374" name=""/>
            <p:cNvSpPr/>
            <p:nvPr/>
          </p:nvSpPr>
          <p:spPr>
            <a:xfrm>
              <a:off x="4876920" y="3733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518184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518184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7" name=""/>
          <p:cNvGrpSpPr/>
          <p:nvPr/>
        </p:nvGrpSpPr>
        <p:grpSpPr>
          <a:xfrm>
            <a:off x="914400" y="3657600"/>
            <a:ext cx="609480" cy="380880"/>
            <a:chOff x="914400" y="3657600"/>
            <a:chExt cx="609480" cy="380880"/>
          </a:xfrm>
        </p:grpSpPr>
        <p:sp>
          <p:nvSpPr>
            <p:cNvPr id="6378" name=""/>
            <p:cNvSpPr/>
            <p:nvPr/>
          </p:nvSpPr>
          <p:spPr>
            <a:xfrm>
              <a:off x="914400" y="3733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121932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121932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1" name=""/>
          <p:cNvGrpSpPr/>
          <p:nvPr/>
        </p:nvGrpSpPr>
        <p:grpSpPr>
          <a:xfrm>
            <a:off x="1676520" y="4724280"/>
            <a:ext cx="609480" cy="380880"/>
            <a:chOff x="1676520" y="4724280"/>
            <a:chExt cx="609480" cy="380880"/>
          </a:xfrm>
        </p:grpSpPr>
        <p:sp>
          <p:nvSpPr>
            <p:cNvPr id="6382" name=""/>
            <p:cNvSpPr/>
            <p:nvPr/>
          </p:nvSpPr>
          <p:spPr>
            <a:xfrm>
              <a:off x="16765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19814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9814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5" name=""/>
          <p:cNvGrpSpPr/>
          <p:nvPr/>
        </p:nvGrpSpPr>
        <p:grpSpPr>
          <a:xfrm>
            <a:off x="2362320" y="4724280"/>
            <a:ext cx="609480" cy="380880"/>
            <a:chOff x="2362320" y="4724280"/>
            <a:chExt cx="609480" cy="380880"/>
          </a:xfrm>
        </p:grpSpPr>
        <p:sp>
          <p:nvSpPr>
            <p:cNvPr id="6386" name=""/>
            <p:cNvSpPr/>
            <p:nvPr/>
          </p:nvSpPr>
          <p:spPr>
            <a:xfrm>
              <a:off x="23623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26672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6672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9" name=""/>
          <p:cNvGrpSpPr/>
          <p:nvPr/>
        </p:nvGrpSpPr>
        <p:grpSpPr>
          <a:xfrm>
            <a:off x="914400" y="4724280"/>
            <a:ext cx="609480" cy="380880"/>
            <a:chOff x="914400" y="4724280"/>
            <a:chExt cx="609480" cy="380880"/>
          </a:xfrm>
        </p:grpSpPr>
        <p:sp>
          <p:nvSpPr>
            <p:cNvPr id="6390" name=""/>
            <p:cNvSpPr/>
            <p:nvPr/>
          </p:nvSpPr>
          <p:spPr>
            <a:xfrm>
              <a:off x="914400" y="480060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121932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121932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3" name=""/>
          <p:cNvSpPr/>
          <p:nvPr/>
        </p:nvSpPr>
        <p:spPr>
          <a:xfrm>
            <a:off x="121932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219320" y="2819520"/>
            <a:ext cx="761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1219320" y="28195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>
            <a:off x="1219320" y="4038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12193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8" name=""/>
          <p:cNvGrpSpPr/>
          <p:nvPr/>
        </p:nvGrpSpPr>
        <p:grpSpPr>
          <a:xfrm>
            <a:off x="4876920" y="4724280"/>
            <a:ext cx="609480" cy="380880"/>
            <a:chOff x="4876920" y="4724280"/>
            <a:chExt cx="609480" cy="380880"/>
          </a:xfrm>
        </p:grpSpPr>
        <p:sp>
          <p:nvSpPr>
            <p:cNvPr id="6399" name=""/>
            <p:cNvSpPr/>
            <p:nvPr/>
          </p:nvSpPr>
          <p:spPr>
            <a:xfrm>
              <a:off x="48769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51818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51818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2" name=""/>
          <p:cNvGrpSpPr/>
          <p:nvPr/>
        </p:nvGrpSpPr>
        <p:grpSpPr>
          <a:xfrm>
            <a:off x="4191120" y="4724280"/>
            <a:ext cx="609480" cy="380880"/>
            <a:chOff x="4191120" y="4724280"/>
            <a:chExt cx="609480" cy="380880"/>
          </a:xfrm>
        </p:grpSpPr>
        <p:sp>
          <p:nvSpPr>
            <p:cNvPr id="6403" name=""/>
            <p:cNvSpPr/>
            <p:nvPr/>
          </p:nvSpPr>
          <p:spPr>
            <a:xfrm>
              <a:off x="41911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44960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44960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6" name=""/>
          <p:cNvGrpSpPr/>
          <p:nvPr/>
        </p:nvGrpSpPr>
        <p:grpSpPr>
          <a:xfrm>
            <a:off x="5562720" y="4724280"/>
            <a:ext cx="609480" cy="380880"/>
            <a:chOff x="5562720" y="4724280"/>
            <a:chExt cx="609480" cy="380880"/>
          </a:xfrm>
        </p:grpSpPr>
        <p:sp>
          <p:nvSpPr>
            <p:cNvPr id="6407" name=""/>
            <p:cNvSpPr/>
            <p:nvPr/>
          </p:nvSpPr>
          <p:spPr>
            <a:xfrm>
              <a:off x="55627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8676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8676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0" name=""/>
          <p:cNvSpPr/>
          <p:nvPr/>
        </p:nvSpPr>
        <p:spPr>
          <a:xfrm>
            <a:off x="518148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1" name=""/>
          <p:cNvSpPr/>
          <p:nvPr/>
        </p:nvSpPr>
        <p:spPr>
          <a:xfrm>
            <a:off x="5181480" y="4038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2" name=""/>
          <p:cNvSpPr/>
          <p:nvPr/>
        </p:nvSpPr>
        <p:spPr>
          <a:xfrm flipH="1">
            <a:off x="4495320" y="3962520"/>
            <a:ext cx="6858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3" name=""/>
          <p:cNvSpPr/>
          <p:nvPr/>
        </p:nvSpPr>
        <p:spPr>
          <a:xfrm>
            <a:off x="5181480" y="3962520"/>
            <a:ext cx="6858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4" name=""/>
          <p:cNvSpPr/>
          <p:nvPr/>
        </p:nvSpPr>
        <p:spPr>
          <a:xfrm>
            <a:off x="19810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5" name=""/>
          <p:cNvSpPr/>
          <p:nvPr/>
        </p:nvSpPr>
        <p:spPr>
          <a:xfrm>
            <a:off x="26668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44956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-108360" y="2362320"/>
            <a:ext cx="1240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-108000" y="3276720"/>
            <a:ext cx="1141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-184680" y="4572000"/>
            <a:ext cx="15426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ndsh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4615920" y="182880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>
            <a:off x="2862360" y="6019920"/>
            <a:ext cx="134928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4690080" y="6019920"/>
            <a:ext cx="15548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875880" y="3276720"/>
            <a:ext cx="11174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1219320" y="4191120"/>
            <a:ext cx="43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5" name=""/>
          <p:cNvGrpSpPr/>
          <p:nvPr/>
        </p:nvGrpSpPr>
        <p:grpSpPr>
          <a:xfrm>
            <a:off x="3809880" y="5943600"/>
            <a:ext cx="609480" cy="380880"/>
            <a:chOff x="3809880" y="5943600"/>
            <a:chExt cx="609480" cy="380880"/>
          </a:xfrm>
        </p:grpSpPr>
        <p:sp>
          <p:nvSpPr>
            <p:cNvPr id="6426" name=""/>
            <p:cNvSpPr/>
            <p:nvPr/>
          </p:nvSpPr>
          <p:spPr>
            <a:xfrm>
              <a:off x="3809880" y="6019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41148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41148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9" name=""/>
          <p:cNvGrpSpPr/>
          <p:nvPr/>
        </p:nvGrpSpPr>
        <p:grpSpPr>
          <a:xfrm>
            <a:off x="5867280" y="5943600"/>
            <a:ext cx="609480" cy="380880"/>
            <a:chOff x="5867280" y="5943600"/>
            <a:chExt cx="609480" cy="380880"/>
          </a:xfrm>
        </p:grpSpPr>
        <p:sp>
          <p:nvSpPr>
            <p:cNvPr id="6430" name=""/>
            <p:cNvSpPr/>
            <p:nvPr/>
          </p:nvSpPr>
          <p:spPr>
            <a:xfrm>
              <a:off x="5867280" y="6019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1722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61722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3" name=""/>
          <p:cNvSpPr/>
          <p:nvPr/>
        </p:nvSpPr>
        <p:spPr>
          <a:xfrm flipH="1">
            <a:off x="1218960" y="2057400"/>
            <a:ext cx="3886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6292440" y="533412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>
            <a:off x="5371560" y="4038480"/>
            <a:ext cx="1117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>
            <a:off x="4914360" y="3276720"/>
            <a:ext cx="11174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5181480" y="3962520"/>
            <a:ext cx="1143000" cy="1523880"/>
          </a:xfrm>
          <a:custGeom>
            <a:avLst/>
            <a:gdLst/>
            <a:ahLst/>
            <a:rect l="l" t="t" r="r" b="b"/>
            <a:pathLst>
              <a:path w="720" h="960">
                <a:moveTo>
                  <a:pt x="0" y="0"/>
                </a:moveTo>
                <a:lnTo>
                  <a:pt x="384" y="192"/>
                </a:lnTo>
                <a:lnTo>
                  <a:pt x="624" y="192"/>
                </a:lnTo>
                <a:lnTo>
                  <a:pt x="672" y="240"/>
                </a:lnTo>
                <a:lnTo>
                  <a:pt x="672" y="912"/>
                </a:lnTo>
                <a:lnTo>
                  <a:pt x="720" y="9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51814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>
            <a:off x="58672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1219320" y="43434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672"/>
                </a:lnTo>
                <a:lnTo>
                  <a:pt x="288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219320" y="3352680"/>
            <a:ext cx="380880" cy="1143000"/>
          </a:xfrm>
          <a:custGeom>
            <a:avLst/>
            <a:gdLst/>
            <a:ahLst/>
            <a:rect l="l" t="t" r="r" b="b"/>
            <a:pathLst>
              <a:path w="240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 flipV="1">
            <a:off x="1981080" y="3657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 flipV="1">
            <a:off x="2666880" y="3657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>
            <a:off x="5181480" y="3352680"/>
            <a:ext cx="106704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lnTo>
                  <a:pt x="48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1219320" y="5410080"/>
            <a:ext cx="5486400" cy="76320"/>
          </a:xfrm>
          <a:custGeom>
            <a:avLst/>
            <a:gdLst/>
            <a:ahLst/>
            <a:rect l="l" t="t" r="r" b="b"/>
            <a:pathLst>
              <a:path w="3456" h="48">
                <a:moveTo>
                  <a:pt x="0" y="0"/>
                </a:moveTo>
                <a:lnTo>
                  <a:pt x="48" y="48"/>
                </a:lnTo>
                <a:lnTo>
                  <a:pt x="345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7" name=""/>
          <p:cNvSpPr/>
          <p:nvPr/>
        </p:nvSpPr>
        <p:spPr>
          <a:xfrm>
            <a:off x="1219320" y="3352680"/>
            <a:ext cx="457200" cy="2133720"/>
          </a:xfrm>
          <a:custGeom>
            <a:avLst/>
            <a:gdLst/>
            <a:ahLst/>
            <a:rect l="l" t="t" r="r" b="b"/>
            <a:pathLst>
              <a:path w="288" h="1344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1296"/>
                </a:lnTo>
                <a:lnTo>
                  <a:pt x="288" y="13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303120" y="1371600"/>
            <a:ext cx="37645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ochronous Transacti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6450" name=""/>
          <p:cNvGrpSpPr/>
          <p:nvPr/>
        </p:nvGrpSpPr>
        <p:grpSpPr>
          <a:xfrm>
            <a:off x="914400" y="2514600"/>
            <a:ext cx="609480" cy="380880"/>
            <a:chOff x="914400" y="2514600"/>
            <a:chExt cx="609480" cy="380880"/>
          </a:xfrm>
        </p:grpSpPr>
        <p:sp>
          <p:nvSpPr>
            <p:cNvPr id="6451" name=""/>
            <p:cNvSpPr/>
            <p:nvPr/>
          </p:nvSpPr>
          <p:spPr>
            <a:xfrm>
              <a:off x="91440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121932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121932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4" name=""/>
          <p:cNvGrpSpPr/>
          <p:nvPr/>
        </p:nvGrpSpPr>
        <p:grpSpPr>
          <a:xfrm>
            <a:off x="4876920" y="2514600"/>
            <a:ext cx="609480" cy="380880"/>
            <a:chOff x="4876920" y="2514600"/>
            <a:chExt cx="609480" cy="380880"/>
          </a:xfrm>
        </p:grpSpPr>
        <p:sp>
          <p:nvSpPr>
            <p:cNvPr id="6455" name=""/>
            <p:cNvSpPr/>
            <p:nvPr/>
          </p:nvSpPr>
          <p:spPr>
            <a:xfrm>
              <a:off x="487692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518184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518184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8" name=""/>
          <p:cNvGrpSpPr/>
          <p:nvPr/>
        </p:nvGrpSpPr>
        <p:grpSpPr>
          <a:xfrm>
            <a:off x="4876920" y="3657600"/>
            <a:ext cx="609480" cy="380880"/>
            <a:chOff x="4876920" y="3657600"/>
            <a:chExt cx="609480" cy="380880"/>
          </a:xfrm>
        </p:grpSpPr>
        <p:sp>
          <p:nvSpPr>
            <p:cNvPr id="6459" name=""/>
            <p:cNvSpPr/>
            <p:nvPr/>
          </p:nvSpPr>
          <p:spPr>
            <a:xfrm>
              <a:off x="4876920" y="3733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518184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518184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2" name=""/>
          <p:cNvGrpSpPr/>
          <p:nvPr/>
        </p:nvGrpSpPr>
        <p:grpSpPr>
          <a:xfrm>
            <a:off x="914400" y="3657600"/>
            <a:ext cx="609480" cy="380880"/>
            <a:chOff x="914400" y="3657600"/>
            <a:chExt cx="609480" cy="380880"/>
          </a:xfrm>
        </p:grpSpPr>
        <p:sp>
          <p:nvSpPr>
            <p:cNvPr id="6463" name=""/>
            <p:cNvSpPr/>
            <p:nvPr/>
          </p:nvSpPr>
          <p:spPr>
            <a:xfrm>
              <a:off x="914400" y="3733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DAT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121932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121932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6" name=""/>
          <p:cNvSpPr/>
          <p:nvPr/>
        </p:nvSpPr>
        <p:spPr>
          <a:xfrm>
            <a:off x="121932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>
            <a:off x="1219320" y="4038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12193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9" name=""/>
          <p:cNvSpPr/>
          <p:nvPr/>
        </p:nvSpPr>
        <p:spPr>
          <a:xfrm>
            <a:off x="304920" y="3200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518148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5181480" y="4038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-108360" y="2362320"/>
            <a:ext cx="1240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-108000" y="3276720"/>
            <a:ext cx="1141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-184680" y="4572000"/>
            <a:ext cx="15426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ndsh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4615920" y="182880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2862360" y="6019920"/>
            <a:ext cx="134928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4690080" y="6019920"/>
            <a:ext cx="15548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>
            <a:off x="875880" y="3276720"/>
            <a:ext cx="11174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304920" y="4572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0" name=""/>
          <p:cNvGrpSpPr/>
          <p:nvPr/>
        </p:nvGrpSpPr>
        <p:grpSpPr>
          <a:xfrm>
            <a:off x="3809880" y="5943600"/>
            <a:ext cx="609480" cy="380880"/>
            <a:chOff x="3809880" y="5943600"/>
            <a:chExt cx="609480" cy="380880"/>
          </a:xfrm>
        </p:grpSpPr>
        <p:sp>
          <p:nvSpPr>
            <p:cNvPr id="6481" name=""/>
            <p:cNvSpPr/>
            <p:nvPr/>
          </p:nvSpPr>
          <p:spPr>
            <a:xfrm>
              <a:off x="3809880" y="6019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41148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41148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4" name=""/>
          <p:cNvGrpSpPr/>
          <p:nvPr/>
        </p:nvGrpSpPr>
        <p:grpSpPr>
          <a:xfrm>
            <a:off x="5867280" y="5943600"/>
            <a:ext cx="609480" cy="380880"/>
            <a:chOff x="5867280" y="5943600"/>
            <a:chExt cx="609480" cy="380880"/>
          </a:xfrm>
        </p:grpSpPr>
        <p:sp>
          <p:nvSpPr>
            <p:cNvPr id="6485" name=""/>
            <p:cNvSpPr/>
            <p:nvPr/>
          </p:nvSpPr>
          <p:spPr>
            <a:xfrm>
              <a:off x="5867280" y="6019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61722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61722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8" name=""/>
          <p:cNvSpPr/>
          <p:nvPr/>
        </p:nvSpPr>
        <p:spPr>
          <a:xfrm flipH="1">
            <a:off x="1218960" y="2057400"/>
            <a:ext cx="3886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6292440" y="533412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1219320" y="5410080"/>
            <a:ext cx="5486400" cy="76320"/>
          </a:xfrm>
          <a:custGeom>
            <a:avLst/>
            <a:gdLst/>
            <a:ahLst/>
            <a:rect l="l" t="t" r="r" b="b"/>
            <a:pathLst>
              <a:path w="3456" h="48">
                <a:moveTo>
                  <a:pt x="0" y="0"/>
                </a:moveTo>
                <a:lnTo>
                  <a:pt x="48" y="48"/>
                </a:lnTo>
                <a:lnTo>
                  <a:pt x="345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>
            <a:off x="5181480" y="4724280"/>
            <a:ext cx="76320" cy="762120"/>
          </a:xfrm>
          <a:custGeom>
            <a:avLst/>
            <a:gdLst/>
            <a:ahLst/>
            <a:rect l="l" t="t" r="r" b="b"/>
            <a:pathLst>
              <a:path w="48" h="480">
                <a:moveTo>
                  <a:pt x="0" y="0"/>
                </a:moveTo>
                <a:lnTo>
                  <a:pt x="0" y="432"/>
                </a:lnTo>
                <a:lnTo>
                  <a:pt x="48" y="4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en mod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4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Interru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maximum 80% de la bande passante (pour l'ensemble de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ille max. des don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 utiles par transaction : 1024 octets (14% de la bande passante)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squ'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 toutes les 125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t maximum : </a:t>
            </a: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8 Moctets/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5" name=""/>
          <p:cNvSpPr/>
          <p:nvPr/>
        </p:nvSpPr>
        <p:spPr>
          <a:xfrm>
            <a:off x="-61560" y="5943600"/>
            <a:ext cx="5739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**) 16 ou 24 Moctets/s si 2 ou 3 transactions par micro-t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>
            <a:off x="-57240" y="5638680"/>
            <a:ext cx="51883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*)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ntuellement 2 ou 3 transactions par micro-t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en mod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49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% de la bande passante garantie pour l'ensemble des 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ques (plus selon disponibil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ur un 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que do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ille max. des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utiles par transaction : 64 octets (3% de la bande pass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s maximum envisageables (mais non garantis) : 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3 Moctets/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20% de la bande passante), </a:t>
            </a:r>
            <a:r>
              <a:rPr b="1" i="1" lang="en-GB" sz="2000" spc="-1" strike="noStrike">
                <a:solidFill>
                  <a:srgbClr val="ff5050"/>
                </a:solidFill>
                <a:latin typeface="Arial"/>
              </a:rPr>
              <a:t>16 Moctets/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100% de la bande passante)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en mod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0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Bu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ille max. des don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 utiles par transaction : 512 octets (8% de la bande pass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t maximum envisageable (mais non garanti) : </a:t>
            </a: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53 Moctets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en mod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0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Isochr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maximum 80% de la bande passante (pour l'ensemble de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ille max. des don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 utiles par transaction : 1024 octets (14% de la bande pass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 maximum 3 transactions par micro-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t maximum : </a:t>
            </a: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24 Moctet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3" name="PlaceHolder 1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4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05" name=""/>
          <p:cNvSpPr/>
          <p:nvPr/>
        </p:nvSpPr>
        <p:spPr>
          <a:xfrm rot="20997000">
            <a:off x="1904760" y="3047760"/>
            <a:ext cx="570708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 rot="20962200">
            <a:off x="2853360" y="3207960"/>
            <a:ext cx="336096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Quel composant choisir ?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09" name=""/>
          <p:cNvSpPr/>
          <p:nvPr/>
        </p:nvSpPr>
        <p:spPr>
          <a:xfrm>
            <a:off x="990720" y="32004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s composants d'interface USB se rangent en deux ca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erface physique uniqu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erface physique + microcontr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ô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828800" y="2514600"/>
            <a:ext cx="6781680" cy="838080"/>
          </a:xfrm>
          <a:custGeom>
            <a:avLst/>
            <a:gdLst/>
            <a:ahLst/>
            <a:rect l="l" t="t" r="r" b="b"/>
            <a:pathLst>
              <a:path w="4272" h="528">
                <a:moveTo>
                  <a:pt x="0" y="528"/>
                </a:moveTo>
                <a:lnTo>
                  <a:pt x="816" y="528"/>
                </a:lnTo>
                <a:lnTo>
                  <a:pt x="1008" y="0"/>
                </a:lnTo>
                <a:lnTo>
                  <a:pt x="2880" y="0"/>
                </a:lnTo>
                <a:lnTo>
                  <a:pt x="3072" y="528"/>
                </a:lnTo>
                <a:lnTo>
                  <a:pt x="4272" y="5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2514600"/>
            <a:ext cx="6781680" cy="838080"/>
          </a:xfrm>
          <a:custGeom>
            <a:avLst/>
            <a:gdLst/>
            <a:ahLst/>
            <a:rect l="l" t="t" r="r" b="b"/>
            <a:pathLst>
              <a:path w="4272" h="528">
                <a:moveTo>
                  <a:pt x="0" y="0"/>
                </a:moveTo>
                <a:lnTo>
                  <a:pt x="816" y="0"/>
                </a:lnTo>
                <a:lnTo>
                  <a:pt x="1008" y="528"/>
                </a:lnTo>
                <a:lnTo>
                  <a:pt x="2880" y="528"/>
                </a:lnTo>
                <a:lnTo>
                  <a:pt x="3888" y="528"/>
                </a:lnTo>
                <a:lnTo>
                  <a:pt x="4080" y="0"/>
                </a:lnTo>
                <a:lnTo>
                  <a:pt x="427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2400" y="3048120"/>
            <a:ext cx="76320" cy="533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sation pseudo-différentielle, codage NRZ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71720" y="2286000"/>
            <a:ext cx="5151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72080" y="3200400"/>
            <a:ext cx="45108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6720" y="3657600"/>
            <a:ext cx="1355040" cy="60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aute vites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77320" y="3657600"/>
            <a:ext cx="1025640" cy="60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i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9360" y="3581280"/>
            <a:ext cx="888480" cy="6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15320" y="2971800"/>
            <a:ext cx="15228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2971800"/>
            <a:ext cx="1523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46400" y="3657600"/>
            <a:ext cx="1612440" cy="60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s de transi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22096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22096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22096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53280" y="22860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2362320"/>
            <a:ext cx="7632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19560" y="2362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095880" y="2362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95880" y="3200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019560" y="32004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7772040" y="32004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696080" y="3200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8880" y="4724280"/>
            <a:ext cx="50691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+ et D- : niveaux 3.3V  LV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w Spe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état Repos inversé, fronts lents (&gt;75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9840" y="2743200"/>
            <a:ext cx="839160" cy="63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2209680"/>
            <a:ext cx="152280" cy="2057400"/>
          </a:xfrm>
          <a:custGeom>
            <a:avLst/>
            <a:gdLst/>
            <a:ahLst/>
            <a:rect l="l" t="t" r="r" b="b"/>
            <a:pathLst>
              <a:path w="96" h="1296">
                <a:moveTo>
                  <a:pt x="96" y="0"/>
                </a:moveTo>
                <a:lnTo>
                  <a:pt x="0" y="48"/>
                </a:lnTo>
                <a:lnTo>
                  <a:pt x="0" y="1248"/>
                </a:lnTo>
                <a:lnTo>
                  <a:pt x="48" y="12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0" name=""/>
          <p:cNvSpPr/>
          <p:nvPr/>
        </p:nvSpPr>
        <p:spPr>
          <a:xfrm>
            <a:off x="8077320" y="4114800"/>
            <a:ext cx="914400" cy="99072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990720"/>
              <a:gd name="textAreaBottom" fmla="*/ 959760 h 990720"/>
            </a:gdLst>
            <a:ahLst/>
            <a:rect l="textAreaLeft" t="textAreaTop" r="textAreaRight" b="textAreaBottom"/>
            <a:pathLst>
              <a:path w="21600" h="23402">
                <a:moveTo>
                  <a:pt x="2520" y="0"/>
                </a:moveTo>
                <a:arcTo wR="2520" hR="2520" stAng="16200000" swAng="-5400000"/>
                <a:lnTo>
                  <a:pt x="0" y="20882"/>
                </a:lnTo>
                <a:arcTo wR="2520" hR="2520" stAng="10800000" swAng="-5400000"/>
                <a:lnTo>
                  <a:pt x="19080" y="23402"/>
                </a:lnTo>
                <a:arcTo wR="2520" hR="2520" stAng="5400000" swAng="-5400000"/>
                <a:lnTo>
                  <a:pt x="21600" y="2520"/>
                </a:lnTo>
                <a:arcTo wR="2520" hR="2520" stAng="0" swAng="-5400000"/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8077320" y="2362320"/>
            <a:ext cx="914400" cy="99036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990360"/>
              <a:gd name="textAreaBottom" fmla="*/ 959400 h 990360"/>
            </a:gdLst>
            <a:ahLst/>
            <a:rect l="textAreaLeft" t="textAreaTop" r="textAreaRight" b="textAreaBottom"/>
            <a:pathLst>
              <a:path w="21600" h="23394">
                <a:moveTo>
                  <a:pt x="2520" y="0"/>
                </a:moveTo>
                <a:arcTo wR="2520" hR="2520" stAng="16200000" swAng="-5400000"/>
                <a:lnTo>
                  <a:pt x="0" y="20874"/>
                </a:lnTo>
                <a:arcTo wR="2520" hR="2520" stAng="10800000" swAng="-5400000"/>
                <a:lnTo>
                  <a:pt x="19080" y="23394"/>
                </a:lnTo>
                <a:arcTo wR="2520" hR="2520" stAng="5400000" swAng="-5400000"/>
                <a:lnTo>
                  <a:pt x="21600" y="2520"/>
                </a:lnTo>
                <a:arcTo wR="2520" hR="2520" stAng="0" swAng="-5400000"/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6934320" y="3048120"/>
            <a:ext cx="761760" cy="1218960"/>
          </a:xfrm>
          <a:custGeom>
            <a:avLst/>
            <a:gdLst>
              <a:gd name="textAreaLeft" fmla="*/ 25920 w 761760"/>
              <a:gd name="textAreaRight" fmla="*/ 735840 w 761760"/>
              <a:gd name="textAreaTop" fmla="*/ 25920 h 1218960"/>
              <a:gd name="textAreaBottom" fmla="*/ 1193040 h 1218960"/>
            </a:gdLst>
            <a:ahLst/>
            <a:rect l="textAreaLeft" t="textAreaTop" r="textAreaRight" b="textAreaBottom"/>
            <a:pathLst>
              <a:path w="21600" h="34558">
                <a:moveTo>
                  <a:pt x="2520" y="0"/>
                </a:moveTo>
                <a:arcTo wR="2520" hR="2520" stAng="16200000" swAng="-5400000"/>
                <a:lnTo>
                  <a:pt x="0" y="32038"/>
                </a:lnTo>
                <a:arcTo wR="2520" hR="2520" stAng="10800000" swAng="-5400000"/>
                <a:lnTo>
                  <a:pt x="19080" y="34558"/>
                </a:lnTo>
                <a:arcTo wR="2520" hR="2520" stAng="5400000" swAng="-5400000"/>
                <a:lnTo>
                  <a:pt x="21600" y="2520"/>
                </a:lnTo>
                <a:arcTo wR="2520" hR="2520" stAng="0" swAng="-5400000"/>
                <a:close/>
              </a:path>
            </a:pathLst>
          </a:custGeom>
          <a:solidFill>
            <a:srgbClr val="ffce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Composants d'interfac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15" name=""/>
          <p:cNvSpPr/>
          <p:nvPr/>
        </p:nvSpPr>
        <p:spPr>
          <a:xfrm>
            <a:off x="228600" y="1981080"/>
            <a:ext cx="6019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lisent les traitements 'imm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ats' du protocole USB, g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alement regroup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 sous l'appellation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SIE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(Serial Interface Engine)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ectrique et synchronisation, S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ialisation/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ialisation, 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dage d'adresse, Cont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ô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e/G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ation de CRC, Remplissage/Vidage des EndPoints FIFO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tilisent un processeur externe pour la gestion de plus haut niveau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quencement de l'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ation, exploitation des EndPoints FIFOs, encha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î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ement des transactions, gestion Suspend/Resum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antag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nservation du processeur principal de l'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aible c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û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 du compo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conv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ient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ration du traitement USB dans le processeur principal : implique une connaissance approfondie de l'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harge suppl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entaire pour le proce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nsommation de l'ensemble SIE+Processeur+m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oire+... : probl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è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e si application 'bus-powered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-110520" y="1295280"/>
            <a:ext cx="536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osants d'interface phys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>
            <a:off x="7010280" y="3276720"/>
            <a:ext cx="60984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63bc0"/>
                </a:solidFill>
                <a:latin typeface="Arial"/>
              </a:rPr>
              <a:t>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>
            <a:off x="7010280" y="3733920"/>
            <a:ext cx="6098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9" name=""/>
          <p:cNvSpPr/>
          <p:nvPr/>
        </p:nvSpPr>
        <p:spPr>
          <a:xfrm rot="5400000">
            <a:off x="6285960" y="3695400"/>
            <a:ext cx="3200400" cy="228600"/>
          </a:xfrm>
          <a:prstGeom prst="leftRightArrow">
            <a:avLst>
              <a:gd name="adj1" fmla="val 56944"/>
              <a:gd name="adj2" fmla="val 6313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6629400" y="33526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>
            <a:off x="7620120" y="388620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2" name=""/>
          <p:cNvSpPr/>
          <p:nvPr/>
        </p:nvSpPr>
        <p:spPr>
          <a:xfrm>
            <a:off x="7924680" y="2819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3" name=""/>
          <p:cNvSpPr/>
          <p:nvPr/>
        </p:nvSpPr>
        <p:spPr>
          <a:xfrm>
            <a:off x="7924680" y="457200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4" name=""/>
          <p:cNvSpPr/>
          <p:nvPr/>
        </p:nvSpPr>
        <p:spPr>
          <a:xfrm rot="16200000">
            <a:off x="7238880" y="3581280"/>
            <a:ext cx="152640" cy="15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5" name=""/>
          <p:cNvSpPr/>
          <p:nvPr/>
        </p:nvSpPr>
        <p:spPr>
          <a:xfrm>
            <a:off x="5987160" y="3124080"/>
            <a:ext cx="1181520" cy="25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6" name=""/>
          <p:cNvSpPr/>
          <p:nvPr/>
        </p:nvSpPr>
        <p:spPr>
          <a:xfrm>
            <a:off x="6934320" y="3048120"/>
            <a:ext cx="1676160" cy="1600200"/>
          </a:xfrm>
          <a:prstGeom prst="roundRect">
            <a:avLst>
              <a:gd name="adj" fmla="val 11667"/>
            </a:avLst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Composants d'interfac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29" name=""/>
          <p:cNvSpPr/>
          <p:nvPr/>
        </p:nvSpPr>
        <p:spPr>
          <a:xfrm>
            <a:off x="228600" y="2057400"/>
            <a:ext cx="6019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lisent tous les traitements du protocole USB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IE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ation, exploitation des EndPoints FIFOs, encha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î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ement des transactions, gestion Suspend/Resum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antag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nfinement du traitement USB dans le microcont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ô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nvironnement de 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loppement complet et adap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mplacement possible du processeur 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xtension des possibili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 du processeur 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conv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ient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crocont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ô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eur impos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nvironnement de 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loppement suppl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entaire (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ntuell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0" name=""/>
          <p:cNvSpPr/>
          <p:nvPr/>
        </p:nvSpPr>
        <p:spPr>
          <a:xfrm>
            <a:off x="-112680" y="1371600"/>
            <a:ext cx="38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cont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urs U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>
            <a:off x="7010280" y="3276720"/>
            <a:ext cx="60984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7010280" y="3733920"/>
            <a:ext cx="6098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6629400" y="33526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 rot="16200000">
            <a:off x="7238880" y="3581280"/>
            <a:ext cx="152640" cy="15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5980680" y="3124080"/>
            <a:ext cx="11815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>
            <a:off x="7924680" y="3276720"/>
            <a:ext cx="60984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7924680" y="3733920"/>
            <a:ext cx="6098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r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7696080" y="3124080"/>
            <a:ext cx="152640" cy="1067040"/>
          </a:xfrm>
          <a:prstGeom prst="upDownArrow">
            <a:avLst>
              <a:gd name="adj1" fmla="val 56250"/>
              <a:gd name="adj2" fmla="val 49516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7772400" y="3352680"/>
            <a:ext cx="152280" cy="15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>
            <a:off x="7772400" y="3809880"/>
            <a:ext cx="152280" cy="15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>
            <a:off x="7620120" y="3886200"/>
            <a:ext cx="152280" cy="1522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7467480" y="4191120"/>
            <a:ext cx="60984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>
            <a:off x="7620120" y="4495680"/>
            <a:ext cx="304560" cy="304920"/>
          </a:xfrm>
          <a:prstGeom prst="upDownArrow">
            <a:avLst>
              <a:gd name="adj1" fmla="val 50000"/>
              <a:gd name="adj2" fmla="val 19931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46" name=""/>
          <p:cNvSpPr/>
          <p:nvPr/>
        </p:nvSpPr>
        <p:spPr>
          <a:xfrm>
            <a:off x="22860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'USB apporte une grande simplification du matér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s de cartes 'add-on', interface par composants spécialisé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' USB est une interface écono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u de circuits, composants d'interface faible c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, alimentation externe op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'USB apporte une grande simplicité d'uti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nectique unique,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nexion/d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nexion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à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volont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Plug &amp; Play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 part de la complexité est reportée au niveau de la procédure d'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ut 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p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que  USB 1.1 (Low Speed ou Full Speed) fonctionne sans modification dans un environnement USB 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 notion de classe favorise le développement de périphériques appartenant aux classes supportées, mais limite le développement de périphérique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ifiques ou particu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ertains fabricants proposent des drivers USB 'general purpos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e deuxième accélération de l'USB est imminente avec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 support de multiples systèmes d'explo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'introduction de la version 2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7" name=""/>
          <p:cNvGrpSpPr/>
          <p:nvPr/>
        </p:nvGrpSpPr>
        <p:grpSpPr>
          <a:xfrm>
            <a:off x="1828800" y="5867280"/>
            <a:ext cx="380880" cy="381240"/>
            <a:chOff x="1828800" y="5867280"/>
            <a:chExt cx="380880" cy="381240"/>
          </a:xfrm>
        </p:grpSpPr>
        <p:sp>
          <p:nvSpPr>
            <p:cNvPr id="6548" name=""/>
            <p:cNvSpPr/>
            <p:nvPr/>
          </p:nvSpPr>
          <p:spPr>
            <a:xfrm>
              <a:off x="1828800" y="5867280"/>
              <a:ext cx="380880" cy="3812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1905120" y="5943600"/>
              <a:ext cx="75960" cy="7632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057400" y="5943600"/>
              <a:ext cx="76320" cy="7632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 rot="5400000">
              <a:off x="1906920" y="5983200"/>
              <a:ext cx="148320" cy="22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17" y="24"/>
                  </a:moveTo>
                  <a:arcTo wR="10800" hR="10800" stAng="-5171486" swAng="5171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17" y="24"/>
                  </a:moveTo>
                  <a:arcTo wR="10800" hR="10800" stAng="-5171486" swAng="5171486"/>
                </a:path>
              </a:pathLst>
            </a:cu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 flipH="1" rot="16200000">
              <a:off x="1943280" y="5982120"/>
              <a:ext cx="1490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3" name=""/>
          <p:cNvGrpSpPr/>
          <p:nvPr/>
        </p:nvGrpSpPr>
        <p:grpSpPr>
          <a:xfrm>
            <a:off x="2514600" y="3962520"/>
            <a:ext cx="2133720" cy="1676160"/>
            <a:chOff x="2514600" y="3962520"/>
            <a:chExt cx="2133720" cy="1676160"/>
          </a:xfrm>
        </p:grpSpPr>
        <p:sp>
          <p:nvSpPr>
            <p:cNvPr id="6554" name=""/>
            <p:cNvSpPr/>
            <p:nvPr/>
          </p:nvSpPr>
          <p:spPr>
            <a:xfrm>
              <a:off x="2514600" y="3962520"/>
              <a:ext cx="2133720" cy="1676160"/>
            </a:xfrm>
            <a:prstGeom prst="wedgeRoundRectCallout">
              <a:avLst>
                <a:gd name="adj1" fmla="val -58037"/>
                <a:gd name="adj2" fmla="val 63162"/>
                <a:gd name="adj3" fmla="val 16667"/>
              </a:avLst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 txBox="1"/>
            <p:nvPr/>
          </p:nvSpPr>
          <p:spPr>
            <a:xfrm>
              <a:off x="2971800" y="4191120"/>
              <a:ext cx="1295280" cy="1288800"/>
            </a:xfrm>
            <a:prstGeom prst="rect">
              <a:avLst/>
            </a:prstGeom>
          </p:spPr>
          <p:txBody>
            <a:bodyPr wrap="none" lIns="90360" rIns="90360" tIns="44280" bIns="4428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C'est fini.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Merci.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556" name=""/>
          <p:cNvSpPr/>
          <p:nvPr/>
        </p:nvSpPr>
        <p:spPr>
          <a:xfrm>
            <a:off x="1752480" y="6095880"/>
            <a:ext cx="533520" cy="304920"/>
          </a:xfrm>
          <a:prstGeom prst="rect">
            <a:avLst/>
          </a:prstGeom>
          <a:solidFill>
            <a:srgbClr val="def3f8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311040" y="6095880"/>
            <a:ext cx="82933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8" name=""/>
          <p:cNvGrpSpPr/>
          <p:nvPr/>
        </p:nvGrpSpPr>
        <p:grpSpPr>
          <a:xfrm>
            <a:off x="1447920" y="6019920"/>
            <a:ext cx="380880" cy="152280"/>
            <a:chOff x="1447920" y="6019920"/>
            <a:chExt cx="380880" cy="152280"/>
          </a:xfrm>
        </p:grpSpPr>
        <p:sp>
          <p:nvSpPr>
            <p:cNvPr id="6559" name=""/>
            <p:cNvSpPr/>
            <p:nvPr/>
          </p:nvSpPr>
          <p:spPr>
            <a:xfrm>
              <a:off x="175248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1676520" y="6019920"/>
              <a:ext cx="7596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1447920" y="6019920"/>
              <a:ext cx="7596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152388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160020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4" name=""/>
          <p:cNvGrpSpPr/>
          <p:nvPr/>
        </p:nvGrpSpPr>
        <p:grpSpPr>
          <a:xfrm>
            <a:off x="2209680" y="6019920"/>
            <a:ext cx="381240" cy="152280"/>
            <a:chOff x="2209680" y="6019920"/>
            <a:chExt cx="381240" cy="152280"/>
          </a:xfrm>
        </p:grpSpPr>
        <p:sp>
          <p:nvSpPr>
            <p:cNvPr id="6565" name=""/>
            <p:cNvSpPr/>
            <p:nvPr/>
          </p:nvSpPr>
          <p:spPr>
            <a:xfrm>
              <a:off x="220968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243828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251460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228600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2362320" y="6019920"/>
              <a:ext cx="7596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2057400" y="2057400"/>
            <a:ext cx="6705720" cy="3581280"/>
            <a:chOff x="2057400" y="2057400"/>
            <a:chExt cx="6705720" cy="3581280"/>
          </a:xfrm>
        </p:grpSpPr>
        <p:sp>
          <p:nvSpPr>
            <p:cNvPr id="360" name=""/>
            <p:cNvSpPr/>
            <p:nvPr/>
          </p:nvSpPr>
          <p:spPr>
            <a:xfrm>
              <a:off x="5410080" y="380988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920" y="5029200"/>
              <a:ext cx="121896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7400" y="502920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00600" y="502920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ic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48720" y="502920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ou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29000" y="502920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43600" y="3657600"/>
              <a:ext cx="15228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53080" y="4876920"/>
              <a:ext cx="15264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91520" y="3657600"/>
              <a:ext cx="15228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14600" y="4876920"/>
              <a:ext cx="15228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2819520"/>
              <a:ext cx="91440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oot 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81480" y="4876920"/>
              <a:ext cx="15264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29600" y="4876920"/>
              <a:ext cx="15228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6200" y="4876920"/>
              <a:ext cx="15228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81680" y="2514600"/>
              <a:ext cx="1800" cy="30492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9920" y="3429000"/>
              <a:ext cx="53316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0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34290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57800" y="441972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288"/>
                  </a:moveTo>
                  <a:lnTo>
                    <a:pt x="0" y="240"/>
                  </a:lnTo>
                  <a:lnTo>
                    <a:pt x="576" y="240"/>
                  </a:lnTo>
                  <a:lnTo>
                    <a:pt x="576" y="0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62520" y="4419720"/>
              <a:ext cx="1904760" cy="45720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288"/>
                  </a:moveTo>
                  <a:lnTo>
                    <a:pt x="0" y="144"/>
                  </a:lnTo>
                  <a:lnTo>
                    <a:pt x="1200" y="144"/>
                  </a:lnTo>
                  <a:lnTo>
                    <a:pt x="1200" y="0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90920" y="4419720"/>
              <a:ext cx="2971800" cy="457200"/>
            </a:xfrm>
            <a:custGeom>
              <a:avLst/>
              <a:gdLst/>
              <a:ahLst/>
              <a:rect l="l" t="t" r="r" b="b"/>
              <a:pathLst>
                <a:path w="1872" h="288">
                  <a:moveTo>
                    <a:pt x="1872" y="0"/>
                  </a:moveTo>
                  <a:lnTo>
                    <a:pt x="1872" y="48"/>
                  </a:lnTo>
                  <a:lnTo>
                    <a:pt x="0" y="48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77120" y="441972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lnTo>
                    <a:pt x="0" y="144"/>
                  </a:lnTo>
                  <a:lnTo>
                    <a:pt x="96" y="144"/>
                  </a:lnTo>
                  <a:lnTo>
                    <a:pt x="96" y="288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48720" y="44197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28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95880" y="2057400"/>
              <a:ext cx="137160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77120" y="32767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34320" y="32767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00800" y="54864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54864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05720" y="54864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10280" y="54864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42670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5880" y="4267080"/>
              <a:ext cx="15264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91320" y="42670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86400" y="42670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34320" y="380988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10280" y="4267080"/>
              <a:ext cx="15264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91520" y="42670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0080" y="380988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34320" y="380988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10080" y="3809880"/>
              <a:ext cx="1219320" cy="4572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oniteu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34320" y="3809880"/>
              <a:ext cx="1066680" cy="4572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avie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91320" y="3505320"/>
              <a:ext cx="1981080" cy="0"/>
            </a:xfrm>
            <a:prstGeom prst="line">
              <a:avLst/>
            </a:prstGeom>
            <a:ln w="1260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791320" y="2057400"/>
              <a:ext cx="0" cy="1447920"/>
            </a:xfrm>
            <a:prstGeom prst="line">
              <a:avLst/>
            </a:prstGeom>
            <a:ln w="1260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772400" y="2057400"/>
              <a:ext cx="0" cy="1447920"/>
            </a:xfrm>
            <a:prstGeom prst="line">
              <a:avLst/>
            </a:prstGeom>
            <a:ln w="1260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81680" y="2514600"/>
              <a:ext cx="1800" cy="30492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295280"/>
            <a:ext cx="518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9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transactions Full Speed ne parcourent pas les terminaisons Low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880" y="2057400"/>
            <a:ext cx="5181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9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transactions Low Speed sont p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 d'un p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bule particulier pour 'ouvrir' les terminaisons Low Speed, qui se referment ensuite automatiqu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590920" y="2514600"/>
            <a:ext cx="5257800" cy="2514600"/>
            <a:chOff x="2590920" y="2514600"/>
            <a:chExt cx="5257800" cy="2514600"/>
          </a:xfrm>
        </p:grpSpPr>
        <p:grpSp>
          <p:nvGrpSpPr>
            <p:cNvPr id="409" name=""/>
            <p:cNvGrpSpPr/>
            <p:nvPr/>
          </p:nvGrpSpPr>
          <p:grpSpPr>
            <a:xfrm>
              <a:off x="2590920" y="2514600"/>
              <a:ext cx="4876560" cy="2514600"/>
              <a:chOff x="2590920" y="2514600"/>
              <a:chExt cx="4876560" cy="2514600"/>
            </a:xfrm>
          </p:grpSpPr>
          <p:sp>
            <p:nvSpPr>
              <p:cNvPr id="410" name=""/>
              <p:cNvSpPr/>
              <p:nvPr/>
            </p:nvSpPr>
            <p:spPr>
              <a:xfrm>
                <a:off x="6781680" y="2514600"/>
                <a:ext cx="180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10280" y="3276720"/>
                <a:ext cx="457200" cy="53316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0" y="0"/>
                    </a:moveTo>
                    <a:lnTo>
                      <a:pt x="0" y="192"/>
                    </a:lnTo>
                    <a:lnTo>
                      <a:pt x="288" y="192"/>
                    </a:lnTo>
                    <a:lnTo>
                      <a:pt x="288" y="33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19920" y="327672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336" y="0"/>
                    </a:moveTo>
                    <a:lnTo>
                      <a:pt x="336" y="192"/>
                    </a:lnTo>
                    <a:lnTo>
                      <a:pt x="0" y="192"/>
                    </a:lnTo>
                    <a:lnTo>
                      <a:pt x="0" y="33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590920" y="4267080"/>
                <a:ext cx="2971800" cy="762120"/>
              </a:xfrm>
              <a:custGeom>
                <a:avLst/>
                <a:gdLst/>
                <a:ahLst/>
                <a:rect l="l" t="t" r="r" b="b"/>
                <a:pathLst>
                  <a:path w="1872" h="480">
                    <a:moveTo>
                      <a:pt x="1872" y="0"/>
                    </a:moveTo>
                    <a:lnTo>
                      <a:pt x="1872" y="144"/>
                    </a:lnTo>
                    <a:lnTo>
                      <a:pt x="0" y="144"/>
                    </a:lnTo>
                    <a:lnTo>
                      <a:pt x="0" y="48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62520" y="4267080"/>
                <a:ext cx="1904760" cy="762120"/>
              </a:xfrm>
              <a:custGeom>
                <a:avLst/>
                <a:gdLst/>
                <a:ahLst/>
                <a:rect l="l" t="t" r="r" b="b"/>
                <a:pathLst>
                  <a:path w="1200" h="480">
                    <a:moveTo>
                      <a:pt x="1200" y="0"/>
                    </a:moveTo>
                    <a:lnTo>
                      <a:pt x="1200" y="240"/>
                    </a:lnTo>
                    <a:lnTo>
                      <a:pt x="0" y="240"/>
                    </a:lnTo>
                    <a:lnTo>
                      <a:pt x="0" y="48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57800" y="4267080"/>
                <a:ext cx="914400" cy="762120"/>
              </a:xfrm>
              <a:custGeom>
                <a:avLst/>
                <a:gdLst/>
                <a:ahLst/>
                <a:rect l="l" t="t" r="r" b="b"/>
                <a:pathLst>
                  <a:path w="576" h="480">
                    <a:moveTo>
                      <a:pt x="576" y="0"/>
                    </a:moveTo>
                    <a:lnTo>
                      <a:pt x="576" y="336"/>
                    </a:lnTo>
                    <a:lnTo>
                      <a:pt x="0" y="336"/>
                    </a:lnTo>
                    <a:lnTo>
                      <a:pt x="0" y="48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77120" y="4267080"/>
                <a:ext cx="152280" cy="762120"/>
              </a:xfrm>
              <a:custGeom>
                <a:avLst/>
                <a:gdLst/>
                <a:ahLst/>
                <a:rect l="l" t="t" r="r" b="b"/>
                <a:pathLst>
                  <a:path w="96" h="480">
                    <a:moveTo>
                      <a:pt x="0" y="0"/>
                    </a:moveTo>
                    <a:lnTo>
                      <a:pt x="0" y="240"/>
                    </a:lnTo>
                    <a:lnTo>
                      <a:pt x="96" y="240"/>
                    </a:lnTo>
                    <a:lnTo>
                      <a:pt x="96" y="48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 flipH="1">
              <a:off x="5562720" y="380988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867280" y="3809880"/>
              <a:ext cx="1526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3809880"/>
              <a:ext cx="15228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19920" y="380988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67480" y="3809880"/>
              <a:ext cx="3812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686720" y="4219560"/>
            <a:ext cx="304920" cy="0"/>
          </a:xfrm>
          <a:prstGeom prst="line">
            <a:avLst/>
          </a:prstGeom>
          <a:ln w="7632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686720" y="3943440"/>
            <a:ext cx="304920" cy="304560"/>
            <a:chOff x="7686720" y="3943440"/>
            <a:chExt cx="304920" cy="304560"/>
          </a:xfrm>
        </p:grpSpPr>
        <p:sp>
          <p:nvSpPr>
            <p:cNvPr id="424" name=""/>
            <p:cNvSpPr/>
            <p:nvPr/>
          </p:nvSpPr>
          <p:spPr>
            <a:xfrm>
              <a:off x="7686720" y="4219560"/>
              <a:ext cx="304920" cy="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3480" y="3943440"/>
              <a:ext cx="0" cy="304560"/>
            </a:xfrm>
            <a:prstGeom prst="line">
              <a:avLst/>
            </a:prstGeom>
            <a:ln w="7632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590920" y="2514600"/>
            <a:ext cx="5715000" cy="2514600"/>
            <a:chOff x="2590920" y="2514600"/>
            <a:chExt cx="5715000" cy="2514600"/>
          </a:xfrm>
        </p:grpSpPr>
        <p:sp>
          <p:nvSpPr>
            <p:cNvPr id="427" name=""/>
            <p:cNvSpPr/>
            <p:nvPr/>
          </p:nvSpPr>
          <p:spPr>
            <a:xfrm>
              <a:off x="6781680" y="2514600"/>
              <a:ext cx="180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10280" y="3276720"/>
              <a:ext cx="457200" cy="5331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lnTo>
                    <a:pt x="0" y="192"/>
                  </a:lnTo>
                  <a:lnTo>
                    <a:pt x="288" y="192"/>
                  </a:lnTo>
                  <a:lnTo>
                    <a:pt x="288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19920" y="327672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0"/>
                  </a:moveTo>
                  <a:lnTo>
                    <a:pt x="336" y="192"/>
                  </a:lnTo>
                  <a:lnTo>
                    <a:pt x="0" y="192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90920" y="4267080"/>
              <a:ext cx="2971800" cy="762120"/>
            </a:xfrm>
            <a:custGeom>
              <a:avLst/>
              <a:gdLst/>
              <a:ahLst/>
              <a:rect l="l" t="t" r="r" b="b"/>
              <a:pathLst>
                <a:path w="1872" h="480">
                  <a:moveTo>
                    <a:pt x="1872" y="0"/>
                  </a:moveTo>
                  <a:lnTo>
                    <a:pt x="1872" y="144"/>
                  </a:lnTo>
                  <a:lnTo>
                    <a:pt x="0" y="144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62520" y="4267080"/>
              <a:ext cx="1904760" cy="762120"/>
            </a:xfrm>
            <a:custGeom>
              <a:avLst/>
              <a:gdLst/>
              <a:ahLst/>
              <a:rect l="l" t="t" r="r" b="b"/>
              <a:pathLst>
                <a:path w="1200" h="480">
                  <a:moveTo>
                    <a:pt x="1200" y="0"/>
                  </a:moveTo>
                  <a:lnTo>
                    <a:pt x="1200" y="240"/>
                  </a:lnTo>
                  <a:lnTo>
                    <a:pt x="0" y="240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57800" y="4267080"/>
              <a:ext cx="914400" cy="762120"/>
            </a:xfrm>
            <a:custGeom>
              <a:avLst/>
              <a:gdLst/>
              <a:ahLst/>
              <a:rect l="l" t="t" r="r" b="b"/>
              <a:pathLst>
                <a:path w="576" h="480">
                  <a:moveTo>
                    <a:pt x="576" y="0"/>
                  </a:moveTo>
                  <a:lnTo>
                    <a:pt x="576" y="336"/>
                  </a:lnTo>
                  <a:lnTo>
                    <a:pt x="0" y="336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7120" y="4267080"/>
              <a:ext cx="152280" cy="76212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0" y="0"/>
                  </a:moveTo>
                  <a:lnTo>
                    <a:pt x="0" y="240"/>
                  </a:lnTo>
                  <a:lnTo>
                    <a:pt x="96" y="240"/>
                  </a:lnTo>
                  <a:lnTo>
                    <a:pt x="96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8720" y="4267080"/>
              <a:ext cx="457200" cy="76212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288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67480" y="3809880"/>
              <a:ext cx="3812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552720" y="2819520"/>
              <a:ext cx="2286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81680" y="2819520"/>
              <a:ext cx="2286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552720" y="2819520"/>
              <a:ext cx="2286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81680" y="2819520"/>
              <a:ext cx="2286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67480" y="3809880"/>
              <a:ext cx="3812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562720" y="380988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867280" y="3809880"/>
              <a:ext cx="1526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19920" y="3809880"/>
              <a:ext cx="15228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19920" y="380988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781320" y="2514240"/>
            <a:ext cx="1524600" cy="2514960"/>
            <a:chOff x="6781320" y="2514240"/>
            <a:chExt cx="1524600" cy="2514960"/>
          </a:xfrm>
        </p:grpSpPr>
        <p:sp>
          <p:nvSpPr>
            <p:cNvPr id="446" name=""/>
            <p:cNvSpPr/>
            <p:nvPr/>
          </p:nvSpPr>
          <p:spPr>
            <a:xfrm>
              <a:off x="7848720" y="4267080"/>
              <a:ext cx="457200" cy="76212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288" y="480"/>
                  </a:moveTo>
                  <a:lnTo>
                    <a:pt x="288" y="24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276720"/>
              <a:ext cx="457200" cy="5331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288" y="336"/>
                  </a:moveTo>
                  <a:lnTo>
                    <a:pt x="288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781680" y="2514240"/>
              <a:ext cx="180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7467120" y="3809880"/>
              <a:ext cx="3812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6781320" y="2819520"/>
              <a:ext cx="2286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686720" y="3943440"/>
            <a:ext cx="304920" cy="304560"/>
            <a:chOff x="7686720" y="3943440"/>
            <a:chExt cx="304920" cy="304560"/>
          </a:xfrm>
        </p:grpSpPr>
        <p:sp>
          <p:nvSpPr>
            <p:cNvPr id="452" name=""/>
            <p:cNvSpPr/>
            <p:nvPr/>
          </p:nvSpPr>
          <p:spPr>
            <a:xfrm>
              <a:off x="7953480" y="3943440"/>
              <a:ext cx="0" cy="3045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86720" y="4219560"/>
              <a:ext cx="304920" cy="0"/>
            </a:xfrm>
            <a:prstGeom prst="line">
              <a:avLst/>
            </a:prstGeom>
            <a:ln w="7632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590920" y="2514600"/>
            <a:ext cx="5257800" cy="2514600"/>
            <a:chOff x="2590920" y="2514600"/>
            <a:chExt cx="5257800" cy="2514600"/>
          </a:xfrm>
        </p:grpSpPr>
        <p:grpSp>
          <p:nvGrpSpPr>
            <p:cNvPr id="455" name=""/>
            <p:cNvGrpSpPr/>
            <p:nvPr/>
          </p:nvGrpSpPr>
          <p:grpSpPr>
            <a:xfrm>
              <a:off x="2590920" y="2514600"/>
              <a:ext cx="5257800" cy="2514600"/>
              <a:chOff x="2590920" y="2514600"/>
              <a:chExt cx="5257800" cy="25146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2590920" y="2514600"/>
                <a:ext cx="4876560" cy="2514600"/>
                <a:chOff x="2590920" y="2514600"/>
                <a:chExt cx="4876560" cy="25146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781680" y="2514600"/>
                  <a:ext cx="180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010280" y="3276720"/>
                  <a:ext cx="457200" cy="533160"/>
                </a:xfrm>
                <a:custGeom>
                  <a:avLst/>
                  <a:gdLst/>
                  <a:ahLst/>
                  <a:rect l="l" t="t" r="r" b="b"/>
                  <a:pathLst>
                    <a:path w="288" h="336">
                      <a:moveTo>
                        <a:pt x="0" y="0"/>
                      </a:moveTo>
                      <a:lnTo>
                        <a:pt x="0" y="192"/>
                      </a:lnTo>
                      <a:lnTo>
                        <a:pt x="288" y="192"/>
                      </a:lnTo>
                      <a:lnTo>
                        <a:pt x="288" y="336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19920" y="3276720"/>
                  <a:ext cx="533160" cy="5331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336" y="0"/>
                      </a:moveTo>
                      <a:lnTo>
                        <a:pt x="336" y="192"/>
                      </a:lnTo>
                      <a:lnTo>
                        <a:pt x="0" y="192"/>
                      </a:lnTo>
                      <a:lnTo>
                        <a:pt x="0" y="336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590920" y="4267080"/>
                  <a:ext cx="2971800" cy="762120"/>
                </a:xfrm>
                <a:custGeom>
                  <a:avLst/>
                  <a:gdLst/>
                  <a:ahLst/>
                  <a:rect l="l" t="t" r="r" b="b"/>
                  <a:pathLst>
                    <a:path w="1872" h="480">
                      <a:moveTo>
                        <a:pt x="1872" y="0"/>
                      </a:moveTo>
                      <a:lnTo>
                        <a:pt x="1872" y="144"/>
                      </a:lnTo>
                      <a:lnTo>
                        <a:pt x="0" y="144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962520" y="4267080"/>
                  <a:ext cx="1904760" cy="762120"/>
                </a:xfrm>
                <a:custGeom>
                  <a:avLst/>
                  <a:gdLst/>
                  <a:ahLst/>
                  <a:rect l="l" t="t" r="r" b="b"/>
                  <a:pathLst>
                    <a:path w="1200" h="480">
                      <a:moveTo>
                        <a:pt x="1200" y="0"/>
                      </a:moveTo>
                      <a:lnTo>
                        <a:pt x="1200" y="240"/>
                      </a:lnTo>
                      <a:lnTo>
                        <a:pt x="0" y="24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57800" y="4267080"/>
                  <a:ext cx="914400" cy="762120"/>
                </a:xfrm>
                <a:custGeom>
                  <a:avLst/>
                  <a:gdLst/>
                  <a:ahLst/>
                  <a:rect l="l" t="t" r="r" b="b"/>
                  <a:pathLst>
                    <a:path w="576" h="480">
                      <a:moveTo>
                        <a:pt x="576" y="0"/>
                      </a:moveTo>
                      <a:lnTo>
                        <a:pt x="576" y="336"/>
                      </a:lnTo>
                      <a:lnTo>
                        <a:pt x="0" y="336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477120" y="4267080"/>
                  <a:ext cx="152280" cy="762120"/>
                </a:xfrm>
                <a:custGeom>
                  <a:avLst/>
                  <a:gdLst/>
                  <a:ahLst/>
                  <a:rect l="l" t="t" r="r" b="b"/>
                  <a:pathLst>
                    <a:path w="96" h="480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96" y="240"/>
                      </a:lnTo>
                      <a:lnTo>
                        <a:pt x="96" y="48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 flipH="1">
                <a:off x="5562720" y="3809880"/>
                <a:ext cx="45720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867280" y="3809880"/>
                <a:ext cx="15264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19920" y="3809880"/>
                <a:ext cx="15228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019920" y="3809880"/>
                <a:ext cx="45720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467480" y="3809880"/>
                <a:ext cx="38124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7287480" y="4062240"/>
              <a:ext cx="4399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Spe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périphériques l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s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ques lents sont lim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nger au maximum 8 octets toutes les 10ms, ce qui correspond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un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t maximum d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0 oct/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(so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400 bp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 certains moyens detou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 il est possible d'es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r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teindre 8 Koct/s (64 Kbps), sans garan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pic>
        <p:nvPicPr>
          <p:cNvPr id="472" name="turtle" descr=""/>
          <p:cNvPicPr/>
          <p:nvPr/>
        </p:nvPicPr>
        <p:blipFill>
          <a:blip r:embed="rId1"/>
          <a:stretch/>
        </p:blipFill>
        <p:spPr>
          <a:xfrm>
            <a:off x="9144000" y="3581280"/>
            <a:ext cx="1665360" cy="885960"/>
          </a:xfrm>
          <a:prstGeom prst="rect">
            <a:avLst/>
          </a:prstGeom>
          <a:ln w="0">
            <a:noFill/>
          </a:ln>
        </p:spPr>
      </p:pic>
      <p:pic>
        <p:nvPicPr>
          <p:cNvPr id="473" name="car" descr=""/>
          <p:cNvPicPr/>
          <p:nvPr/>
        </p:nvPicPr>
        <p:blipFill>
          <a:blip r:embed="rId2"/>
          <a:stretch/>
        </p:blipFill>
        <p:spPr>
          <a:xfrm>
            <a:off x="9144000" y="5410080"/>
            <a:ext cx="3121200" cy="814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33520" y="14479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ention, l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t n'est pas proportionne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 vitesse 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43434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ll Speed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M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Hubs et périphériques non l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s 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ques peuv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r jusqu'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1024 octets toutes les 1 ms, soit un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t d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 Moc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Longueur maximum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9120" y="1327680"/>
            <a:ext cx="8612640" cy="15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longueur maximum développée est définie par les temps de propagation et de répons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gment de câble  : 30ns ;  Hub : 4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de réponse maximum de la fonction adressée : ~60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temps de réponse total doit être inférieur à 1300ns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ongueur maximum thérorique = 25 à 3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3123000"/>
            <a:ext cx="7696080" cy="2059560"/>
            <a:chOff x="685800" y="3123000"/>
            <a:chExt cx="7696080" cy="2059560"/>
          </a:xfrm>
        </p:grpSpPr>
        <p:sp>
          <p:nvSpPr>
            <p:cNvPr id="479" name=""/>
            <p:cNvSpPr/>
            <p:nvPr/>
          </p:nvSpPr>
          <p:spPr>
            <a:xfrm>
              <a:off x="1600200" y="4343400"/>
              <a:ext cx="58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5800" y="4038480"/>
              <a:ext cx="914400" cy="60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81080" y="4191120"/>
              <a:ext cx="609840" cy="3045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71800" y="4191120"/>
              <a:ext cx="609480" cy="3045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2520" y="4191120"/>
              <a:ext cx="609480" cy="3045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52880" y="4191120"/>
              <a:ext cx="609840" cy="3045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4191120"/>
              <a:ext cx="609480" cy="3045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0200" y="3886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981080" y="38862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590560" y="388620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3581280" y="38862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4572000" y="38862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562360" y="388620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3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596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1808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7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3248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7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57000" y="3123000"/>
              <a:ext cx="223524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1300 ns max (aller-retou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876920"/>
              <a:ext cx="49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429000"/>
              <a:ext cx="624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1600200" y="335232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848720" y="33526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67480" y="4114800"/>
              <a:ext cx="9144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Fo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ress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8108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9092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8128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53080" y="38098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6272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7200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8988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7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9916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7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01680" y="4875480"/>
              <a:ext cx="213588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700 ns max (aller-retou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52280" y="5410800"/>
            <a:ext cx="853452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tention, la mise en cascade de plusieurs Hubs s'accompagne de contraintes d'alimentation et de consom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'une manière générale l'USB n'est ni un bus de terrain ni un bu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7520" y="26305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1a98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14600" y="2286000"/>
            <a:ext cx="54100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2107800"/>
            <a:ext cx="708012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tection automatique de vites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xion/déconnexion en fonctionnem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naissance automatiqu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51920" y="1523520"/>
            <a:ext cx="858204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Speed / Full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signalisation côté périphérique par résistance de tirage, détection par le Hub amont lors de la connexion/déconnex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09480" y="2590920"/>
          <a:ext cx="5489640" cy="186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548964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6470280" y="2590920"/>
            <a:ext cx="170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irage 3.3V sur D-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94320" y="4572000"/>
            <a:ext cx="174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irage 3.3V sur D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480" y="4572000"/>
            <a:ext cx="5489640" cy="2082960"/>
            <a:chOff x="609480" y="4572000"/>
            <a:chExt cx="5489640" cy="2082960"/>
          </a:xfrm>
        </p:grpSpPr>
        <p:sp>
          <p:nvSpPr>
            <p:cNvPr id="528" name=""/>
            <p:cNvSpPr/>
            <p:nvPr/>
          </p:nvSpPr>
          <p:spPr>
            <a:xfrm>
              <a:off x="968040" y="619776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9480" y="4572000"/>
              <a:ext cx="5489640" cy="18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480" y="4572000"/>
              <a:ext cx="5476680" cy="1855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57040" y="4651560"/>
              <a:ext cx="1600200" cy="150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3480" y="4924440"/>
              <a:ext cx="871560" cy="73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19400" y="5075280"/>
              <a:ext cx="80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.S./L.S.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69080" y="522756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ansce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344680" y="5469120"/>
              <a:ext cx="93600" cy="365040"/>
              <a:chOff x="2344680" y="5469120"/>
              <a:chExt cx="93600" cy="365040"/>
            </a:xfrm>
          </p:grpSpPr>
          <p:sp>
            <p:nvSpPr>
              <p:cNvPr id="536" name=""/>
              <p:cNvSpPr/>
              <p:nvPr/>
            </p:nvSpPr>
            <p:spPr>
              <a:xfrm>
                <a:off x="2344680" y="5560920"/>
                <a:ext cx="93600" cy="18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88960" y="5469120"/>
                <a:ext cx="144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388960" y="5742000"/>
                <a:ext cx="1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2161800" y="5105520"/>
              <a:ext cx="730440" cy="136440"/>
            </a:xfrm>
            <a:custGeom>
              <a:avLst/>
              <a:gdLst/>
              <a:ahLst/>
              <a:rect l="l" t="t" r="r" b="b"/>
              <a:pathLst>
                <a:path w="460" h="86">
                  <a:moveTo>
                    <a:pt x="0" y="0"/>
                  </a:moveTo>
                  <a:lnTo>
                    <a:pt x="316" y="0"/>
                  </a:lnTo>
                  <a:lnTo>
                    <a:pt x="316" y="86"/>
                  </a:lnTo>
                  <a:lnTo>
                    <a:pt x="460" y="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61800" y="5332320"/>
              <a:ext cx="730440" cy="136800"/>
            </a:xfrm>
            <a:custGeom>
              <a:avLst/>
              <a:gdLst/>
              <a:ahLst/>
              <a:rect l="l" t="t" r="r" b="b"/>
              <a:pathLst>
                <a:path w="460" h="86">
                  <a:moveTo>
                    <a:pt x="0" y="86"/>
                  </a:moveTo>
                  <a:lnTo>
                    <a:pt x="316" y="86"/>
                  </a:lnTo>
                  <a:lnTo>
                    <a:pt x="316" y="0"/>
                  </a:lnTo>
                  <a:lnTo>
                    <a:pt x="4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81120" y="5469120"/>
              <a:ext cx="9036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29" y="0"/>
                  </a:moveTo>
                  <a:lnTo>
                    <a:pt x="29" y="58"/>
                  </a:lnTo>
                  <a:lnTo>
                    <a:pt x="0" y="58"/>
                  </a:lnTo>
                  <a:lnTo>
                    <a:pt x="29" y="115"/>
                  </a:lnTo>
                  <a:lnTo>
                    <a:pt x="57" y="58"/>
                  </a:lnTo>
                  <a:lnTo>
                    <a:pt x="29" y="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44680" y="5834160"/>
              <a:ext cx="90360" cy="18108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28" y="0"/>
                  </a:moveTo>
                  <a:lnTo>
                    <a:pt x="28" y="57"/>
                  </a:lnTo>
                  <a:lnTo>
                    <a:pt x="0" y="57"/>
                  </a:lnTo>
                  <a:lnTo>
                    <a:pt x="28" y="114"/>
                  </a:lnTo>
                  <a:lnTo>
                    <a:pt x="57" y="57"/>
                  </a:lnTo>
                  <a:lnTo>
                    <a:pt x="28" y="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74560" y="5454720"/>
              <a:ext cx="3348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481120" y="5094360"/>
              <a:ext cx="93600" cy="374760"/>
              <a:chOff x="2481120" y="5094360"/>
              <a:chExt cx="93600" cy="374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481120" y="5105520"/>
                <a:ext cx="93600" cy="363600"/>
                <a:chOff x="2481120" y="5105520"/>
                <a:chExt cx="93600" cy="3636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481120" y="5195880"/>
                  <a:ext cx="93600" cy="18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527200" y="5105520"/>
                  <a:ext cx="144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527200" y="5378400"/>
                  <a:ext cx="144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2514240" y="5094360"/>
                <a:ext cx="30240" cy="33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1342800" y="5803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Host 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97080" y="59547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Hub 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24280" y="5211720"/>
              <a:ext cx="1058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Twisted Pair Shiel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2800080" y="5195880"/>
              <a:ext cx="1236240" cy="193320"/>
              <a:chOff x="2800080" y="5195880"/>
              <a:chExt cx="1236240" cy="193320"/>
            </a:xfrm>
          </p:grpSpPr>
          <p:sp>
            <p:nvSpPr>
              <p:cNvPr id="554" name=""/>
              <p:cNvSpPr/>
              <p:nvPr/>
            </p:nvSpPr>
            <p:spPr>
              <a:xfrm>
                <a:off x="2800080" y="5195880"/>
                <a:ext cx="95400" cy="185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3942000" y="5195880"/>
                <a:ext cx="94320" cy="193320"/>
                <a:chOff x="3942000" y="5195880"/>
                <a:chExt cx="94320" cy="19332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3942000" y="5197680"/>
                  <a:ext cx="94320" cy="183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615"/>
                      </a:moveTo>
                      <a:arcTo wR="10800" hR="10800" stAng="-58759" swAng="55742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615"/>
                      </a:moveTo>
                      <a:arcTo wR="10800" hR="10800" stAng="-58759" swAng="5574295"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942000" y="5195880"/>
                  <a:ext cx="94320" cy="19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43" y="6"/>
                      </a:moveTo>
                      <a:arcTo wR="10800" hR="10800" stAng="-5513611" swAng="5456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43" y="6"/>
                      </a:moveTo>
                      <a:arcTo wR="10800" hR="10800" stAng="-5513611" swAng="5456794"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846160" y="5195880"/>
                <a:ext cx="1141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846160" y="5378400"/>
                <a:ext cx="1141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2218680" y="5575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91760" y="562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15480" y="498492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28440" y="5348160"/>
              <a:ext cx="10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72600" y="5348160"/>
              <a:ext cx="10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72240" y="498492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55120" y="5211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8200" y="52610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78080" y="4651560"/>
              <a:ext cx="1463760" cy="150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71720" y="4924440"/>
              <a:ext cx="779400" cy="73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88000" y="507528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.S.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01240" y="522756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ansce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33800" y="5105520"/>
              <a:ext cx="637920" cy="136440"/>
            </a:xfrm>
            <a:custGeom>
              <a:avLst/>
              <a:gdLst/>
              <a:ahLst/>
              <a:rect l="l" t="t" r="r" b="b"/>
              <a:pathLst>
                <a:path w="402" h="86">
                  <a:moveTo>
                    <a:pt x="402" y="0"/>
                  </a:moveTo>
                  <a:lnTo>
                    <a:pt x="86" y="0"/>
                  </a:lnTo>
                  <a:lnTo>
                    <a:pt x="86" y="86"/>
                  </a:lnTo>
                  <a:lnTo>
                    <a:pt x="0" y="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33800" y="5332320"/>
              <a:ext cx="637920" cy="136800"/>
            </a:xfrm>
            <a:custGeom>
              <a:avLst/>
              <a:gdLst/>
              <a:ahLst/>
              <a:rect l="l" t="t" r="r" b="b"/>
              <a:pathLst>
                <a:path w="402" h="86">
                  <a:moveTo>
                    <a:pt x="402" y="86"/>
                  </a:moveTo>
                  <a:lnTo>
                    <a:pt x="86" y="86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4260600" y="4741560"/>
              <a:ext cx="95400" cy="379800"/>
              <a:chOff x="4260600" y="4741560"/>
              <a:chExt cx="95400" cy="37980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4260600" y="4741560"/>
                <a:ext cx="95400" cy="363960"/>
                <a:chOff x="4260600" y="4741560"/>
                <a:chExt cx="95400" cy="3639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4260600" y="4832280"/>
                  <a:ext cx="95400" cy="18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4306680" y="5014800"/>
                  <a:ext cx="144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V="1">
                  <a:off x="4306680" y="4741560"/>
                  <a:ext cx="144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4292280" y="5087880"/>
                <a:ext cx="30240" cy="33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4508640" y="566748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Hub Port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80800" y="581832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15600" y="5937120"/>
              <a:ext cx="121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ull Speed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85920" y="5438880"/>
              <a:ext cx="675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 Meters max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116880" y="55609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183840" y="56088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20920" y="5560920"/>
              <a:ext cx="17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=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7240" y="55548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57080" y="5554800"/>
              <a:ext cx="8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27280" y="5560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98240" y="5800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71320" y="5848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08040" y="58006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=15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49240" y="579456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87080" y="59212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60160" y="5970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96880" y="5921280"/>
              <a:ext cx="27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=1.5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3280" y="591516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65000" y="4848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38080" y="48960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260600" y="474192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3977640" y="2521080"/>
            <a:ext cx="25981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22" y="15"/>
                </a:moveTo>
                <a:arcTo wR="10800" hR="10800" stAng="-5583967" swAng="4235564"/>
                <a:lnTo>
                  <a:pt x="10800" y="10800"/>
                </a:lnTo>
                <a:close/>
              </a:path>
              <a:path fill="none" w="21600" h="21600">
                <a:moveTo>
                  <a:pt x="10222" y="15"/>
                </a:moveTo>
                <a:arcTo wR="10800" hR="10800" stAng="-5583967" swAng="4235564"/>
              </a:path>
            </a:pathLst>
          </a:cu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419720" y="2514600"/>
            <a:ext cx="1522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24800" y="4498920"/>
            <a:ext cx="2447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22" y="15"/>
                </a:moveTo>
                <a:arcTo wR="10800" hR="10800" stAng="-5583967" swAng="4398144"/>
                <a:lnTo>
                  <a:pt x="10800" y="10800"/>
                </a:lnTo>
                <a:close/>
              </a:path>
              <a:path fill="none" w="21600" h="21600">
                <a:moveTo>
                  <a:pt x="10222" y="15"/>
                </a:moveTo>
                <a:arcTo wR="10800" hR="10800" stAng="-5583967" swAng="4398144"/>
              </a:path>
            </a:pathLst>
          </a:cu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398840" y="4494240"/>
            <a:ext cx="15235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30592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tection automatique de connexion/déconnexion (par le Hu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connexio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3581280"/>
            <a:ext cx="59436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3880" y="2590920"/>
            <a:ext cx="59436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380988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9680" y="2590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10080" y="2590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76720" y="2590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4520" y="2666520"/>
            <a:ext cx="79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h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15240" y="2895120"/>
            <a:ext cx="79020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se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5240" y="3199680"/>
            <a:ext cx="83304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se(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240" y="3428280"/>
            <a:ext cx="79020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l(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358128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23880" y="28195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23880" y="30481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23880" y="335268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48840" y="266652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.8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548840" y="289512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.0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548840" y="319968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.8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48840" y="342828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.3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2209680" y="1751760"/>
            <a:ext cx="100576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5248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39625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43520" y="3961800"/>
            <a:ext cx="64404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gt;2.5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00200" y="5867280"/>
            <a:ext cx="59436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00200" y="4876920"/>
            <a:ext cx="59436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609588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0" y="4876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4876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4876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90840" y="4952520"/>
            <a:ext cx="79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h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1560" y="5181120"/>
            <a:ext cx="79020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se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91560" y="5485680"/>
            <a:ext cx="83304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se(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1560" y="5714280"/>
            <a:ext cx="79020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l(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586728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0200" y="51055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00200" y="53341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563868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25160" y="495252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.8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25160" y="518112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.0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5160" y="548568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.8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5160" y="571428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.3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2285280" y="5029200"/>
            <a:ext cx="624780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42" y="1"/>
                </a:moveTo>
                <a:arcTo wR="10800" hR="10800" stAng="-5354843" swAng="5354843"/>
                <a:lnTo>
                  <a:pt x="10800" y="10800"/>
                </a:lnTo>
                <a:close/>
              </a:path>
              <a:path fill="none" w="21600" h="21600">
                <a:moveTo>
                  <a:pt x="10942" y="1"/>
                </a:moveTo>
                <a:arcTo wR="10800" hR="10800" stAng="-5354843" swAng="5354843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828800" y="6019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24080" y="6248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043520" y="6247800"/>
            <a:ext cx="64404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gt;2.5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34120" y="5029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200040" y="3276720"/>
            <a:ext cx="152640" cy="152280"/>
            <a:chOff x="3200040" y="3276720"/>
            <a:chExt cx="152640" cy="152280"/>
          </a:xfrm>
        </p:grpSpPr>
        <p:sp>
          <p:nvSpPr>
            <p:cNvPr id="653" name=""/>
            <p:cNvSpPr/>
            <p:nvPr/>
          </p:nvSpPr>
          <p:spPr>
            <a:xfrm>
              <a:off x="3200400" y="327672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200040" y="327672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047760" y="5257800"/>
            <a:ext cx="152640" cy="152280"/>
            <a:chOff x="3047760" y="5257800"/>
            <a:chExt cx="152640" cy="152280"/>
          </a:xfrm>
        </p:grpSpPr>
        <p:sp>
          <p:nvSpPr>
            <p:cNvPr id="656" name=""/>
            <p:cNvSpPr/>
            <p:nvPr/>
          </p:nvSpPr>
          <p:spPr>
            <a:xfrm>
              <a:off x="3048120" y="525780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047760" y="525780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106160" y="2285280"/>
            <a:ext cx="341928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D- si basse vitesse, D+ si haute vites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06160" y="4571280"/>
            <a:ext cx="341928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D- si basse vitesse, D+ si haute vites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151920" y="2361960"/>
            <a:ext cx="8610840" cy="28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numé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hase de détection e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d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nctions U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ectué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 le H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l'initialisation et à chaque changement de configuration (connexion ou déconnex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rs de s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eration un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que fournit sur demande du Host une succession de </a:t>
            </a: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Descripteu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mettant son identification comp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OCR-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l'énumération initiale, les fonctions (hubs et périph.) sont initialisées de proche en pro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309680"/>
            <a:ext cx="77724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'identification p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se et comp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 d'un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que lors de sa connexion s'effectue pa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52480" y="144792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228600" y="1571760"/>
            <a:ext cx="861048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umeration d'un De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 : indique au Host un changement d'état sur un de ses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détermine le port en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effectue un 'reset' du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lit le descripteur du Device (addresse par défaut 00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assigne une adresse USB au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lit l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scripteurs com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configure la fonction, détermine la bande passant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st : met en place 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driver appropr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OCR-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rs de l'initialisation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le du sy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(mise sous tension), l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eration 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nctions (hubs et périph.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'effect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proche en pro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5486400" y="5638680"/>
            <a:ext cx="1600200" cy="609840"/>
            <a:chOff x="5486400" y="5638680"/>
            <a:chExt cx="1600200" cy="609840"/>
          </a:xfrm>
        </p:grpSpPr>
        <p:sp>
          <p:nvSpPr>
            <p:cNvPr id="666" name=""/>
            <p:cNvSpPr/>
            <p:nvPr/>
          </p:nvSpPr>
          <p:spPr>
            <a:xfrm>
              <a:off x="5486400" y="594360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67280" y="5638680"/>
              <a:ext cx="1219320" cy="304920"/>
            </a:xfrm>
            <a:custGeom>
              <a:avLst/>
              <a:gdLst/>
              <a:ahLst/>
              <a:rect l="l" t="t" r="r" b="b"/>
              <a:pathLst>
                <a:path w="768" h="192">
                  <a:moveTo>
                    <a:pt x="0" y="192"/>
                  </a:moveTo>
                  <a:lnTo>
                    <a:pt x="0" y="48"/>
                  </a:lnTo>
                  <a:lnTo>
                    <a:pt x="768" y="48"/>
                  </a:lnTo>
                  <a:lnTo>
                    <a:pt x="76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62720" y="571500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553080" y="5638680"/>
            <a:ext cx="762120" cy="609840"/>
            <a:chOff x="6553080" y="5638680"/>
            <a:chExt cx="762120" cy="609840"/>
          </a:xfrm>
        </p:grpSpPr>
        <p:sp>
          <p:nvSpPr>
            <p:cNvPr id="670" name=""/>
            <p:cNvSpPr/>
            <p:nvPr/>
          </p:nvSpPr>
          <p:spPr>
            <a:xfrm>
              <a:off x="6553080" y="594360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34320" y="563868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lnTo>
                    <a:pt x="240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54960" y="575316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80880" y="4952880"/>
            <a:ext cx="8077320" cy="1295640"/>
            <a:chOff x="380880" y="4952880"/>
            <a:chExt cx="8077320" cy="1295640"/>
          </a:xfrm>
        </p:grpSpPr>
        <p:sp>
          <p:nvSpPr>
            <p:cNvPr id="674" name=""/>
            <p:cNvSpPr/>
            <p:nvPr/>
          </p:nvSpPr>
          <p:spPr>
            <a:xfrm>
              <a:off x="380880" y="4952880"/>
              <a:ext cx="5029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Host Controller initialise successivement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s périphériques connectés aux ports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B (lecteur), C (imprimante), D (téléphon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96080" y="594360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43800" y="563868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0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192"/>
                  </a:lnTo>
                </a:path>
              </a:pathLst>
            </a:custGeom>
            <a:noFill/>
            <a:ln w="2844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53280" y="5715000"/>
              <a:ext cx="166680" cy="166680"/>
            </a:xfrm>
            <a:prstGeom prst="ellipse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5410080" y="4343400"/>
            <a:ext cx="838440" cy="304920"/>
            <a:chOff x="5410080" y="4343400"/>
            <a:chExt cx="838440" cy="304920"/>
          </a:xfrm>
        </p:grpSpPr>
        <p:sp>
          <p:nvSpPr>
            <p:cNvPr id="679" name=""/>
            <p:cNvSpPr/>
            <p:nvPr/>
          </p:nvSpPr>
          <p:spPr>
            <a:xfrm>
              <a:off x="5410080" y="441972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434340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52280" y="4495680"/>
            <a:ext cx="7467840" cy="1143000"/>
            <a:chOff x="152280" y="4495680"/>
            <a:chExt cx="7467840" cy="1143000"/>
          </a:xfrm>
        </p:grpSpPr>
        <p:sp>
          <p:nvSpPr>
            <p:cNvPr id="682" name=""/>
            <p:cNvSpPr/>
            <p:nvPr/>
          </p:nvSpPr>
          <p:spPr>
            <a:xfrm>
              <a:off x="152280" y="4495680"/>
              <a:ext cx="502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ors de la scrutation du Hub, celui-ci indique une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 connexion non initialisée sur ses ports B,C,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010280" y="548640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38880" y="548640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67480" y="548640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4267080" y="4800600"/>
            <a:ext cx="2286000" cy="685800"/>
            <a:chOff x="4267080" y="4800600"/>
            <a:chExt cx="2286000" cy="685800"/>
          </a:xfrm>
        </p:grpSpPr>
        <p:sp>
          <p:nvSpPr>
            <p:cNvPr id="687" name=""/>
            <p:cNvSpPr/>
            <p:nvPr/>
          </p:nvSpPr>
          <p:spPr>
            <a:xfrm>
              <a:off x="4267080" y="518148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495288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48320" y="4800600"/>
              <a:ext cx="1904760" cy="380880"/>
            </a:xfrm>
            <a:custGeom>
              <a:avLst/>
              <a:gdLst/>
              <a:ahLst/>
              <a:rect l="l" t="t" r="r" b="b"/>
              <a:pathLst>
                <a:path w="1200" h="240">
                  <a:moveTo>
                    <a:pt x="1200" y="0"/>
                  </a:moveTo>
                  <a:lnTo>
                    <a:pt x="1200" y="48"/>
                  </a:lnTo>
                  <a:lnTo>
                    <a:pt x="0" y="48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81480" y="4800600"/>
            <a:ext cx="1600200" cy="685800"/>
            <a:chOff x="5181480" y="4800600"/>
            <a:chExt cx="1600200" cy="685800"/>
          </a:xfrm>
        </p:grpSpPr>
        <p:sp>
          <p:nvSpPr>
            <p:cNvPr id="691" name=""/>
            <p:cNvSpPr/>
            <p:nvPr/>
          </p:nvSpPr>
          <p:spPr>
            <a:xfrm>
              <a:off x="5181480" y="518148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57800" y="495288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62720" y="480060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768" y="0"/>
                  </a:moveTo>
                  <a:lnTo>
                    <a:pt x="768" y="96"/>
                  </a:lnTo>
                  <a:lnTo>
                    <a:pt x="0" y="96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095880" y="4800600"/>
            <a:ext cx="914400" cy="685800"/>
            <a:chOff x="6095880" y="4800600"/>
            <a:chExt cx="914400" cy="685800"/>
          </a:xfrm>
        </p:grpSpPr>
        <p:sp>
          <p:nvSpPr>
            <p:cNvPr id="695" name=""/>
            <p:cNvSpPr/>
            <p:nvPr/>
          </p:nvSpPr>
          <p:spPr>
            <a:xfrm>
              <a:off x="6095880" y="518148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72200" y="500364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480060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384" y="0"/>
                  </a:moveTo>
                  <a:lnTo>
                    <a:pt x="38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57200" y="3809880"/>
            <a:ext cx="7467480" cy="1676520"/>
            <a:chOff x="457200" y="3809880"/>
            <a:chExt cx="7467480" cy="1676520"/>
          </a:xfrm>
        </p:grpSpPr>
        <p:sp>
          <p:nvSpPr>
            <p:cNvPr id="699" name=""/>
            <p:cNvSpPr/>
            <p:nvPr/>
          </p:nvSpPr>
          <p:spPr>
            <a:xfrm>
              <a:off x="457200" y="3809880"/>
              <a:ext cx="6553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Host Controller initialise successivement les périphériques 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onnectés aux ports A (Hub),B (micro),C,D (hts parleurs), E (moniteur) 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34320" y="5181480"/>
              <a:ext cx="99036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8880" y="4800600"/>
              <a:ext cx="152640" cy="380880"/>
            </a:xfrm>
            <a:custGeom>
              <a:avLst/>
              <a:gdLst/>
              <a:ahLst/>
              <a:rect l="l" t="t" r="r" b="b"/>
              <a:pathLst>
                <a:path w="96" h="240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96" y="240"/>
                  </a:lnTo>
                </a:path>
              </a:pathLst>
            </a:custGeom>
            <a:noFill/>
            <a:ln w="2844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67480" y="4952880"/>
              <a:ext cx="166680" cy="166680"/>
            </a:xfrm>
            <a:prstGeom prst="ellipse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152280" y="3352680"/>
            <a:ext cx="7162920" cy="1447920"/>
            <a:chOff x="152280" y="3352680"/>
            <a:chExt cx="7162920" cy="1447920"/>
          </a:xfrm>
        </p:grpSpPr>
        <p:sp>
          <p:nvSpPr>
            <p:cNvPr id="704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77120" y="46483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705720" y="46483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34320" y="46483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46483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2280" y="3352680"/>
              <a:ext cx="655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ors de la scrutation du Hub-moniteur, celui-ci signale une connexion 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 non initialisée sur ses ports A,B,C,D,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848720" y="4800600"/>
            <a:ext cx="914400" cy="685800"/>
            <a:chOff x="7848720" y="4800600"/>
            <a:chExt cx="914400" cy="685800"/>
          </a:xfrm>
        </p:grpSpPr>
        <p:sp>
          <p:nvSpPr>
            <p:cNvPr id="711" name=""/>
            <p:cNvSpPr/>
            <p:nvPr/>
          </p:nvSpPr>
          <p:spPr>
            <a:xfrm>
              <a:off x="8534520" y="495288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53280" y="518148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848720" y="480060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0" y="96"/>
                  </a:lnTo>
                  <a:lnTo>
                    <a:pt x="384" y="96"/>
                  </a:lnTo>
                  <a:lnTo>
                    <a:pt x="384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457200" y="2895480"/>
            <a:ext cx="8534520" cy="1752840"/>
            <a:chOff x="457200" y="2895480"/>
            <a:chExt cx="8534520" cy="1752840"/>
          </a:xfrm>
        </p:grpSpPr>
        <p:sp>
          <p:nvSpPr>
            <p:cNvPr id="715" name=""/>
            <p:cNvSpPr/>
            <p:nvPr/>
          </p:nvSpPr>
          <p:spPr>
            <a:xfrm>
              <a:off x="457200" y="2895480"/>
              <a:ext cx="655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Host Controller initialise successivement les périphériques connectés 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ux ports A (clavier) et C (souris), et les place dans sa liste de scru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81880" y="4343400"/>
              <a:ext cx="609840" cy="3049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381880" y="4114800"/>
              <a:ext cx="166680" cy="166680"/>
            </a:xfrm>
            <a:prstGeom prst="ellipse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57200" y="2209680"/>
            <a:ext cx="8534520" cy="2438640"/>
            <a:chOff x="457200" y="2209680"/>
            <a:chExt cx="8534520" cy="2438640"/>
          </a:xfrm>
        </p:grpSpPr>
        <p:sp>
          <p:nvSpPr>
            <p:cNvPr id="719" name=""/>
            <p:cNvSpPr/>
            <p:nvPr/>
          </p:nvSpPr>
          <p:spPr>
            <a:xfrm>
              <a:off x="457200" y="2209680"/>
              <a:ext cx="853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Host Controller initialise le périphérique connecté au port B (Hub du moniteur), et le place dans sa liste de scru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0800" y="4343400"/>
              <a:ext cx="990720" cy="3049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58000" y="403848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336" y="0"/>
                  </a:moveTo>
                  <a:lnTo>
                    <a:pt x="336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29400" y="4114800"/>
              <a:ext cx="166680" cy="166680"/>
            </a:xfrm>
            <a:prstGeom prst="ellipse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57200" y="1752480"/>
            <a:ext cx="8381880" cy="2895840"/>
            <a:chOff x="457200" y="1752480"/>
            <a:chExt cx="8381880" cy="2895840"/>
          </a:xfrm>
        </p:grpSpPr>
        <p:sp>
          <p:nvSpPr>
            <p:cNvPr id="724" name=""/>
            <p:cNvSpPr/>
            <p:nvPr/>
          </p:nvSpPr>
          <p:spPr>
            <a:xfrm>
              <a:off x="457200" y="1752480"/>
              <a:ext cx="838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Host Controller initialise le périphérique connecté au port A (Hub du clavier), et le place dans sa liste de scru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67480" y="4343400"/>
              <a:ext cx="762120" cy="3049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96080" y="4038480"/>
              <a:ext cx="15264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96" y="192"/>
                  </a:lnTo>
                </a:path>
              </a:pathLst>
            </a:custGeom>
            <a:noFill/>
            <a:ln w="2844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4680" y="4114800"/>
              <a:ext cx="166680" cy="166680"/>
            </a:xfrm>
            <a:prstGeom prst="ellipse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152280" y="1523880"/>
            <a:ext cx="7620120" cy="2514600"/>
            <a:chOff x="152280" y="1523880"/>
            <a:chExt cx="7620120" cy="2514600"/>
          </a:xfrm>
        </p:grpSpPr>
        <p:sp>
          <p:nvSpPr>
            <p:cNvPr id="729" name=""/>
            <p:cNvSpPr/>
            <p:nvPr/>
          </p:nvSpPr>
          <p:spPr>
            <a:xfrm>
              <a:off x="7620120" y="38862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15200" y="38862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2280" y="15238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Root Hub indique une connexion non initialisée sur ses ports A e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28600" y="1141920"/>
            <a:ext cx="8763120" cy="5106600"/>
            <a:chOff x="228600" y="1141920"/>
            <a:chExt cx="8763120" cy="5106600"/>
          </a:xfrm>
        </p:grpSpPr>
        <p:sp>
          <p:nvSpPr>
            <p:cNvPr id="733" name=""/>
            <p:cNvSpPr/>
            <p:nvPr/>
          </p:nvSpPr>
          <p:spPr>
            <a:xfrm>
              <a:off x="228600" y="1141920"/>
              <a:ext cx="411480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emple d'énumération initial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4267080" y="3048120"/>
              <a:ext cx="4724640" cy="3200400"/>
              <a:chOff x="4267080" y="3048120"/>
              <a:chExt cx="4724640" cy="3200400"/>
            </a:xfrm>
          </p:grpSpPr>
          <p:sp>
            <p:nvSpPr>
              <p:cNvPr id="735" name=""/>
              <p:cNvSpPr/>
              <p:nvPr/>
            </p:nvSpPr>
            <p:spPr>
              <a:xfrm>
                <a:off x="7010280" y="3048120"/>
                <a:ext cx="990720" cy="304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ost 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38880" y="3581280"/>
                <a:ext cx="609840" cy="30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Root Hu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B       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3800" y="33526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0120" y="388620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15200" y="388620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467480" y="43434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ub    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D    C     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229600" y="434340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00100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7240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54380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96080" y="5486400"/>
                <a:ext cx="15264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400800" y="4343400"/>
                <a:ext cx="9907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E        Hu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D    C    B   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48520" y="434340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6292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3432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70572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7712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638680" y="4343400"/>
                <a:ext cx="60984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Moniteu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381880" y="4343400"/>
                <a:ext cx="60984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Clavi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858000" y="4038480"/>
                <a:ext cx="533520" cy="30492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336" y="0"/>
                    </a:moveTo>
                    <a:lnTo>
                      <a:pt x="336" y="96"/>
                    </a:lnTo>
                    <a:lnTo>
                      <a:pt x="0" y="96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696080" y="4038480"/>
                <a:ext cx="152640" cy="30492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336" y="0"/>
                    </a:moveTo>
                    <a:lnTo>
                      <a:pt x="336" y="96"/>
                    </a:lnTo>
                    <a:lnTo>
                      <a:pt x="0" y="96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267080" y="518148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aut-Parleu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181480" y="518148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aut-Parleu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095880" y="5181480"/>
                <a:ext cx="60984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Micr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486400" y="59436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Télépho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34320" y="5181480"/>
                <a:ext cx="99036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D    C    B   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53280" y="5181480"/>
                <a:ext cx="60984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ouri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3080" y="59436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Impriman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96080" y="59436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Lecteur C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010280" y="5486400"/>
                <a:ext cx="15264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38880" y="5486400"/>
                <a:ext cx="15264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467480" y="5486400"/>
                <a:ext cx="15264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48320" y="4800600"/>
                <a:ext cx="1904760" cy="380880"/>
              </a:xfrm>
              <a:custGeom>
                <a:avLst/>
                <a:gdLst/>
                <a:ahLst/>
                <a:rect l="l" t="t" r="r" b="b"/>
                <a:pathLst>
                  <a:path w="1200" h="240">
                    <a:moveTo>
                      <a:pt x="1200" y="0"/>
                    </a:moveTo>
                    <a:lnTo>
                      <a:pt x="1200" y="48"/>
                    </a:lnTo>
                    <a:lnTo>
                      <a:pt x="0" y="48"/>
                    </a:lnTo>
                    <a:lnTo>
                      <a:pt x="0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62720" y="4800600"/>
                <a:ext cx="121896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768" y="0"/>
                    </a:moveTo>
                    <a:lnTo>
                      <a:pt x="768" y="96"/>
                    </a:lnTo>
                    <a:lnTo>
                      <a:pt x="0" y="96"/>
                    </a:lnTo>
                    <a:lnTo>
                      <a:pt x="0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400800" y="4800600"/>
                <a:ext cx="609480" cy="38088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384" y="0"/>
                    </a:moveTo>
                    <a:lnTo>
                      <a:pt x="384" y="144"/>
                    </a:lnTo>
                    <a:lnTo>
                      <a:pt x="0" y="144"/>
                    </a:lnTo>
                    <a:lnTo>
                      <a:pt x="0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8880" y="4800600"/>
                <a:ext cx="152640" cy="38088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0" y="0"/>
                    </a:moveTo>
                    <a:lnTo>
                      <a:pt x="0" y="96"/>
                    </a:lnTo>
                    <a:lnTo>
                      <a:pt x="96" y="96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848720" y="4800600"/>
                <a:ext cx="609480" cy="38088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0" y="96"/>
                    </a:lnTo>
                    <a:lnTo>
                      <a:pt x="384" y="96"/>
                    </a:lnTo>
                    <a:lnTo>
                      <a:pt x="384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67280" y="5638680"/>
                <a:ext cx="1219320" cy="304920"/>
              </a:xfrm>
              <a:custGeom>
                <a:avLst/>
                <a:gdLst/>
                <a:ahLst/>
                <a:rect l="l" t="t" r="r" b="b"/>
                <a:pathLst>
                  <a:path w="768" h="192">
                    <a:moveTo>
                      <a:pt x="768" y="0"/>
                    </a:moveTo>
                    <a:lnTo>
                      <a:pt x="768" y="48"/>
                    </a:lnTo>
                    <a:lnTo>
                      <a:pt x="0" y="48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4320" y="5638680"/>
                <a:ext cx="380880" cy="304920"/>
              </a:xfrm>
              <a:custGeom>
                <a:avLst/>
                <a:gdLst/>
                <a:ahLst/>
                <a:rect l="l" t="t" r="r" b="b"/>
                <a:pathLst>
                  <a:path w="240" h="192">
                    <a:moveTo>
                      <a:pt x="240" y="0"/>
                    </a:moveTo>
                    <a:lnTo>
                      <a:pt x="240" y="96"/>
                    </a:lnTo>
                    <a:lnTo>
                      <a:pt x="0" y="96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43800" y="5638680"/>
                <a:ext cx="533520" cy="30492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  <a:lnTo>
                      <a:pt x="33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52280" y="2666880"/>
            <a:ext cx="8763120" cy="2133720"/>
            <a:chOff x="152280" y="2666880"/>
            <a:chExt cx="8763120" cy="2133720"/>
          </a:xfrm>
        </p:grpSpPr>
        <p:sp>
          <p:nvSpPr>
            <p:cNvPr id="777" name=""/>
            <p:cNvSpPr/>
            <p:nvPr/>
          </p:nvSpPr>
          <p:spPr>
            <a:xfrm>
              <a:off x="82296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772400" y="464832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2280" y="2666880"/>
              <a:ext cx="876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ors de sa scrutation, le Hub-clavier signale une connexion non initialisée sur ses ports A(interne) et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90920" y="274320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305920" cy="19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s et Devices peuvent être alimentés par le câble (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us-powe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u disposer de leur alimentation propre (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lf-powe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Hubs doivent fournir une alimentation minimum à chaque port a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intes de consommation stric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cune fonction (Device ou Hub) ne peut consommer plus de 100 mA (sur le bus) avant d'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Device peut consommer jusqu'à 500 m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cc3300"/>
                </a:solidFill>
                <a:latin typeface="Arial"/>
              </a:rPr>
              <a:t>High-power Dev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ou rest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100 mA (</a:t>
            </a:r>
            <a:r>
              <a:rPr b="0" i="1" lang="en-GB" sz="1600" spc="-1" strike="noStrike">
                <a:solidFill>
                  <a:srgbClr val="cc3300"/>
                </a:solidFill>
                <a:latin typeface="Arial"/>
              </a:rPr>
              <a:t>Low-power Dev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ub doit fournir au moins 100 mA par port a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f-powered Hub doit fournir 500 mA par port a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self-powered hub doit po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r un limiteur de courant sur ses ports aval (5A max) et signaler les anomalies au 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54800" y="4037760"/>
            <a:ext cx="6169680" cy="2286720"/>
            <a:chOff x="154800" y="4037760"/>
            <a:chExt cx="6169680" cy="2286720"/>
          </a:xfrm>
        </p:grpSpPr>
        <p:sp>
          <p:nvSpPr>
            <p:cNvPr id="788" name=""/>
            <p:cNvSpPr/>
            <p:nvPr/>
          </p:nvSpPr>
          <p:spPr>
            <a:xfrm>
              <a:off x="609480" y="4648320"/>
              <a:ext cx="57150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High-power Device doit poss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der un dispositif d'alimentation sequenc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e (100mA, puis 500m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Un Bus-powered Hub ne peut supporter que des Low-power Devices. Un High-power Device ne peu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être connecté qu'à un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lf-powered H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On ne peut pas cascader directement 2 Bus-powered Hu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4920" y="47242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1a981c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4920" y="525780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1a981c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4800" y="4037760"/>
              <a:ext cx="28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Quelques conséquences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04920" y="601992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1a981c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431040" y="4037760"/>
            <a:ext cx="2711880" cy="2303280"/>
            <a:chOff x="6431040" y="4037760"/>
            <a:chExt cx="2711880" cy="2303280"/>
          </a:xfrm>
        </p:grpSpPr>
        <p:sp>
          <p:nvSpPr>
            <p:cNvPr id="794" name=""/>
            <p:cNvSpPr/>
            <p:nvPr/>
          </p:nvSpPr>
          <p:spPr>
            <a:xfrm>
              <a:off x="6472080" y="4572000"/>
              <a:ext cx="2057400" cy="11430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77000" y="4876920"/>
              <a:ext cx="60948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72280" y="4419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843680" y="5334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96320" y="5334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48600" y="5334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00880" y="5334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767720" y="4876920"/>
              <a:ext cx="60948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1040" y="5409360"/>
              <a:ext cx="147780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elf-powered 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40920" y="4037760"/>
              <a:ext cx="1098000" cy="39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im. port amo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100mA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81040" y="4891680"/>
              <a:ext cx="586080" cy="39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imite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87240" y="5790240"/>
              <a:ext cx="2155680" cy="55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im. ports a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500 mA/port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igh-power ou Low-Power De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81920" y="4648320"/>
              <a:ext cx="990360" cy="228600"/>
            </a:xfrm>
            <a:custGeom>
              <a:avLst/>
              <a:gdLst/>
              <a:ahLst/>
              <a:rect l="l" t="t" r="r" b="b"/>
              <a:pathLst>
                <a:path w="624" h="96">
                  <a:moveTo>
                    <a:pt x="62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68720" y="4966560"/>
              <a:ext cx="62892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og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43880" y="4571280"/>
              <a:ext cx="519120" cy="4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lim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ex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8377200" y="5029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518520" y="1446840"/>
            <a:ext cx="2625120" cy="2303280"/>
            <a:chOff x="6518520" y="1446840"/>
            <a:chExt cx="2625120" cy="2303280"/>
          </a:xfrm>
        </p:grpSpPr>
        <p:sp>
          <p:nvSpPr>
            <p:cNvPr id="811" name=""/>
            <p:cNvSpPr/>
            <p:nvPr/>
          </p:nvSpPr>
          <p:spPr>
            <a:xfrm>
              <a:off x="6562800" y="1981080"/>
              <a:ext cx="2057400" cy="11430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67720" y="2286000"/>
              <a:ext cx="60948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163000" y="1828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34400" y="2743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87040" y="2743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39320" y="2743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391600" y="2743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58440" y="2286000"/>
              <a:ext cx="60948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18520" y="2818440"/>
              <a:ext cx="148536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us-powered 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631640" y="1446840"/>
              <a:ext cx="1098000" cy="39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im. port amo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500mA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98040" y="2377080"/>
              <a:ext cx="5328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64720" y="3199320"/>
              <a:ext cx="1978920" cy="55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im. ports a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100 mA/port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ow-power Devices uniqu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72640" y="2057400"/>
              <a:ext cx="990360" cy="228600"/>
            </a:xfrm>
            <a:custGeom>
              <a:avLst/>
              <a:gdLst/>
              <a:ahLst/>
              <a:rect l="l" t="t" r="r" b="b"/>
              <a:pathLst>
                <a:path w="624" h="96">
                  <a:moveTo>
                    <a:pt x="62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59440" y="2375280"/>
              <a:ext cx="62892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og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153720" y="121860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3f8"/>
                </a:solidFill>
                <a:latin typeface="Arial"/>
              </a:rPr>
              <a:t>Quelques règl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en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urnie par u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elf-power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 ne doit pas être inférieure à 4.75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es et connecteurs peuvent induire une 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dition de 25mV/100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en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urnie par u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-power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 ne doit pas être inférieure à 4.4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4440" y="3823560"/>
            <a:ext cx="6246360" cy="2272320"/>
            <a:chOff x="154440" y="3823560"/>
            <a:chExt cx="6246360" cy="2272320"/>
          </a:xfrm>
        </p:grpSpPr>
        <p:sp>
          <p:nvSpPr>
            <p:cNvPr id="829" name=""/>
            <p:cNvSpPr/>
            <p:nvPr/>
          </p:nvSpPr>
          <p:spPr>
            <a:xfrm>
              <a:off x="685800" y="4419720"/>
              <a:ext cx="57150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n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Low-power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vice doit fonctionner correctement avec une alimentation 4.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n High-power Device (connect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necessairement sur un Self-powered Hub) doit fonctionner correctement avec une alimentation de 4.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0880" y="451008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1a981c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4440" y="3823560"/>
              <a:ext cx="17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séque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0880" y="5105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1a981c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6481440" y="1371600"/>
            <a:ext cx="2651040" cy="4952880"/>
            <a:chOff x="6481440" y="1371600"/>
            <a:chExt cx="2651040" cy="4952880"/>
          </a:xfrm>
        </p:grpSpPr>
        <p:sp>
          <p:nvSpPr>
            <p:cNvPr id="834" name=""/>
            <p:cNvSpPr/>
            <p:nvPr/>
          </p:nvSpPr>
          <p:spPr>
            <a:xfrm>
              <a:off x="7696080" y="281952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848360" y="281952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62560" y="1828800"/>
              <a:ext cx="1218960" cy="838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elf-pow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19760" y="2666880"/>
              <a:ext cx="304560" cy="152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62560" y="5486400"/>
              <a:ext cx="1218960" cy="838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3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Bus-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62560" y="3733920"/>
              <a:ext cx="1218960" cy="838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Bus-Pow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19760" y="4572000"/>
              <a:ext cx="30456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86920" y="2132280"/>
              <a:ext cx="6469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7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19760" y="3581280"/>
              <a:ext cx="304560" cy="152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7800" y="2132280"/>
              <a:ext cx="3985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22040" y="1371600"/>
              <a:ext cx="1005120" cy="36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ire 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58000" y="2362320"/>
              <a:ext cx="83772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lnTo>
                    <a:pt x="288" y="0"/>
                  </a:lnTo>
                  <a:lnTo>
                    <a:pt x="52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848360" y="2362320"/>
              <a:ext cx="1066680" cy="30456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672" y="0"/>
                  </a:moveTo>
                  <a:lnTo>
                    <a:pt x="240" y="0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48360" y="3733920"/>
              <a:ext cx="685440" cy="177840"/>
            </a:xfrm>
            <a:custGeom>
              <a:avLst/>
              <a:gdLst/>
              <a:ahLst/>
              <a:rect l="l" t="t" r="r" b="b"/>
              <a:pathLst>
                <a:path w="432" h="112">
                  <a:moveTo>
                    <a:pt x="0" y="0"/>
                  </a:moveTo>
                  <a:cubicBezTo>
                    <a:pt x="48" y="40"/>
                    <a:pt x="96" y="80"/>
                    <a:pt x="144" y="96"/>
                  </a:cubicBezTo>
                  <a:cubicBezTo>
                    <a:pt x="192" y="112"/>
                    <a:pt x="240" y="112"/>
                    <a:pt x="288" y="96"/>
                  </a:cubicBezTo>
                  <a:cubicBezTo>
                    <a:pt x="336" y="80"/>
                    <a:pt x="384" y="40"/>
                    <a:pt x="43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010280" y="3733920"/>
              <a:ext cx="685440" cy="177840"/>
            </a:xfrm>
            <a:custGeom>
              <a:avLst/>
              <a:gdLst/>
              <a:ahLst/>
              <a:rect l="l" t="t" r="r" b="b"/>
              <a:pathLst>
                <a:path w="432" h="112">
                  <a:moveTo>
                    <a:pt x="0" y="0"/>
                  </a:moveTo>
                  <a:cubicBezTo>
                    <a:pt x="48" y="40"/>
                    <a:pt x="96" y="80"/>
                    <a:pt x="144" y="96"/>
                  </a:cubicBezTo>
                  <a:cubicBezTo>
                    <a:pt x="192" y="112"/>
                    <a:pt x="240" y="112"/>
                    <a:pt x="288" y="96"/>
                  </a:cubicBezTo>
                  <a:cubicBezTo>
                    <a:pt x="336" y="80"/>
                    <a:pt x="384" y="40"/>
                    <a:pt x="43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81440" y="3503880"/>
              <a:ext cx="74628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.12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86200" y="3503880"/>
              <a:ext cx="74628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62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48360" y="4267080"/>
              <a:ext cx="1066680" cy="30492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672" y="0"/>
                  </a:moveTo>
                  <a:lnTo>
                    <a:pt x="240" y="0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19760" y="5334120"/>
              <a:ext cx="30456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386920" y="4037400"/>
              <a:ext cx="5479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4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87800" y="4037400"/>
              <a:ext cx="3985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0" y="4267080"/>
              <a:ext cx="83772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lnTo>
                    <a:pt x="288" y="0"/>
                  </a:lnTo>
                  <a:lnTo>
                    <a:pt x="52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48360" y="5486400"/>
              <a:ext cx="685440" cy="177840"/>
            </a:xfrm>
            <a:custGeom>
              <a:avLst/>
              <a:gdLst/>
              <a:ahLst/>
              <a:rect l="l" t="t" r="r" b="b"/>
              <a:pathLst>
                <a:path w="432" h="112">
                  <a:moveTo>
                    <a:pt x="0" y="0"/>
                  </a:moveTo>
                  <a:cubicBezTo>
                    <a:pt x="48" y="40"/>
                    <a:pt x="96" y="80"/>
                    <a:pt x="144" y="96"/>
                  </a:cubicBezTo>
                  <a:cubicBezTo>
                    <a:pt x="192" y="112"/>
                    <a:pt x="240" y="112"/>
                    <a:pt x="288" y="96"/>
                  </a:cubicBezTo>
                  <a:cubicBezTo>
                    <a:pt x="336" y="80"/>
                    <a:pt x="384" y="40"/>
                    <a:pt x="43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86200" y="5256360"/>
              <a:ext cx="74628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37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010280" y="5486400"/>
              <a:ext cx="685440" cy="177840"/>
            </a:xfrm>
            <a:custGeom>
              <a:avLst/>
              <a:gdLst/>
              <a:ahLst/>
              <a:rect l="l" t="t" r="r" b="b"/>
              <a:pathLst>
                <a:path w="432" h="112">
                  <a:moveTo>
                    <a:pt x="0" y="0"/>
                  </a:moveTo>
                  <a:cubicBezTo>
                    <a:pt x="48" y="40"/>
                    <a:pt x="96" y="80"/>
                    <a:pt x="144" y="96"/>
                  </a:cubicBezTo>
                  <a:cubicBezTo>
                    <a:pt x="192" y="112"/>
                    <a:pt x="240" y="112"/>
                    <a:pt x="288" y="96"/>
                  </a:cubicBezTo>
                  <a:cubicBezTo>
                    <a:pt x="336" y="80"/>
                    <a:pt x="384" y="40"/>
                    <a:pt x="43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481440" y="5256360"/>
              <a:ext cx="74628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.02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62485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connexion d'un Bus-powered Device induit un appel de courant sur VBUS (chargement des capac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, alimentation des composa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'appel de courant peut faire chuter moment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t VB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chute maximum to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 sur VBUS est de 330m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Limitation des appels de courant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60920" y="3823200"/>
            <a:ext cx="8678160" cy="2425320"/>
            <a:chOff x="160920" y="3823200"/>
            <a:chExt cx="8678160" cy="2425320"/>
          </a:xfrm>
        </p:grpSpPr>
        <p:grpSp>
          <p:nvGrpSpPr>
            <p:cNvPr id="863" name=""/>
            <p:cNvGrpSpPr/>
            <p:nvPr/>
          </p:nvGrpSpPr>
          <p:grpSpPr>
            <a:xfrm>
              <a:off x="160920" y="3823200"/>
              <a:ext cx="6544800" cy="2425320"/>
              <a:chOff x="160920" y="3823200"/>
              <a:chExt cx="6544800" cy="2425320"/>
            </a:xfrm>
          </p:grpSpPr>
          <p:sp>
            <p:nvSpPr>
              <p:cNvPr id="864" name=""/>
              <p:cNvSpPr/>
              <p:nvPr/>
            </p:nvSpPr>
            <p:spPr>
              <a:xfrm>
                <a:off x="685800" y="4419720"/>
                <a:ext cx="6019920" cy="182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La charge maximum repr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é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sent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é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e par un Device est limit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é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e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à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 1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μ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//44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Ω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68240" indent="-285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0μF : somme de toutes les capacités prés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68240" indent="-285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4Ω : charge équivalente à 4.4V/100m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i la charge capacitive réelle est &gt;10uF, le Device doit incorporer une fonction de limitation de coura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80880" y="4510080"/>
                <a:ext cx="304920" cy="152280"/>
              </a:xfrm>
              <a:prstGeom prst="rightArrow">
                <a:avLst>
                  <a:gd name="adj1" fmla="val 50000"/>
                  <a:gd name="adj2" fmla="val 50059"/>
                </a:avLst>
              </a:prstGeom>
              <a:solidFill>
                <a:srgbClr val="1a98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60920" y="3823200"/>
                <a:ext cx="17002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Conséquen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80880" y="5715000"/>
                <a:ext cx="304920" cy="152280"/>
              </a:xfrm>
              <a:prstGeom prst="rightArrow">
                <a:avLst>
                  <a:gd name="adj1" fmla="val 50000"/>
                  <a:gd name="adj2" fmla="val 50059"/>
                </a:avLst>
              </a:prstGeom>
              <a:solidFill>
                <a:srgbClr val="1a98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6863400" y="4076640"/>
              <a:ext cx="1975680" cy="1181160"/>
              <a:chOff x="6863400" y="4076640"/>
              <a:chExt cx="1975680" cy="1181160"/>
            </a:xfrm>
          </p:grpSpPr>
          <p:sp>
            <p:nvSpPr>
              <p:cNvPr id="869" name=""/>
              <p:cNvSpPr/>
              <p:nvPr/>
            </p:nvSpPr>
            <p:spPr>
              <a:xfrm>
                <a:off x="7238880" y="4343400"/>
                <a:ext cx="990720" cy="76320"/>
              </a:xfrm>
              <a:custGeom>
                <a:avLst/>
                <a:gdLst/>
                <a:ahLst/>
                <a:rect l="l" t="t" r="r" b="b"/>
                <a:pathLst>
                  <a:path w="864" h="144">
                    <a:moveTo>
                      <a:pt x="0" y="0"/>
                    </a:moveTo>
                    <a:lnTo>
                      <a:pt x="864" y="0"/>
                    </a:lnTo>
                    <a:lnTo>
                      <a:pt x="864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7162920" y="4952880"/>
                <a:ext cx="1066680" cy="76320"/>
              </a:xfrm>
              <a:custGeom>
                <a:avLst/>
                <a:gdLst/>
                <a:ahLst/>
                <a:rect l="l" t="t" r="r" b="b"/>
                <a:pathLst>
                  <a:path w="864" h="144">
                    <a:moveTo>
                      <a:pt x="0" y="0"/>
                    </a:moveTo>
                    <a:lnTo>
                      <a:pt x="864" y="0"/>
                    </a:lnTo>
                    <a:lnTo>
                      <a:pt x="864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7480" y="46483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467480" y="47242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20120" y="43434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0120" y="47242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153280" y="4419720"/>
                <a:ext cx="152640" cy="53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63400" y="4076640"/>
                <a:ext cx="596880" cy="269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VB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940440" y="4762440"/>
                <a:ext cx="519120" cy="269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391520" y="4114800"/>
                <a:ext cx="1447560" cy="1143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50280" y="4343400"/>
                <a:ext cx="646920" cy="330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μ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274600" y="4343400"/>
                <a:ext cx="557280" cy="330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Ω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7543800" y="4952880"/>
                <a:ext cx="152280" cy="152640"/>
                <a:chOff x="7543800" y="4952880"/>
                <a:chExt cx="152280" cy="15264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7543800" y="4952880"/>
                  <a:ext cx="152280" cy="152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581960" y="4991040"/>
                  <a:ext cx="75960" cy="75960"/>
                </a:xfrm>
                <a:prstGeom prst="ellipse">
                  <a:avLst/>
                </a:prstGeom>
                <a:solidFill>
                  <a:srgbClr val="def3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7543800" y="4267080"/>
                <a:ext cx="152280" cy="152640"/>
                <a:chOff x="7543800" y="4267080"/>
                <a:chExt cx="152280" cy="15264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7543800" y="4267080"/>
                  <a:ext cx="152280" cy="152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581960" y="4305240"/>
                  <a:ext cx="75960" cy="75960"/>
                </a:xfrm>
                <a:prstGeom prst="ellipse">
                  <a:avLst/>
                </a:prstGeom>
                <a:solidFill>
                  <a:srgbClr val="def3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7" name=""/>
              <p:cNvSpPr/>
              <p:nvPr/>
            </p:nvSpPr>
            <p:spPr>
              <a:xfrm>
                <a:off x="7086600" y="4305240"/>
                <a:ext cx="15228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0" y="0"/>
                    </a:moveTo>
                    <a:lnTo>
                      <a:pt x="96" y="0"/>
                    </a:lnTo>
                    <a:lnTo>
                      <a:pt x="96" y="48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005600" y="4991040"/>
                <a:ext cx="15228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0" y="0"/>
                    </a:moveTo>
                    <a:lnTo>
                      <a:pt x="96" y="0"/>
                    </a:lnTo>
                    <a:lnTo>
                      <a:pt x="96" y="48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684000" y="2431800"/>
            <a:ext cx="7475400" cy="277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 fonction (Device ou Hub) doit entrer en mode Suspend après 3ms d'inactivité du b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fois placé en mode Suspend, un Device (ou Hub) ne doit pas consommer plus de 5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 l'alimentation câ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ctr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ésistance de tirage sur D+/D- consomme à elle seule 200µ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ortie du mode Suspend (=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Resu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peut être causée par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Root Hub (en réponse à une requête logicie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 signalisation en provenance d'un Device (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Remote Wake-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nnexion ou la déconnexion d'un Device (ou H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Economies d'énergi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87000" y="1523160"/>
            <a:ext cx="79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imiter la consommation, Hubs et Devices possèdent un mode </a:t>
            </a:r>
            <a:r>
              <a:rPr b="0" i="1" lang="fr-FR" sz="1800" spc="-1" strike="noStrike">
                <a:solidFill>
                  <a:srgbClr val="e60c04"/>
                </a:solidFill>
                <a:latin typeface="Arial"/>
              </a:rPr>
              <a:t>Susp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1320" y="6019920"/>
            <a:ext cx="56775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(*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5m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ur les High-power Devices disposant de la fonction Remote Wake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7238880" y="3429000"/>
            <a:ext cx="1752840" cy="1905120"/>
            <a:chOff x="7238880" y="3429000"/>
            <a:chExt cx="1752840" cy="1905120"/>
          </a:xfrm>
        </p:grpSpPr>
        <p:sp>
          <p:nvSpPr>
            <p:cNvPr id="894" name=""/>
            <p:cNvSpPr/>
            <p:nvPr/>
          </p:nvSpPr>
          <p:spPr>
            <a:xfrm>
              <a:off x="7620120" y="373392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229600" y="419112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72400" y="44956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67480" y="4191120"/>
              <a:ext cx="76212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81880" y="4191120"/>
              <a:ext cx="60984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153280" y="502920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8880" y="342900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96080" y="3886200"/>
              <a:ext cx="15264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96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848720" y="464832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0" y="96"/>
                  </a:lnTo>
                  <a:lnTo>
                    <a:pt x="384" y="96"/>
                  </a:lnTo>
                  <a:lnTo>
                    <a:pt x="384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6858000" y="3733920"/>
            <a:ext cx="609480" cy="457200"/>
            <a:chOff x="6858000" y="3733920"/>
            <a:chExt cx="609480" cy="457200"/>
          </a:xfrm>
        </p:grpSpPr>
        <p:sp>
          <p:nvSpPr>
            <p:cNvPr id="904" name=""/>
            <p:cNvSpPr/>
            <p:nvPr/>
          </p:nvSpPr>
          <p:spPr>
            <a:xfrm>
              <a:off x="6858000" y="38862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92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15200" y="373392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5638680" y="4191120"/>
            <a:ext cx="762120" cy="304560"/>
            <a:chOff x="5638680" y="4191120"/>
            <a:chExt cx="762120" cy="304560"/>
          </a:xfrm>
        </p:grpSpPr>
        <p:sp>
          <p:nvSpPr>
            <p:cNvPr id="907" name=""/>
            <p:cNvSpPr/>
            <p:nvPr/>
          </p:nvSpPr>
          <p:spPr>
            <a:xfrm>
              <a:off x="6248520" y="419112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638680" y="4191120"/>
              <a:ext cx="60984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4267080" y="4191120"/>
            <a:ext cx="3124440" cy="1143000"/>
            <a:chOff x="4267080" y="4191120"/>
            <a:chExt cx="3124440" cy="1143000"/>
          </a:xfrm>
        </p:grpSpPr>
        <p:sp>
          <p:nvSpPr>
            <p:cNvPr id="910" name=""/>
            <p:cNvSpPr/>
            <p:nvPr/>
          </p:nvSpPr>
          <p:spPr>
            <a:xfrm>
              <a:off x="6400800" y="4191120"/>
              <a:ext cx="99072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095880" y="502920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81480" y="502920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267080" y="502920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77120" y="44956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05720" y="44956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934320" y="44956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00800" y="464832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384" y="0"/>
                  </a:moveTo>
                  <a:lnTo>
                    <a:pt x="38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62720" y="464832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240"/>
                  </a:moveTo>
                  <a:lnTo>
                    <a:pt x="0" y="96"/>
                  </a:lnTo>
                  <a:lnTo>
                    <a:pt x="768" y="96"/>
                  </a:lnTo>
                  <a:lnTo>
                    <a:pt x="76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648320" y="4648320"/>
              <a:ext cx="1904760" cy="380880"/>
            </a:xfrm>
            <a:custGeom>
              <a:avLst/>
              <a:gdLst/>
              <a:ahLst/>
              <a:rect l="l" t="t" r="r" b="b"/>
              <a:pathLst>
                <a:path w="1200" h="240">
                  <a:moveTo>
                    <a:pt x="0" y="240"/>
                  </a:moveTo>
                  <a:lnTo>
                    <a:pt x="0" y="48"/>
                  </a:lnTo>
                  <a:lnTo>
                    <a:pt x="1200" y="48"/>
                  </a:lnTo>
                  <a:lnTo>
                    <a:pt x="120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486400" y="5029200"/>
            <a:ext cx="2438280" cy="1066680"/>
            <a:chOff x="5486400" y="5029200"/>
            <a:chExt cx="2438280" cy="1066680"/>
          </a:xfrm>
        </p:grpSpPr>
        <p:sp>
          <p:nvSpPr>
            <p:cNvPr id="921" name=""/>
            <p:cNvSpPr/>
            <p:nvPr/>
          </p:nvSpPr>
          <p:spPr>
            <a:xfrm>
              <a:off x="5486400" y="5791320"/>
              <a:ext cx="76212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010280" y="533412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934320" y="5029200"/>
              <a:ext cx="99036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38880" y="533412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34320" y="548640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lnTo>
                    <a:pt x="240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553080" y="5791320"/>
              <a:ext cx="76212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67280" y="5486400"/>
              <a:ext cx="1219320" cy="304920"/>
            </a:xfrm>
            <a:custGeom>
              <a:avLst/>
              <a:gdLst/>
              <a:ahLst/>
              <a:rect l="l" t="t" r="r" b="b"/>
              <a:pathLst>
                <a:path w="768" h="192">
                  <a:moveTo>
                    <a:pt x="768" y="0"/>
                  </a:moveTo>
                  <a:lnTo>
                    <a:pt x="768" y="48"/>
                  </a:lnTo>
                  <a:lnTo>
                    <a:pt x="0" y="48"/>
                  </a:ln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7162920" y="4495680"/>
            <a:ext cx="228600" cy="533520"/>
            <a:chOff x="7162920" y="4495680"/>
            <a:chExt cx="228600" cy="533520"/>
          </a:xfrm>
        </p:grpSpPr>
        <p:sp>
          <p:nvSpPr>
            <p:cNvPr id="929" name=""/>
            <p:cNvSpPr/>
            <p:nvPr/>
          </p:nvSpPr>
          <p:spPr>
            <a:xfrm>
              <a:off x="7238880" y="4648320"/>
              <a:ext cx="152640" cy="380880"/>
            </a:xfrm>
            <a:custGeom>
              <a:avLst/>
              <a:gdLst/>
              <a:ahLst/>
              <a:rect l="l" t="t" r="r" b="b"/>
              <a:pathLst>
                <a:path w="96" h="240">
                  <a:moveTo>
                    <a:pt x="96" y="24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162920" y="44956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467480" y="5334120"/>
            <a:ext cx="990720" cy="761760"/>
            <a:chOff x="7467480" y="5334120"/>
            <a:chExt cx="990720" cy="761760"/>
          </a:xfrm>
        </p:grpSpPr>
        <p:sp>
          <p:nvSpPr>
            <p:cNvPr id="932" name=""/>
            <p:cNvSpPr/>
            <p:nvPr/>
          </p:nvSpPr>
          <p:spPr>
            <a:xfrm>
              <a:off x="7467480" y="533412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96080" y="5791320"/>
              <a:ext cx="76212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43800" y="54864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0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4267080" y="2895480"/>
            <a:ext cx="4724640" cy="3200400"/>
            <a:chOff x="4267080" y="2895480"/>
            <a:chExt cx="4724640" cy="3200400"/>
          </a:xfrm>
        </p:grpSpPr>
        <p:sp>
          <p:nvSpPr>
            <p:cNvPr id="936" name=""/>
            <p:cNvSpPr/>
            <p:nvPr/>
          </p:nvSpPr>
          <p:spPr>
            <a:xfrm>
              <a:off x="7010280" y="2895480"/>
              <a:ext cx="990720" cy="304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ost Control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38880" y="3428640"/>
              <a:ext cx="6098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oot H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B      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43800" y="3200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20120" y="373356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15200" y="373356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467480" y="41907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ub    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    C    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229600" y="419076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0100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7240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4380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96080" y="533376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00800" y="4190760"/>
              <a:ext cx="9907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        H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    C    B   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48520" y="419076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6292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93432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70572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47712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38680" y="4190760"/>
              <a:ext cx="6098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onite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381880" y="4190760"/>
              <a:ext cx="6098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lav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58000" y="388584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336" y="0"/>
                  </a:moveTo>
                  <a:lnTo>
                    <a:pt x="336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7696080" y="3885840"/>
              <a:ext cx="15264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336" y="0"/>
                  </a:moveTo>
                  <a:lnTo>
                    <a:pt x="336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67080" y="502884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1480" y="502884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95880" y="5028840"/>
              <a:ext cx="6098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ic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86400" y="57909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éléph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934320" y="5028840"/>
              <a:ext cx="9903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    C    B   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153280" y="5028840"/>
              <a:ext cx="6098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our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53080" y="57909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mprima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96080" y="57909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ecteur C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10280" y="533376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38880" y="533376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7480" y="533376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48320" y="4647960"/>
              <a:ext cx="1904760" cy="380880"/>
            </a:xfrm>
            <a:custGeom>
              <a:avLst/>
              <a:gdLst/>
              <a:ahLst/>
              <a:rect l="l" t="t" r="r" b="b"/>
              <a:pathLst>
                <a:path w="1200" h="240">
                  <a:moveTo>
                    <a:pt x="1200" y="0"/>
                  </a:moveTo>
                  <a:lnTo>
                    <a:pt x="1200" y="48"/>
                  </a:lnTo>
                  <a:lnTo>
                    <a:pt x="0" y="48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62720" y="464796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768" y="0"/>
                  </a:moveTo>
                  <a:lnTo>
                    <a:pt x="768" y="96"/>
                  </a:lnTo>
                  <a:lnTo>
                    <a:pt x="0" y="96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400800" y="464796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384" y="0"/>
                  </a:moveTo>
                  <a:lnTo>
                    <a:pt x="38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38880" y="4647960"/>
              <a:ext cx="152640" cy="380880"/>
            </a:xfrm>
            <a:custGeom>
              <a:avLst/>
              <a:gdLst/>
              <a:ahLst/>
              <a:rect l="l" t="t" r="r" b="b"/>
              <a:pathLst>
                <a:path w="96" h="240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96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848720" y="464796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0" y="96"/>
                  </a:lnTo>
                  <a:lnTo>
                    <a:pt x="384" y="96"/>
                  </a:lnTo>
                  <a:lnTo>
                    <a:pt x="384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867280" y="5486040"/>
              <a:ext cx="1219320" cy="304920"/>
            </a:xfrm>
            <a:custGeom>
              <a:avLst/>
              <a:gdLst/>
              <a:ahLst/>
              <a:rect l="l" t="t" r="r" b="b"/>
              <a:pathLst>
                <a:path w="768" h="192">
                  <a:moveTo>
                    <a:pt x="768" y="0"/>
                  </a:moveTo>
                  <a:lnTo>
                    <a:pt x="768" y="48"/>
                  </a:lnTo>
                  <a:lnTo>
                    <a:pt x="0" y="48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934320" y="548604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lnTo>
                    <a:pt x="240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43800" y="548604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0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762120" y="327672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 signalisation 'Resume' remonte de proche en proche jusqu'au Root Hub, qui répond en la confirmant pendant 2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62120" y="2362320"/>
            <a:ext cx="5943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 Hub répond aussitôt (&lt;50us) en activant la signalisation 'Resume' vers tous ses ports aval validés, et vers son port amont (pendant 10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Economies d'énergi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62120" y="175248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 Device active la signalisation 'Resume'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D+ et D- actifs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à destination de son Hub, pendant 1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mote Wake-Up : 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veil à l'initiative d'un De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543800" y="32004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2057400" y="312408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56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4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 =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iversal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rial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initiale 1.0, devenue 1.1 en Septembre 19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finit 2 vitesses de fonctionnement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5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bps (</a:t>
            </a:r>
            <a:r>
              <a:rPr b="1" i="1" lang="en-GB" sz="1600" spc="-1" strike="noStrike">
                <a:solidFill>
                  <a:srgbClr val="cc0000"/>
                </a:solidFill>
                <a:latin typeface="Arial"/>
              </a:rPr>
              <a:t>Low Spee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M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ps (</a:t>
            </a:r>
            <a:r>
              <a:rPr b="1" i="1" lang="en-GB" sz="1600" spc="-1" strike="noStrike">
                <a:solidFill>
                  <a:srgbClr val="cc0000"/>
                </a:solidFill>
                <a:latin typeface="Arial"/>
              </a:rPr>
              <a:t>Full Spee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2.0  e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ri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orte toutes les ca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stiques de l'USB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,5 Mbps (Low Sp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 Mbps (Full Sp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joute une vitesse de 480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bps (</a:t>
            </a:r>
            <a:r>
              <a:rPr b="1" i="1" lang="en-GB" sz="1800" spc="-1" strike="noStrike">
                <a:solidFill>
                  <a:srgbClr val="cc0000"/>
                </a:solidFill>
                <a:latin typeface="Arial"/>
              </a:rPr>
              <a:t>High Spe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se l'utilisation de la bande pass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304920" y="1370880"/>
            <a:ext cx="8839080" cy="5033160"/>
            <a:chOff x="304920" y="1370880"/>
            <a:chExt cx="8839080" cy="5033160"/>
          </a:xfrm>
        </p:grpSpPr>
        <p:sp>
          <p:nvSpPr>
            <p:cNvPr id="986" name=""/>
            <p:cNvSpPr/>
            <p:nvPr/>
          </p:nvSpPr>
          <p:spPr>
            <a:xfrm>
              <a:off x="380880" y="1752480"/>
              <a:ext cx="2285640" cy="46515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920" y="3657600"/>
              <a:ext cx="8839080" cy="0"/>
            </a:xfrm>
            <a:prstGeom prst="line">
              <a:avLst/>
            </a:prstGeom>
            <a:ln w="1260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04920" y="5486400"/>
              <a:ext cx="8839080" cy="0"/>
            </a:xfrm>
            <a:prstGeom prst="line">
              <a:avLst/>
            </a:prstGeom>
            <a:ln w="1260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3889440"/>
              <a:ext cx="1675800" cy="53316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4422600"/>
              <a:ext cx="1675800" cy="53352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85800" y="5718240"/>
              <a:ext cx="1675800" cy="53316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90560" y="5562720"/>
              <a:ext cx="809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U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1760" y="1370880"/>
              <a:ext cx="14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Host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61960" y="5867280"/>
              <a:ext cx="1218960" cy="228600"/>
            </a:xfrm>
            <a:prstGeom prst="leftRightArrow">
              <a:avLst>
                <a:gd name="adj1" fmla="val 50000"/>
                <a:gd name="adj2" fmla="val 106152"/>
              </a:avLst>
            </a:prstGeom>
            <a:solidFill>
              <a:srgbClr val="4d4d4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6200000">
              <a:off x="1104480" y="5222520"/>
              <a:ext cx="762120" cy="228240"/>
            </a:xfrm>
            <a:prstGeom prst="leftRightArrow">
              <a:avLst>
                <a:gd name="adj1" fmla="val 50000"/>
                <a:gd name="adj2" fmla="val 66473"/>
              </a:avLst>
            </a:prstGeom>
            <a:solidFill>
              <a:srgbClr val="4d4d4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6200000">
              <a:off x="1104480" y="3390480"/>
              <a:ext cx="762120" cy="228240"/>
            </a:xfrm>
            <a:prstGeom prst="leftRightArrow">
              <a:avLst>
                <a:gd name="adj1" fmla="val 50000"/>
                <a:gd name="adj2" fmla="val 66473"/>
              </a:avLst>
            </a:prstGeom>
            <a:solidFill>
              <a:srgbClr val="4d4d4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14400" y="2514600"/>
              <a:ext cx="1523520" cy="4572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ient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90360" y="1828800"/>
              <a:ext cx="1523880" cy="4572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38080" y="1905120"/>
              <a:ext cx="152352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5800" y="1981080"/>
              <a:ext cx="152352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38080" y="2590920"/>
              <a:ext cx="152352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ient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2666880"/>
              <a:ext cx="152352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Clien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6200000">
              <a:off x="1371240" y="2437920"/>
              <a:ext cx="228600" cy="228240"/>
            </a:xfrm>
            <a:prstGeom prst="leftRightArrow">
              <a:avLst>
                <a:gd name="adj1" fmla="val 50000"/>
                <a:gd name="adj2" fmla="val 19938"/>
              </a:avLst>
            </a:prstGeom>
            <a:solidFill>
              <a:srgbClr val="4d4d4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010280" y="4799520"/>
            <a:ext cx="1905120" cy="610560"/>
            <a:chOff x="7010280" y="4799520"/>
            <a:chExt cx="1905120" cy="610560"/>
          </a:xfrm>
        </p:grpSpPr>
        <p:sp>
          <p:nvSpPr>
            <p:cNvPr id="1005" name=""/>
            <p:cNvSpPr/>
            <p:nvPr/>
          </p:nvSpPr>
          <p:spPr>
            <a:xfrm>
              <a:off x="7010280" y="4800600"/>
              <a:ext cx="190512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92240" y="4799520"/>
              <a:ext cx="794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rame n+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4952880" y="4799520"/>
            <a:ext cx="1905120" cy="610560"/>
            <a:chOff x="4952880" y="4799520"/>
            <a:chExt cx="1905120" cy="610560"/>
          </a:xfrm>
        </p:grpSpPr>
        <p:sp>
          <p:nvSpPr>
            <p:cNvPr id="1008" name=""/>
            <p:cNvSpPr/>
            <p:nvPr/>
          </p:nvSpPr>
          <p:spPr>
            <a:xfrm>
              <a:off x="4952880" y="4800600"/>
              <a:ext cx="190512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92160" y="4799520"/>
              <a:ext cx="794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rame n+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895480" y="4799520"/>
            <a:ext cx="1905120" cy="610560"/>
            <a:chOff x="2895480" y="4799520"/>
            <a:chExt cx="1905120" cy="610560"/>
          </a:xfrm>
        </p:grpSpPr>
        <p:sp>
          <p:nvSpPr>
            <p:cNvPr id="1011" name=""/>
            <p:cNvSpPr/>
            <p:nvPr/>
          </p:nvSpPr>
          <p:spPr>
            <a:xfrm>
              <a:off x="2895480" y="4800600"/>
              <a:ext cx="190512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05680" y="4799520"/>
              <a:ext cx="6516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rame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5791320" y="3657600"/>
            <a:ext cx="3200400" cy="762120"/>
            <a:chOff x="5791320" y="3657600"/>
            <a:chExt cx="3200400" cy="762120"/>
          </a:xfrm>
        </p:grpSpPr>
        <p:sp>
          <p:nvSpPr>
            <p:cNvPr id="1014" name=""/>
            <p:cNvSpPr/>
            <p:nvPr/>
          </p:nvSpPr>
          <p:spPr>
            <a:xfrm>
              <a:off x="5791320" y="3809880"/>
              <a:ext cx="3200400" cy="609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016400" y="3809880"/>
              <a:ext cx="807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ransfer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91320" y="3657600"/>
              <a:ext cx="3200400" cy="152280"/>
            </a:xfrm>
            <a:custGeom>
              <a:avLst/>
              <a:gdLst/>
              <a:ahLst/>
              <a:rect l="l" t="t" r="r" b="b"/>
              <a:pathLst>
                <a:path w="2016" h="96">
                  <a:moveTo>
                    <a:pt x="960" y="0"/>
                  </a:moveTo>
                  <a:lnTo>
                    <a:pt x="0" y="96"/>
                  </a:lnTo>
                  <a:lnTo>
                    <a:pt x="2016" y="96"/>
                  </a:lnTo>
                  <a:lnTo>
                    <a:pt x="960" y="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3048120" y="3657600"/>
            <a:ext cx="2361960" cy="762120"/>
            <a:chOff x="3048120" y="3657600"/>
            <a:chExt cx="2361960" cy="762120"/>
          </a:xfrm>
        </p:grpSpPr>
        <p:sp>
          <p:nvSpPr>
            <p:cNvPr id="1018" name=""/>
            <p:cNvSpPr/>
            <p:nvPr/>
          </p:nvSpPr>
          <p:spPr>
            <a:xfrm>
              <a:off x="3048120" y="3809880"/>
              <a:ext cx="2361960" cy="6098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91960" y="3809880"/>
              <a:ext cx="807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ransfer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48120" y="3657600"/>
              <a:ext cx="2361960" cy="152280"/>
            </a:xfrm>
            <a:custGeom>
              <a:avLst/>
              <a:gdLst/>
              <a:ahLst/>
              <a:rect l="l" t="t" r="r" b="b"/>
              <a:pathLst>
                <a:path w="1488" h="96">
                  <a:moveTo>
                    <a:pt x="0" y="96"/>
                  </a:moveTo>
                  <a:lnTo>
                    <a:pt x="768" y="0"/>
                  </a:lnTo>
                  <a:lnTo>
                    <a:pt x="1488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99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124080" y="4038480"/>
            <a:ext cx="68580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4038480"/>
            <a:ext cx="68580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648320" y="4038480"/>
            <a:ext cx="68580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867280" y="4038480"/>
            <a:ext cx="6858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629400" y="4038480"/>
            <a:ext cx="76212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67480" y="4038480"/>
            <a:ext cx="6858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229600" y="4038480"/>
            <a:ext cx="6858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971800" y="5029200"/>
            <a:ext cx="83664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86200" y="5029200"/>
            <a:ext cx="83664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029200" y="5029200"/>
            <a:ext cx="83664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943600" y="5029200"/>
            <a:ext cx="83664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086600" y="5029200"/>
            <a:ext cx="83664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001000" y="5029200"/>
            <a:ext cx="83664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971800" y="5334120"/>
            <a:ext cx="3276720" cy="838080"/>
            <a:chOff x="2971800" y="5334120"/>
            <a:chExt cx="3276720" cy="838080"/>
          </a:xfrm>
        </p:grpSpPr>
        <p:sp>
          <p:nvSpPr>
            <p:cNvPr id="1036" name=""/>
            <p:cNvSpPr/>
            <p:nvPr/>
          </p:nvSpPr>
          <p:spPr>
            <a:xfrm>
              <a:off x="2971800" y="5334120"/>
              <a:ext cx="3276720" cy="533160"/>
            </a:xfrm>
            <a:custGeom>
              <a:avLst/>
              <a:gdLst/>
              <a:ahLst/>
              <a:rect l="l" t="t" r="r" b="b"/>
              <a:pathLst>
                <a:path w="2064" h="336">
                  <a:moveTo>
                    <a:pt x="0" y="0"/>
                  </a:moveTo>
                  <a:lnTo>
                    <a:pt x="432" y="336"/>
                  </a:lnTo>
                  <a:lnTo>
                    <a:pt x="2064" y="336"/>
                  </a:lnTo>
                  <a:lnTo>
                    <a:pt x="528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57600" y="5867280"/>
              <a:ext cx="76032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419720" y="5867280"/>
              <a:ext cx="106668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86400" y="5867280"/>
              <a:ext cx="76212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3886200" y="5334120"/>
            <a:ext cx="5105520" cy="838080"/>
            <a:chOff x="3886200" y="5334120"/>
            <a:chExt cx="5105520" cy="838080"/>
          </a:xfrm>
        </p:grpSpPr>
        <p:sp>
          <p:nvSpPr>
            <p:cNvPr id="1041" name=""/>
            <p:cNvSpPr/>
            <p:nvPr/>
          </p:nvSpPr>
          <p:spPr>
            <a:xfrm>
              <a:off x="3886200" y="5334120"/>
              <a:ext cx="5105520" cy="533160"/>
            </a:xfrm>
            <a:custGeom>
              <a:avLst/>
              <a:gdLst/>
              <a:ahLst/>
              <a:rect l="l" t="t" r="r" b="b"/>
              <a:pathLst>
                <a:path w="3216" h="336">
                  <a:moveTo>
                    <a:pt x="0" y="0"/>
                  </a:moveTo>
                  <a:lnTo>
                    <a:pt x="1584" y="336"/>
                  </a:lnTo>
                  <a:lnTo>
                    <a:pt x="3216" y="336"/>
                  </a:lnTo>
                  <a:lnTo>
                    <a:pt x="52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00800" y="5867280"/>
              <a:ext cx="76032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62920" y="5867280"/>
              <a:ext cx="106668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229600" y="5867280"/>
              <a:ext cx="76212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 flipH="1">
            <a:off x="3352680" y="434340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91120" y="4343400"/>
            <a:ext cx="3200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4267080" y="434340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5181480" y="4343400"/>
            <a:ext cx="1828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400800" y="43434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8458200" y="434340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3816000" y="3276720"/>
            <a:ext cx="3983400" cy="380880"/>
            <a:chOff x="3816000" y="3276720"/>
            <a:chExt cx="3983400" cy="380880"/>
          </a:xfrm>
        </p:grpSpPr>
        <p:sp>
          <p:nvSpPr>
            <p:cNvPr id="1052" name=""/>
            <p:cNvSpPr/>
            <p:nvPr/>
          </p:nvSpPr>
          <p:spPr>
            <a:xfrm>
              <a:off x="426708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816000" y="3276720"/>
              <a:ext cx="478080" cy="299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1520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21320" y="3276720"/>
              <a:ext cx="478080" cy="299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685800" y="1294200"/>
            <a:ext cx="7924680" cy="1829880"/>
            <a:chOff x="685800" y="1294200"/>
            <a:chExt cx="7924680" cy="1829880"/>
          </a:xfrm>
        </p:grpSpPr>
        <p:sp>
          <p:nvSpPr>
            <p:cNvPr id="1057" name=""/>
            <p:cNvSpPr/>
            <p:nvPr/>
          </p:nvSpPr>
          <p:spPr>
            <a:xfrm>
              <a:off x="2666880" y="1294200"/>
              <a:ext cx="5943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1)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lient Drivers (Device Drivers)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communiquent les demandes de transfert des applications via des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IRP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I/O Request Pack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5800" y="1981080"/>
              <a:ext cx="1523880" cy="4572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85800" y="2666880"/>
              <a:ext cx="1523880" cy="4572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Clien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685800" y="1904040"/>
            <a:ext cx="7924680" cy="2515680"/>
            <a:chOff x="685800" y="1904040"/>
            <a:chExt cx="7924680" cy="2515680"/>
          </a:xfrm>
        </p:grpSpPr>
        <p:sp>
          <p:nvSpPr>
            <p:cNvPr id="1061" name=""/>
            <p:cNvSpPr/>
            <p:nvPr/>
          </p:nvSpPr>
          <p:spPr>
            <a:xfrm>
              <a:off x="2666880" y="1904040"/>
              <a:ext cx="59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USB drive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 traduit chaque transfert en une suite de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85800" y="3886200"/>
              <a:ext cx="1676520" cy="53352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85800" y="1981080"/>
              <a:ext cx="15238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5800" y="2666880"/>
              <a:ext cx="15238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Clien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85800" y="2284920"/>
            <a:ext cx="7772400" cy="2667960"/>
            <a:chOff x="685800" y="2284920"/>
            <a:chExt cx="7772400" cy="2667960"/>
          </a:xfrm>
        </p:grpSpPr>
        <p:sp>
          <p:nvSpPr>
            <p:cNvPr id="1066" name=""/>
            <p:cNvSpPr/>
            <p:nvPr/>
          </p:nvSpPr>
          <p:spPr>
            <a:xfrm>
              <a:off x="2667240" y="2284920"/>
              <a:ext cx="579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3)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USB Host Controller drive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regroupe les transactions en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tra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85800" y="4419720"/>
              <a:ext cx="1676520" cy="53316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85800" y="3886200"/>
              <a:ext cx="1676520" cy="533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685800" y="2665800"/>
            <a:ext cx="8077320" cy="3582720"/>
            <a:chOff x="685800" y="2665800"/>
            <a:chExt cx="8077320" cy="3582720"/>
          </a:xfrm>
        </p:grpSpPr>
        <p:sp>
          <p:nvSpPr>
            <p:cNvPr id="1070" name=""/>
            <p:cNvSpPr/>
            <p:nvPr/>
          </p:nvSpPr>
          <p:spPr>
            <a:xfrm>
              <a:off x="2666880" y="2665800"/>
              <a:ext cx="6096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)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traduit les transactions en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paquets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enchaine les tra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5800" y="5715000"/>
              <a:ext cx="1676520" cy="53352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85800" y="4419720"/>
              <a:ext cx="1676520" cy="5331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685800" y="5715000"/>
            <a:ext cx="167652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 Host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entité de transfert sur l'USB est la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Trans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transaction est généralement constituée de 3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ack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uxtaposés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knowledge (H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ke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Transf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composé d'une success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on atomiqu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trans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809880" y="3962520"/>
            <a:ext cx="836640" cy="304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ken Pa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48320" y="3962520"/>
            <a:ext cx="1066680" cy="304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Pa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15000" y="3962520"/>
            <a:ext cx="836640" cy="304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 Pa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603080" y="4724640"/>
            <a:ext cx="1918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 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sens de transf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105080" y="4724640"/>
            <a:ext cx="23446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onnées u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longueur pre-négocié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629040" y="4723920"/>
            <a:ext cx="199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usé de ré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3124080" y="4343400"/>
            <a:ext cx="10670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18148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43434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rot="5400000">
            <a:off x="5105160" y="2361960"/>
            <a:ext cx="152280" cy="2743200"/>
          </a:xfrm>
          <a:custGeom>
            <a:avLst/>
            <a:gdLst>
              <a:gd name="textAreaLeft" fmla="*/ 97200 w 152280"/>
              <a:gd name="textAreaRight" fmla="*/ 152640 w 1522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22120" y="3427920"/>
            <a:ext cx="9792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6324480" y="3200400"/>
            <a:ext cx="685800" cy="2057400"/>
          </a:xfrm>
          <a:custGeom>
            <a:avLst/>
            <a:gdLst/>
            <a:ahLst/>
            <a:rect l="l" t="t" r="r" b="b"/>
            <a:pathLst>
              <a:path w="432" h="1296">
                <a:moveTo>
                  <a:pt x="0" y="1296"/>
                </a:moveTo>
                <a:lnTo>
                  <a:pt x="0" y="768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162920" y="3200400"/>
            <a:ext cx="457200" cy="2057400"/>
          </a:xfrm>
          <a:custGeom>
            <a:avLst/>
            <a:gdLst/>
            <a:ahLst/>
            <a:rect l="l" t="t" r="r" b="b"/>
            <a:pathLst>
              <a:path w="288" h="1296">
                <a:moveTo>
                  <a:pt x="0" y="1296"/>
                </a:moveTo>
                <a:lnTo>
                  <a:pt x="0" y="768"/>
                </a:lnTo>
                <a:lnTo>
                  <a:pt x="288" y="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990720" y="3200400"/>
            <a:ext cx="30456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528"/>
                </a:lnTo>
                <a:lnTo>
                  <a:pt x="192" y="120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590920" y="3200400"/>
            <a:ext cx="1143000" cy="1905120"/>
          </a:xfrm>
          <a:custGeom>
            <a:avLst/>
            <a:gdLst/>
            <a:ahLst/>
            <a:rect l="l" t="t" r="r" b="b"/>
            <a:pathLst>
              <a:path w="720" h="1200">
                <a:moveTo>
                  <a:pt x="0" y="0"/>
                </a:moveTo>
                <a:lnTo>
                  <a:pt x="720" y="528"/>
                </a:lnTo>
                <a:lnTo>
                  <a:pt x="720" y="120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419720" y="2209320"/>
            <a:ext cx="823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qu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78600" y="1672200"/>
            <a:ext cx="2533320" cy="31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ucture des Paqu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90720" y="2819520"/>
            <a:ext cx="16002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590920" y="2819520"/>
            <a:ext cx="1218960" cy="304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et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809880" y="2819520"/>
            <a:ext cx="2590920" cy="304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et Specific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00800" y="2819520"/>
            <a:ext cx="609480" cy="304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010280" y="2819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2514600"/>
            <a:ext cx="2209680" cy="152280"/>
          </a:xfrm>
          <a:custGeom>
            <a:avLst/>
            <a:gdLst/>
            <a:ahLst/>
            <a:rect l="l" t="t" r="r" b="b"/>
            <a:pathLst>
              <a:path w="1584" h="96">
                <a:moveTo>
                  <a:pt x="0" y="96"/>
                </a:moveTo>
                <a:lnTo>
                  <a:pt x="48" y="48"/>
                </a:lnTo>
                <a:lnTo>
                  <a:pt x="1536" y="48"/>
                </a:lnTo>
                <a:lnTo>
                  <a:pt x="15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4800600" y="2514600"/>
            <a:ext cx="2209680" cy="152280"/>
          </a:xfrm>
          <a:custGeom>
            <a:avLst/>
            <a:gdLst/>
            <a:ahLst/>
            <a:rect l="l" t="t" r="r" b="b"/>
            <a:pathLst>
              <a:path w="1584" h="96">
                <a:moveTo>
                  <a:pt x="0" y="96"/>
                </a:moveTo>
                <a:lnTo>
                  <a:pt x="48" y="48"/>
                </a:lnTo>
                <a:lnTo>
                  <a:pt x="1536" y="48"/>
                </a:lnTo>
                <a:lnTo>
                  <a:pt x="15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11400" y="4114440"/>
            <a:ext cx="6091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11760" y="4647600"/>
            <a:ext cx="653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29528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0020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9051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0968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51460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8195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12408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29492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90440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59948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51388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20932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2372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1880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42828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66680" y="4724280"/>
            <a:ext cx="838440" cy="228600"/>
          </a:xfrm>
          <a:custGeom>
            <a:avLst/>
            <a:gdLst/>
            <a:ahLst/>
            <a:rect l="l" t="t" r="r" b="b"/>
            <a:pathLst>
              <a:path w="528" h="144">
                <a:moveTo>
                  <a:pt x="0" y="0"/>
                </a:moveTo>
                <a:lnTo>
                  <a:pt x="144" y="0"/>
                </a:lnTo>
                <a:lnTo>
                  <a:pt x="144" y="144"/>
                </a:lnTo>
                <a:lnTo>
                  <a:pt x="336" y="144"/>
                </a:lnTo>
                <a:lnTo>
                  <a:pt x="336" y="0"/>
                </a:lnTo>
                <a:lnTo>
                  <a:pt x="480" y="0"/>
                </a:lnTo>
                <a:lnTo>
                  <a:pt x="528" y="0"/>
                </a:lnTo>
                <a:lnTo>
                  <a:pt x="528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905120" y="4724280"/>
            <a:ext cx="6094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lnTo>
                  <a:pt x="192" y="144"/>
                </a:lnTo>
                <a:lnTo>
                  <a:pt x="192" y="0"/>
                </a:lnTo>
                <a:lnTo>
                  <a:pt x="384" y="0"/>
                </a:lnTo>
                <a:lnTo>
                  <a:pt x="384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14600" y="4724280"/>
            <a:ext cx="6094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lnTo>
                  <a:pt x="192" y="144"/>
                </a:lnTo>
                <a:lnTo>
                  <a:pt x="192" y="0"/>
                </a:lnTo>
                <a:lnTo>
                  <a:pt x="384" y="0"/>
                </a:lnTo>
                <a:lnTo>
                  <a:pt x="384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066680" y="41911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144"/>
                </a:move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4952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429000" y="41911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144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019920" y="4572000"/>
            <a:ext cx="1371600" cy="304920"/>
            <a:chOff x="6019920" y="4572000"/>
            <a:chExt cx="1371600" cy="304920"/>
          </a:xfrm>
        </p:grpSpPr>
        <p:sp>
          <p:nvSpPr>
            <p:cNvPr id="1124" name=""/>
            <p:cNvSpPr/>
            <p:nvPr/>
          </p:nvSpPr>
          <p:spPr>
            <a:xfrm>
              <a:off x="6019920" y="4572000"/>
              <a:ext cx="1371600" cy="304920"/>
            </a:xfrm>
            <a:custGeom>
              <a:avLst/>
              <a:gdLst/>
              <a:ahLst/>
              <a:rect l="l" t="t" r="r" b="b"/>
              <a:pathLst>
                <a:path w="1248" h="384">
                  <a:moveTo>
                    <a:pt x="0" y="0"/>
                  </a:moveTo>
                  <a:lnTo>
                    <a:pt x="240" y="0"/>
                  </a:lnTo>
                  <a:lnTo>
                    <a:pt x="336" y="384"/>
                  </a:lnTo>
                  <a:lnTo>
                    <a:pt x="1008" y="384"/>
                  </a:lnTo>
                  <a:lnTo>
                    <a:pt x="1104" y="0"/>
                  </a:lnTo>
                  <a:lnTo>
                    <a:pt x="12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019920" y="4724280"/>
              <a:ext cx="1371600" cy="15228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0" y="192"/>
                  </a:moveTo>
                  <a:lnTo>
                    <a:pt x="240" y="192"/>
                  </a:lnTo>
                  <a:lnTo>
                    <a:pt x="288" y="0"/>
                  </a:lnTo>
                  <a:lnTo>
                    <a:pt x="336" y="192"/>
                  </a:lnTo>
                  <a:lnTo>
                    <a:pt x="1008" y="192"/>
                  </a:lnTo>
                  <a:lnTo>
                    <a:pt x="1056" y="0"/>
                  </a:lnTo>
                  <a:lnTo>
                    <a:pt x="1104" y="192"/>
                  </a:lnTo>
                  <a:lnTo>
                    <a:pt x="124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"/>
          <p:cNvSpPr/>
          <p:nvPr/>
        </p:nvSpPr>
        <p:spPr>
          <a:xfrm>
            <a:off x="5258520" y="4571640"/>
            <a:ext cx="715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+/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95280" y="5257800"/>
            <a:ext cx="2438640" cy="0"/>
          </a:xfrm>
          <a:prstGeom prst="line">
            <a:avLst/>
          </a:prstGeom>
          <a:ln w="12600">
            <a:solidFill>
              <a:srgbClr val="def3f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31560" y="50281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8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474960" y="51044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24480" y="5334120"/>
            <a:ext cx="838440" cy="0"/>
          </a:xfrm>
          <a:prstGeom prst="line">
            <a:avLst/>
          </a:prstGeom>
          <a:ln w="12600">
            <a:solidFill>
              <a:srgbClr val="def3f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4856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Transferts, Transactions et Paque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"/>
          <p:cNvGraphicFramePr/>
          <p:nvPr/>
        </p:nvGraphicFramePr>
        <p:xfrm>
          <a:off x="4098960" y="1467000"/>
          <a:ext cx="3676680" cy="109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8960" y="1467000"/>
                    <a:ext cx="36766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"/>
          <p:cNvSpPr/>
          <p:nvPr/>
        </p:nvSpPr>
        <p:spPr>
          <a:xfrm>
            <a:off x="1219320" y="228600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qu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4114800" y="2743200"/>
          <a:ext cx="3676680" cy="1077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2743200"/>
                    <a:ext cx="36766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3429000" y="4114800"/>
          <a:ext cx="5429160" cy="1093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14800"/>
                    <a:ext cx="5429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"/>
          <p:cNvSpPr/>
          <p:nvPr/>
        </p:nvSpPr>
        <p:spPr>
          <a:xfrm>
            <a:off x="1143000" y="4343400"/>
            <a:ext cx="141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qu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1" name=""/>
          <p:cNvGraphicFramePr/>
          <p:nvPr/>
        </p:nvGraphicFramePr>
        <p:xfrm>
          <a:off x="4191120" y="5410080"/>
          <a:ext cx="1085760" cy="66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5410080"/>
                    <a:ext cx="1085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"/>
          <p:cNvSpPr/>
          <p:nvPr/>
        </p:nvSpPr>
        <p:spPr>
          <a:xfrm>
            <a:off x="1141920" y="5638680"/>
            <a:ext cx="201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qu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andsh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345920" y="20574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25840" y="335268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631320" y="47721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352680" y="1752480"/>
            <a:ext cx="152640" cy="152424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lnTo>
                  <a:pt x="48" y="48"/>
                </a:lnTo>
                <a:lnTo>
                  <a:pt x="48" y="432"/>
                </a:lnTo>
                <a:lnTo>
                  <a:pt x="0" y="480"/>
                </a:lnTo>
                <a:lnTo>
                  <a:pt x="48" y="528"/>
                </a:lnTo>
                <a:lnTo>
                  <a:pt x="48" y="912"/>
                </a:lnTo>
                <a:lnTo>
                  <a:pt x="96" y="960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2040" y="6019920"/>
            <a:ext cx="56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ef3f8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ef3f8"/>
                </a:solidFill>
                <a:latin typeface="Arial"/>
              </a:rPr>
              <a:t>N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ef3f8"/>
                </a:solidFill>
                <a:latin typeface="Arial"/>
              </a:rPr>
              <a:t>ST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Transferts, Transactions et Paque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53240" y="1371960"/>
            <a:ext cx="28166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mat des Paqu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57560" y="1371960"/>
            <a:ext cx="4399920" cy="37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 de transaction IN e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523880" y="312408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449568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2133720" y="2438280"/>
            <a:ext cx="609480" cy="380880"/>
            <a:chOff x="2133720" y="2438280"/>
            <a:chExt cx="609480" cy="380880"/>
          </a:xfrm>
        </p:grpSpPr>
        <p:sp>
          <p:nvSpPr>
            <p:cNvPr id="1156" name=""/>
            <p:cNvSpPr/>
            <p:nvPr/>
          </p:nvSpPr>
          <p:spPr>
            <a:xfrm>
              <a:off x="2133720" y="251460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38640" y="2438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38640" y="2743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6095880" y="2438280"/>
            <a:ext cx="609480" cy="380880"/>
            <a:chOff x="6095880" y="2438280"/>
            <a:chExt cx="609480" cy="380880"/>
          </a:xfrm>
        </p:grpSpPr>
        <p:sp>
          <p:nvSpPr>
            <p:cNvPr id="1160" name=""/>
            <p:cNvSpPr/>
            <p:nvPr/>
          </p:nvSpPr>
          <p:spPr>
            <a:xfrm>
              <a:off x="6095880" y="251460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400800" y="2438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400800" y="2743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6095880" y="3581280"/>
            <a:ext cx="609480" cy="380880"/>
            <a:chOff x="6095880" y="3581280"/>
            <a:chExt cx="609480" cy="380880"/>
          </a:xfrm>
        </p:grpSpPr>
        <p:sp>
          <p:nvSpPr>
            <p:cNvPr id="1164" name=""/>
            <p:cNvSpPr/>
            <p:nvPr/>
          </p:nvSpPr>
          <p:spPr>
            <a:xfrm>
              <a:off x="6095880" y="365760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400800" y="3581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400800" y="3886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2133720" y="3581280"/>
            <a:ext cx="609480" cy="380880"/>
            <a:chOff x="2133720" y="3581280"/>
            <a:chExt cx="609480" cy="380880"/>
          </a:xfrm>
        </p:grpSpPr>
        <p:sp>
          <p:nvSpPr>
            <p:cNvPr id="1168" name=""/>
            <p:cNvSpPr/>
            <p:nvPr/>
          </p:nvSpPr>
          <p:spPr>
            <a:xfrm>
              <a:off x="2133720" y="3657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438640" y="3581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38640" y="3886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895480" y="4648320"/>
            <a:ext cx="609480" cy="380880"/>
            <a:chOff x="2895480" y="4648320"/>
            <a:chExt cx="609480" cy="380880"/>
          </a:xfrm>
        </p:grpSpPr>
        <p:sp>
          <p:nvSpPr>
            <p:cNvPr id="1172" name=""/>
            <p:cNvSpPr/>
            <p:nvPr/>
          </p:nvSpPr>
          <p:spPr>
            <a:xfrm>
              <a:off x="2895480" y="472464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20040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0040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3581280" y="4648320"/>
            <a:ext cx="609480" cy="380880"/>
            <a:chOff x="3581280" y="4648320"/>
            <a:chExt cx="609480" cy="380880"/>
          </a:xfrm>
        </p:grpSpPr>
        <p:sp>
          <p:nvSpPr>
            <p:cNvPr id="1176" name=""/>
            <p:cNvSpPr/>
            <p:nvPr/>
          </p:nvSpPr>
          <p:spPr>
            <a:xfrm>
              <a:off x="3581280" y="472464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8620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8620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133720" y="4648320"/>
            <a:ext cx="609480" cy="380880"/>
            <a:chOff x="2133720" y="4648320"/>
            <a:chExt cx="609480" cy="380880"/>
          </a:xfrm>
        </p:grpSpPr>
        <p:sp>
          <p:nvSpPr>
            <p:cNvPr id="1180" name=""/>
            <p:cNvSpPr/>
            <p:nvPr/>
          </p:nvSpPr>
          <p:spPr>
            <a:xfrm>
              <a:off x="2133720" y="472464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43864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43864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2438280" y="2819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38280" y="2743200"/>
            <a:ext cx="762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438280" y="2743200"/>
            <a:ext cx="1447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43828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095880" y="4648320"/>
            <a:ext cx="609480" cy="380880"/>
            <a:chOff x="6095880" y="4648320"/>
            <a:chExt cx="609480" cy="380880"/>
          </a:xfrm>
        </p:grpSpPr>
        <p:sp>
          <p:nvSpPr>
            <p:cNvPr id="1189" name=""/>
            <p:cNvSpPr/>
            <p:nvPr/>
          </p:nvSpPr>
          <p:spPr>
            <a:xfrm>
              <a:off x="6095880" y="472464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40080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40080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5410080" y="4648320"/>
            <a:ext cx="609480" cy="380880"/>
            <a:chOff x="5410080" y="4648320"/>
            <a:chExt cx="609480" cy="380880"/>
          </a:xfrm>
        </p:grpSpPr>
        <p:sp>
          <p:nvSpPr>
            <p:cNvPr id="1193" name=""/>
            <p:cNvSpPr/>
            <p:nvPr/>
          </p:nvSpPr>
          <p:spPr>
            <a:xfrm>
              <a:off x="5410080" y="472464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1500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1500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781680" y="4648320"/>
            <a:ext cx="609480" cy="380880"/>
            <a:chOff x="6781680" y="4648320"/>
            <a:chExt cx="609480" cy="380880"/>
          </a:xfrm>
        </p:grpSpPr>
        <p:sp>
          <p:nvSpPr>
            <p:cNvPr id="1197" name=""/>
            <p:cNvSpPr/>
            <p:nvPr/>
          </p:nvSpPr>
          <p:spPr>
            <a:xfrm>
              <a:off x="6781680" y="472464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08660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8660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6400800" y="2819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400800" y="3962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714640" y="38862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38862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200400" y="502920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86200" y="502920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15000" y="502920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110960" y="2286000"/>
            <a:ext cx="1240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111320" y="3200400"/>
            <a:ext cx="1141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034640" y="4495680"/>
            <a:ext cx="15426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ndsh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006440" y="198108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101320" y="3200400"/>
            <a:ext cx="11174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438280" y="4114800"/>
            <a:ext cx="43020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438280" y="2209680"/>
            <a:ext cx="198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48320" y="2209680"/>
            <a:ext cx="1752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511760" y="525780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597000" y="3962520"/>
            <a:ext cx="1117440" cy="25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139800" y="3200400"/>
            <a:ext cx="11174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400800" y="3886200"/>
            <a:ext cx="1143000" cy="1523880"/>
          </a:xfrm>
          <a:custGeom>
            <a:avLst/>
            <a:gdLst/>
            <a:ahLst/>
            <a:rect l="l" t="t" r="r" b="b"/>
            <a:pathLst>
              <a:path w="720" h="960">
                <a:moveTo>
                  <a:pt x="0" y="0"/>
                </a:moveTo>
                <a:lnTo>
                  <a:pt x="384" y="192"/>
                </a:lnTo>
                <a:lnTo>
                  <a:pt x="624" y="192"/>
                </a:lnTo>
                <a:lnTo>
                  <a:pt x="672" y="240"/>
                </a:lnTo>
                <a:lnTo>
                  <a:pt x="672" y="912"/>
                </a:lnTo>
                <a:lnTo>
                  <a:pt x="720" y="9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400800" y="502920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086600" y="502920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438280" y="42670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672"/>
                </a:lnTo>
                <a:lnTo>
                  <a:pt x="288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438280" y="3276720"/>
            <a:ext cx="381240" cy="1143000"/>
          </a:xfrm>
          <a:custGeom>
            <a:avLst/>
            <a:gdLst/>
            <a:ahLst/>
            <a:rect l="l" t="t" r="r" b="b"/>
            <a:pathLst>
              <a:path w="240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3200400" y="3581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86200" y="3581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400800" y="3276720"/>
            <a:ext cx="1066680" cy="99036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lnTo>
                  <a:pt x="48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38280" y="5334120"/>
            <a:ext cx="5486400" cy="75960"/>
          </a:xfrm>
          <a:custGeom>
            <a:avLst/>
            <a:gdLst/>
            <a:ahLst/>
            <a:rect l="l" t="t" r="r" b="b"/>
            <a:pathLst>
              <a:path w="3456" h="48">
                <a:moveTo>
                  <a:pt x="0" y="0"/>
                </a:moveTo>
                <a:lnTo>
                  <a:pt x="48" y="48"/>
                </a:lnTo>
                <a:lnTo>
                  <a:pt x="345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862360" y="6019920"/>
            <a:ext cx="134928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90080" y="6019920"/>
            <a:ext cx="15548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3809880" y="5943600"/>
            <a:ext cx="609480" cy="380880"/>
            <a:chOff x="3809880" y="5943600"/>
            <a:chExt cx="609480" cy="380880"/>
          </a:xfrm>
        </p:grpSpPr>
        <p:sp>
          <p:nvSpPr>
            <p:cNvPr id="1230" name=""/>
            <p:cNvSpPr/>
            <p:nvPr/>
          </p:nvSpPr>
          <p:spPr>
            <a:xfrm>
              <a:off x="3809880" y="6019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1148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148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5867280" y="5943600"/>
            <a:ext cx="609480" cy="380880"/>
            <a:chOff x="5867280" y="5943600"/>
            <a:chExt cx="609480" cy="380880"/>
          </a:xfrm>
        </p:grpSpPr>
        <p:sp>
          <p:nvSpPr>
            <p:cNvPr id="1234" name=""/>
            <p:cNvSpPr/>
            <p:nvPr/>
          </p:nvSpPr>
          <p:spPr>
            <a:xfrm>
              <a:off x="5867280" y="6019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33520" y="1828800"/>
            <a:ext cx="7924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noAutofit/>
          </a:bodyPr>
          <a:p>
            <a:pPr marL="457200" indent="-457200">
              <a:lnSpc>
                <a:spcPct val="93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 de Fl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3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 Host controller ench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 les transactions constituant un transfert au rythme optimum convenu lors de l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3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'il le souhaite un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que peut ignorer/refuser une transaction et demander sa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ion 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eure, en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ndant 'NAK'. Exemp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3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que n'ayant pas d'information particul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igna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3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tement de la transaction p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nte non ter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222120" y="1219320"/>
            <a:ext cx="353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es de transferts OU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228600" y="1981080"/>
            <a:ext cx="3733920" cy="1076760"/>
            <a:chOff x="228600" y="1981080"/>
            <a:chExt cx="3733920" cy="1076760"/>
          </a:xfrm>
        </p:grpSpPr>
        <p:sp>
          <p:nvSpPr>
            <p:cNvPr id="1242" name=""/>
            <p:cNvSpPr/>
            <p:nvPr/>
          </p:nvSpPr>
          <p:spPr>
            <a:xfrm>
              <a:off x="3048120" y="1981080"/>
              <a:ext cx="533160" cy="1067040"/>
            </a:xfrm>
            <a:custGeom>
              <a:avLst/>
              <a:gdLst>
                <a:gd name="textAreaLeft" fmla="*/ 25920 w 533160"/>
                <a:gd name="textAreaRight" fmla="*/ 507240 w 53316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215">
                  <a:moveTo>
                    <a:pt x="3600" y="0"/>
                  </a:moveTo>
                  <a:arcTo wR="3600" hR="3600" stAng="16200000" swAng="-5400000"/>
                  <a:lnTo>
                    <a:pt x="0" y="39615"/>
                  </a:lnTo>
                  <a:arcTo wR="3600" hR="3600" stAng="10800000" swAng="-5400000"/>
                  <a:lnTo>
                    <a:pt x="18000" y="43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371600" y="19810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8600" y="19810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492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35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21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907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4792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676520" y="2057400"/>
              <a:ext cx="99036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6688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00400" y="20574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9960" y="28188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58240" y="28188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054600" y="28188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57600" y="2514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3962520" y="1981080"/>
            <a:ext cx="3733560" cy="1076760"/>
            <a:chOff x="3962520" y="1981080"/>
            <a:chExt cx="3733560" cy="1076760"/>
          </a:xfrm>
        </p:grpSpPr>
        <p:sp>
          <p:nvSpPr>
            <p:cNvPr id="1258" name=""/>
            <p:cNvSpPr/>
            <p:nvPr/>
          </p:nvSpPr>
          <p:spPr>
            <a:xfrm>
              <a:off x="6781680" y="1981080"/>
              <a:ext cx="533520" cy="106704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185">
                  <a:moveTo>
                    <a:pt x="3600" y="0"/>
                  </a:moveTo>
                  <a:arcTo wR="3600" hR="3600" stAng="16200000" swAng="-5400000"/>
                  <a:lnTo>
                    <a:pt x="0" y="39585"/>
                  </a:lnTo>
                  <a:arcTo wR="3600" hR="3600" stAng="10800000" swAng="-5400000"/>
                  <a:lnTo>
                    <a:pt x="18000" y="431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5520" y="19810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62520" y="19810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3848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26708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9568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2428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8148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410080" y="2057400"/>
              <a:ext cx="99072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40080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934320" y="20574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43520" y="28188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92160" y="28188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788160" y="28188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91520" y="25146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962520" y="4038480"/>
            <a:ext cx="3733560" cy="1076760"/>
            <a:chOff x="3962520" y="4038480"/>
            <a:chExt cx="3733560" cy="1076760"/>
          </a:xfrm>
        </p:grpSpPr>
        <p:sp>
          <p:nvSpPr>
            <p:cNvPr id="1274" name=""/>
            <p:cNvSpPr/>
            <p:nvPr/>
          </p:nvSpPr>
          <p:spPr>
            <a:xfrm>
              <a:off x="6781680" y="4038480"/>
              <a:ext cx="533520" cy="106704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185">
                  <a:moveTo>
                    <a:pt x="3600" y="0"/>
                  </a:moveTo>
                  <a:arcTo wR="3600" hR="3600" stAng="16200000" swAng="-5400000"/>
                  <a:lnTo>
                    <a:pt x="0" y="39585"/>
                  </a:lnTo>
                  <a:arcTo wR="3600" hR="3600" stAng="10800000" swAng="-5400000"/>
                  <a:lnTo>
                    <a:pt x="18000" y="431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05520" y="40384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962520" y="40384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03848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2670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956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242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8148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410080" y="4114800"/>
              <a:ext cx="99072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40080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934320" y="41148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043520" y="48762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492160" y="48762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788160" y="48762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91520" y="45720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2133720" y="3886200"/>
            <a:ext cx="3809520" cy="761400"/>
            <a:chOff x="2133720" y="3886200"/>
            <a:chExt cx="3809520" cy="761400"/>
          </a:xfrm>
        </p:grpSpPr>
        <p:sp>
          <p:nvSpPr>
            <p:cNvPr id="1290" name=""/>
            <p:cNvSpPr/>
            <p:nvPr/>
          </p:nvSpPr>
          <p:spPr>
            <a:xfrm flipH="1">
              <a:off x="2133720" y="3886200"/>
              <a:ext cx="38088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133720" y="3886200"/>
              <a:ext cx="380952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228600" y="4038480"/>
            <a:ext cx="3733920" cy="1854360"/>
            <a:chOff x="228600" y="4038480"/>
            <a:chExt cx="3733920" cy="1854360"/>
          </a:xfrm>
        </p:grpSpPr>
        <p:sp>
          <p:nvSpPr>
            <p:cNvPr id="1293" name=""/>
            <p:cNvSpPr/>
            <p:nvPr/>
          </p:nvSpPr>
          <p:spPr>
            <a:xfrm>
              <a:off x="3048120" y="4038480"/>
              <a:ext cx="533160" cy="1067040"/>
            </a:xfrm>
            <a:custGeom>
              <a:avLst/>
              <a:gdLst>
                <a:gd name="textAreaLeft" fmla="*/ 25920 w 533160"/>
                <a:gd name="textAreaRight" fmla="*/ 507240 w 53316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215">
                  <a:moveTo>
                    <a:pt x="3600" y="0"/>
                  </a:moveTo>
                  <a:arcTo wR="3600" hR="3600" stAng="16200000" swAng="-5400000"/>
                  <a:lnTo>
                    <a:pt x="0" y="39615"/>
                  </a:lnTo>
                  <a:arcTo wR="3600" hR="3600" stAng="10800000" swAng="-5400000"/>
                  <a:lnTo>
                    <a:pt x="18000" y="43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71600" y="40384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600" y="40384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0492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335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9907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44792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676520" y="4114800"/>
              <a:ext cx="99036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668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200400" y="41148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09960" y="48762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58240" y="48762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054600" y="48762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657600" y="4572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977920" y="5562720"/>
              <a:ext cx="61956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3276720" y="52574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1981080"/>
            <a:ext cx="3733920" cy="1076760"/>
            <a:chOff x="228600" y="1981080"/>
            <a:chExt cx="3733920" cy="1076760"/>
          </a:xfrm>
        </p:grpSpPr>
        <p:sp>
          <p:nvSpPr>
            <p:cNvPr id="1312" name=""/>
            <p:cNvSpPr/>
            <p:nvPr/>
          </p:nvSpPr>
          <p:spPr>
            <a:xfrm>
              <a:off x="3048120" y="1981080"/>
              <a:ext cx="533160" cy="1067040"/>
            </a:xfrm>
            <a:custGeom>
              <a:avLst/>
              <a:gdLst>
                <a:gd name="textAreaLeft" fmla="*/ 25920 w 533160"/>
                <a:gd name="textAreaRight" fmla="*/ 507240 w 53316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215">
                  <a:moveTo>
                    <a:pt x="3600" y="0"/>
                  </a:moveTo>
                  <a:arcTo wR="3600" hR="3600" stAng="16200000" swAng="-5400000"/>
                  <a:lnTo>
                    <a:pt x="0" y="39615"/>
                  </a:lnTo>
                  <a:arcTo wR="3600" hR="3600" stAng="10800000" swAng="-5400000"/>
                  <a:lnTo>
                    <a:pt x="18000" y="43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371600" y="19810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28600" y="19810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0492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335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21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9907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44792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676520" y="2057400"/>
              <a:ext cx="99036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66688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00400" y="20574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09960" y="28188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58240" y="28188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054600" y="28188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657600" y="2514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4038480" y="1981080"/>
            <a:ext cx="3733920" cy="1076760"/>
            <a:chOff x="4038480" y="1981080"/>
            <a:chExt cx="3733920" cy="1076760"/>
          </a:xfrm>
        </p:grpSpPr>
        <p:sp>
          <p:nvSpPr>
            <p:cNvPr id="1328" name=""/>
            <p:cNvSpPr/>
            <p:nvPr/>
          </p:nvSpPr>
          <p:spPr>
            <a:xfrm>
              <a:off x="6858000" y="1981080"/>
              <a:ext cx="533520" cy="106704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185">
                  <a:moveTo>
                    <a:pt x="3600" y="0"/>
                  </a:moveTo>
                  <a:arcTo wR="3600" hR="3600" stAng="16200000" swAng="-5400000"/>
                  <a:lnTo>
                    <a:pt x="0" y="39585"/>
                  </a:lnTo>
                  <a:arcTo wR="3600" hR="3600" stAng="10800000" swAng="-5400000"/>
                  <a:lnTo>
                    <a:pt x="18000" y="431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81480" y="19810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25780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486400" y="2057400"/>
              <a:ext cx="99072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4771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10280" y="20574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568480" y="28188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864480" y="28188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467480" y="2514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038480" y="1981080"/>
              <a:ext cx="106704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1480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34340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57200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80060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19840" y="28188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222480" y="1219320"/>
            <a:ext cx="325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es de transferts I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4495680" y="4038480"/>
            <a:ext cx="3733920" cy="1077120"/>
            <a:chOff x="4495680" y="4038480"/>
            <a:chExt cx="3733920" cy="1077120"/>
          </a:xfrm>
        </p:grpSpPr>
        <p:sp>
          <p:nvSpPr>
            <p:cNvPr id="1345" name=""/>
            <p:cNvSpPr/>
            <p:nvPr/>
          </p:nvSpPr>
          <p:spPr>
            <a:xfrm>
              <a:off x="7315200" y="4038480"/>
              <a:ext cx="533520" cy="106704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185">
                  <a:moveTo>
                    <a:pt x="3600" y="0"/>
                  </a:moveTo>
                  <a:arcTo wR="3600" hR="3600" stAng="16200000" swAng="-5400000"/>
                  <a:lnTo>
                    <a:pt x="0" y="39585"/>
                  </a:lnTo>
                  <a:arcTo wR="3600" hR="3600" stAng="10800000" swAng="-5400000"/>
                  <a:lnTo>
                    <a:pt x="18000" y="431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638680" y="40384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495680" y="4038480"/>
              <a:ext cx="106704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57200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80060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02920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25780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71500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943600" y="4114800"/>
              <a:ext cx="99072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9343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467480" y="41148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570920" y="4876560"/>
              <a:ext cx="955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19560" y="4876560"/>
              <a:ext cx="869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315200" y="4876560"/>
              <a:ext cx="6091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24680" y="4572000"/>
              <a:ext cx="304920" cy="0"/>
            </a:xfrm>
            <a:prstGeom prst="line">
              <a:avLst/>
            </a:prstGeom>
            <a:ln w="2844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228600" y="4038480"/>
            <a:ext cx="2057400" cy="1854360"/>
            <a:chOff x="228600" y="4038480"/>
            <a:chExt cx="2057400" cy="1854360"/>
          </a:xfrm>
        </p:grpSpPr>
        <p:sp>
          <p:nvSpPr>
            <p:cNvPr id="1361" name=""/>
            <p:cNvSpPr/>
            <p:nvPr/>
          </p:nvSpPr>
          <p:spPr>
            <a:xfrm>
              <a:off x="1371600" y="4038480"/>
              <a:ext cx="533520" cy="106704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185">
                  <a:moveTo>
                    <a:pt x="3600" y="0"/>
                  </a:moveTo>
                  <a:arcTo wR="3600" hR="3600" stAng="16200000" swAng="-5400000"/>
                  <a:lnTo>
                    <a:pt x="0" y="39585"/>
                  </a:lnTo>
                  <a:arcTo wR="3600" hR="3600" stAng="10800000" swAng="-5400000"/>
                  <a:lnTo>
                    <a:pt x="18000" y="431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23880" y="41148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378080" y="48762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981080" y="4572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8600" y="40384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0492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335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621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9907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9960" y="48762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77720" y="5562720"/>
              <a:ext cx="61956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1676520" y="52574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2362320" y="4038480"/>
            <a:ext cx="2057400" cy="1854360"/>
            <a:chOff x="2362320" y="4038480"/>
            <a:chExt cx="2057400" cy="1854360"/>
          </a:xfrm>
        </p:grpSpPr>
        <p:sp>
          <p:nvSpPr>
            <p:cNvPr id="1374" name=""/>
            <p:cNvSpPr/>
            <p:nvPr/>
          </p:nvSpPr>
          <p:spPr>
            <a:xfrm>
              <a:off x="3505320" y="4038480"/>
              <a:ext cx="533160" cy="1067040"/>
            </a:xfrm>
            <a:custGeom>
              <a:avLst/>
              <a:gdLst>
                <a:gd name="textAreaLeft" fmla="*/ 25920 w 533160"/>
                <a:gd name="textAreaRight" fmla="*/ 507240 w 53316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215">
                  <a:moveTo>
                    <a:pt x="3600" y="0"/>
                  </a:moveTo>
                  <a:arcTo wR="3600" hR="3600" stAng="16200000" swAng="-5400000"/>
                  <a:lnTo>
                    <a:pt x="0" y="39615"/>
                  </a:lnTo>
                  <a:arcTo wR="3600" hR="3600" stAng="10800000" swAng="-5400000"/>
                  <a:lnTo>
                    <a:pt x="18000" y="43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657600" y="41148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511800" y="48762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114800" y="4572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62320" y="40384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43828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668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954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240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443320" y="48762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435120" y="5562720"/>
              <a:ext cx="61956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3733920" y="52574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1er paquet de chaque transaction (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Token 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ndiqu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'adresse USB du Device (ou du Hu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sous-adresse concernée (</a:t>
            </a: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End-Poi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 sens de la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End-Point permet d'établir un canal de communication mono-directionnel ('Pipe') entre une fonction interne du Device 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Device USB peut supporter jusqu'à 16 End-Points, et doit supporter au moins le End-Point n° 0 (utilisé pendant l'initialisa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que End-Point possède, pour l'échange des données, une FIFO de taille variable (précisée lors de l'énumération : de 8 à 1024 octe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286000" y="4572000"/>
            <a:ext cx="541008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962520" y="5029200"/>
            <a:ext cx="15238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019920" y="5029200"/>
            <a:ext cx="15238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362320" y="5029200"/>
            <a:ext cx="15238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title"/>
          </p:nvPr>
        </p:nvSpPr>
        <p:spPr>
          <a:xfrm>
            <a:off x="6248160" y="533160"/>
            <a:ext cx="2514600" cy="59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End-Poin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276720" y="51055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599480" y="4571640"/>
            <a:ext cx="598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00080" y="4571640"/>
            <a:ext cx="13312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ériphé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600200" y="4876920"/>
            <a:ext cx="4800600" cy="228600"/>
          </a:xfrm>
          <a:custGeom>
            <a:avLst/>
            <a:gdLst/>
            <a:ahLst/>
            <a:rect l="l" t="t" r="r" b="b"/>
            <a:pathLst>
              <a:path w="1968" h="96">
                <a:moveTo>
                  <a:pt x="0" y="0"/>
                </a:moveTo>
                <a:lnTo>
                  <a:pt x="1968" y="0"/>
                </a:lnTo>
                <a:lnTo>
                  <a:pt x="1968" y="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343400" y="4876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505320" y="4876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51055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172200" y="51055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562720" y="5334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05320" y="5562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400800" y="5562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357640" y="5180760"/>
            <a:ext cx="956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dpoint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67320" y="5180760"/>
            <a:ext cx="956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dpoint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624720" y="5180760"/>
            <a:ext cx="956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dpoint_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600200" y="48769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362320" y="5029200"/>
            <a:ext cx="15238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962520" y="5029200"/>
            <a:ext cx="15238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019920" y="5029200"/>
            <a:ext cx="15238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48120" y="601992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105520" y="6019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86000" y="4572000"/>
            <a:ext cx="5410080" cy="1828800"/>
          </a:xfrm>
          <a:custGeom>
            <a:avLst/>
            <a:gdLst/>
            <a:ahLst/>
            <a:rect l="l" t="t" r="r" b="b"/>
            <a:pathLst>
              <a:path w="3408" h="1152">
                <a:moveTo>
                  <a:pt x="0" y="1152"/>
                </a:moveTo>
                <a:lnTo>
                  <a:pt x="0" y="0"/>
                </a:lnTo>
                <a:lnTo>
                  <a:pt x="3408" y="0"/>
                </a:lnTo>
                <a:lnTo>
                  <a:pt x="3408" y="1152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595760" y="5804640"/>
            <a:ext cx="447480" cy="24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2971800" y="5562720"/>
            <a:ext cx="406440" cy="397440"/>
            <a:chOff x="2971800" y="5562720"/>
            <a:chExt cx="406440" cy="397440"/>
          </a:xfrm>
        </p:grpSpPr>
        <p:sp>
          <p:nvSpPr>
            <p:cNvPr id="1416" name=""/>
            <p:cNvSpPr/>
            <p:nvPr/>
          </p:nvSpPr>
          <p:spPr>
            <a:xfrm>
              <a:off x="3352680" y="5562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971800" y="5713920"/>
              <a:ext cx="4064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R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3809880" y="5562720"/>
            <a:ext cx="406440" cy="397440"/>
            <a:chOff x="3809880" y="5562720"/>
            <a:chExt cx="406440" cy="397440"/>
          </a:xfrm>
        </p:grpSpPr>
        <p:sp>
          <p:nvSpPr>
            <p:cNvPr id="1419" name=""/>
            <p:cNvSpPr/>
            <p:nvPr/>
          </p:nvSpPr>
          <p:spPr>
            <a:xfrm>
              <a:off x="4190760" y="5562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09880" y="5713920"/>
              <a:ext cx="4064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R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5867280" y="5562720"/>
            <a:ext cx="406440" cy="397440"/>
            <a:chOff x="5867280" y="5562720"/>
            <a:chExt cx="406440" cy="397440"/>
          </a:xfrm>
        </p:grpSpPr>
        <p:sp>
          <p:nvSpPr>
            <p:cNvPr id="1422" name=""/>
            <p:cNvSpPr/>
            <p:nvPr/>
          </p:nvSpPr>
          <p:spPr>
            <a:xfrm>
              <a:off x="6248160" y="5562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67280" y="5713920"/>
              <a:ext cx="4064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R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 fontScale="99000"/>
          </a:bodyPr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temps est découpé en trames de 1 ms (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r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marquées par le Token SOF (Start Of Fra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transactions sont regroupées à l'intérieur des trames (pas de chevaucheme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trame peut contenir une ou plusieurs transactions dest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914400" y="4113720"/>
            <a:ext cx="7696080" cy="2181240"/>
            <a:chOff x="914400" y="4113720"/>
            <a:chExt cx="7696080" cy="2181240"/>
          </a:xfrm>
        </p:grpSpPr>
        <p:sp>
          <p:nvSpPr>
            <p:cNvPr id="1427" name=""/>
            <p:cNvSpPr/>
            <p:nvPr/>
          </p:nvSpPr>
          <p:spPr>
            <a:xfrm>
              <a:off x="914400" y="510516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914400" y="54100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914400" y="434304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599120" y="4113720"/>
              <a:ext cx="69876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me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86400" y="434304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200400" y="434304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094800" y="4113720"/>
              <a:ext cx="87264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me n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732480" y="4113720"/>
              <a:ext cx="87264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me n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914400" y="4495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696080" y="4495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410080" y="4495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124080" y="4495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7160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523880" y="5105160"/>
              <a:ext cx="15264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67652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445040" y="4494600"/>
              <a:ext cx="100512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480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67080" y="5105160"/>
              <a:ext cx="15264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41972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581280" y="5105160"/>
              <a:ext cx="15264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3392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8620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867280" y="5105160"/>
              <a:ext cx="15264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01992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17220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40080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553080" y="5105160"/>
              <a:ext cx="15264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0572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93432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8660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238880" y="5105160"/>
              <a:ext cx="15264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905120" y="5105160"/>
              <a:ext cx="15228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057400" y="5105160"/>
              <a:ext cx="5335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590920" y="5105160"/>
              <a:ext cx="15228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1600200" y="472428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1980720" y="472428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209680" y="4724280"/>
              <a:ext cx="1600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446840" y="6018480"/>
              <a:ext cx="81792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fert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818440" y="6018480"/>
              <a:ext cx="81792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fert 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409360" y="6018480"/>
              <a:ext cx="86040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fert 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600200" y="5486040"/>
              <a:ext cx="1447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3200040" y="5486040"/>
              <a:ext cx="10666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3352680" y="5486040"/>
              <a:ext cx="3657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1828800" y="548604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09880" y="5486040"/>
              <a:ext cx="1828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791320" y="548604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6019560" y="548604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124080" y="5105160"/>
              <a:ext cx="381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410080" y="5105160"/>
              <a:ext cx="381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696080" y="5105160"/>
              <a:ext cx="381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+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56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e fonctionnement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High Speed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poss</a:t>
            </a:r>
            <a:r>
              <a:rPr b="0" lang="fr-FR" sz="1800" spc="-1" strike="noStrike">
                <a:solidFill>
                  <a:srgbClr val="000000"/>
                </a:solidFill>
                <a:latin typeface="Book Antiqua"/>
              </a:rPr>
              <a:t>è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de certaines carac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istiques tr</a:t>
            </a:r>
            <a:r>
              <a:rPr b="0" lang="fr-FR" sz="1800" spc="-1" strike="noStrike">
                <a:solidFill>
                  <a:srgbClr val="000000"/>
                </a:solidFill>
                <a:latin typeface="Book Antiqua"/>
              </a:rPr>
              <a:t>è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 diff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entes des fonctionnements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ow Speed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et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Full Sp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a grande majorité des applications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tant du type Low Speed ou Full Speed, la p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entation s'attache d'abord aux carac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istiques g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ales de ces ver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es carac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istiques High Speed sont d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tail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es 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4680" y="2143080"/>
            <a:ext cx="21128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Rem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2438280" y="3581280"/>
            <a:ext cx="57150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tandard USB assure une grande fiabilité des transferts, par la détection de nombreuses erreurs au niveau hardwar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eurs de paqu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que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Stu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out (absence de ré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Babbling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 (Loss of Ac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62120" y="5563080"/>
            <a:ext cx="7010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f3f8"/>
                </a:solidFill>
                <a:latin typeface="Arial"/>
              </a:rPr>
              <a:t>Toute détection d'une erreur de paquet doit se traduire par la non-réponse du périphérique (time-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5562720"/>
            <a:ext cx="7010640" cy="60948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1760" y="1523520"/>
            <a:ext cx="387648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ôle hardware des paque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95160" y="2133720"/>
            <a:ext cx="760248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'Packet ID' est codé sur 4 bits, et répété en valeur complémentée (total 8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362320" y="3048120"/>
            <a:ext cx="5331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95480" y="3048120"/>
            <a:ext cx="5335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429000" y="3048120"/>
            <a:ext cx="5335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3048120"/>
            <a:ext cx="5331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495680" y="3048120"/>
            <a:ext cx="5335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029200" y="3048120"/>
            <a:ext cx="5335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562720" y="3048120"/>
            <a:ext cx="5331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095880" y="3048120"/>
            <a:ext cx="5335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86400" y="310032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176880" y="310032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643720" y="310032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00480" y="310032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1480" y="3580920"/>
            <a:ext cx="1541520" cy="45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ken, Da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ndshake, Spe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79680" y="3580920"/>
            <a:ext cx="7581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362320" y="3429000"/>
            <a:ext cx="2133360" cy="152280"/>
          </a:xfrm>
          <a:custGeom>
            <a:avLst/>
            <a:gdLst/>
            <a:ahLst/>
            <a:rect l="l" t="t" r="r" b="b"/>
            <a:pathLst>
              <a:path w="1344" h="96">
                <a:moveTo>
                  <a:pt x="0" y="0"/>
                </a:moveTo>
                <a:lnTo>
                  <a:pt x="48" y="48"/>
                </a:lnTo>
                <a:lnTo>
                  <a:pt x="624" y="48"/>
                </a:lnTo>
                <a:lnTo>
                  <a:pt x="672" y="96"/>
                </a:lnTo>
                <a:lnTo>
                  <a:pt x="720" y="48"/>
                </a:lnTo>
                <a:lnTo>
                  <a:pt x="1296" y="48"/>
                </a:lnTo>
                <a:lnTo>
                  <a:pt x="13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495680" y="3429000"/>
            <a:ext cx="2133720" cy="152280"/>
          </a:xfrm>
          <a:custGeom>
            <a:avLst/>
            <a:gdLst/>
            <a:ahLst/>
            <a:rect l="l" t="t" r="r" b="b"/>
            <a:pathLst>
              <a:path w="1344" h="96">
                <a:moveTo>
                  <a:pt x="0" y="0"/>
                </a:moveTo>
                <a:lnTo>
                  <a:pt x="48" y="48"/>
                </a:lnTo>
                <a:lnTo>
                  <a:pt x="624" y="48"/>
                </a:lnTo>
                <a:lnTo>
                  <a:pt x="672" y="96"/>
                </a:lnTo>
                <a:lnTo>
                  <a:pt x="720" y="48"/>
                </a:lnTo>
                <a:lnTo>
                  <a:pt x="1296" y="48"/>
                </a:lnTo>
                <a:lnTo>
                  <a:pt x="13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82560" y="2057400"/>
            <a:ext cx="13082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it-stuff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21760" y="1523520"/>
            <a:ext cx="387648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ôle hardware des paque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334120" y="2362320"/>
            <a:ext cx="609480" cy="2514600"/>
          </a:xfrm>
          <a:custGeom>
            <a:avLst/>
            <a:gdLst/>
            <a:ahLst/>
            <a:rect l="l" t="t" r="r" b="b"/>
            <a:pathLst>
              <a:path w="384" h="1584">
                <a:moveTo>
                  <a:pt x="192" y="0"/>
                </a:moveTo>
                <a:lnTo>
                  <a:pt x="0" y="0"/>
                </a:lnTo>
                <a:lnTo>
                  <a:pt x="0" y="528"/>
                </a:lnTo>
                <a:lnTo>
                  <a:pt x="192" y="720"/>
                </a:lnTo>
                <a:lnTo>
                  <a:pt x="192" y="1584"/>
                </a:lnTo>
                <a:lnTo>
                  <a:pt x="384" y="1584"/>
                </a:lnTo>
                <a:lnTo>
                  <a:pt x="384" y="720"/>
                </a:lnTo>
                <a:lnTo>
                  <a:pt x="192" y="528"/>
                </a:lnTo>
                <a:lnTo>
                  <a:pt x="192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248520" y="2362320"/>
            <a:ext cx="609480" cy="2514600"/>
          </a:xfrm>
          <a:custGeom>
            <a:avLst/>
            <a:gdLst/>
            <a:ahLst/>
            <a:rect l="l" t="t" r="r" b="b"/>
            <a:pathLst>
              <a:path w="384" h="1584">
                <a:moveTo>
                  <a:pt x="192" y="0"/>
                </a:moveTo>
                <a:lnTo>
                  <a:pt x="0" y="0"/>
                </a:lnTo>
                <a:lnTo>
                  <a:pt x="0" y="528"/>
                </a:lnTo>
                <a:lnTo>
                  <a:pt x="192" y="720"/>
                </a:lnTo>
                <a:lnTo>
                  <a:pt x="192" y="1584"/>
                </a:lnTo>
                <a:lnTo>
                  <a:pt x="384" y="1584"/>
                </a:lnTo>
                <a:lnTo>
                  <a:pt x="384" y="720"/>
                </a:lnTo>
                <a:lnTo>
                  <a:pt x="192" y="528"/>
                </a:lnTo>
                <a:lnTo>
                  <a:pt x="192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029200" y="2362320"/>
            <a:ext cx="30492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334120" y="2362320"/>
            <a:ext cx="30456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943600" y="2362320"/>
            <a:ext cx="609480" cy="2514600"/>
          </a:xfrm>
          <a:custGeom>
            <a:avLst/>
            <a:gdLst/>
            <a:ahLst/>
            <a:rect l="l" t="t" r="r" b="b"/>
            <a:pathLst>
              <a:path w="384" h="1584">
                <a:moveTo>
                  <a:pt x="192" y="0"/>
                </a:moveTo>
                <a:lnTo>
                  <a:pt x="0" y="0"/>
                </a:lnTo>
                <a:lnTo>
                  <a:pt x="0" y="528"/>
                </a:lnTo>
                <a:lnTo>
                  <a:pt x="192" y="720"/>
                </a:lnTo>
                <a:lnTo>
                  <a:pt x="192" y="1584"/>
                </a:lnTo>
                <a:lnTo>
                  <a:pt x="384" y="1584"/>
                </a:lnTo>
                <a:lnTo>
                  <a:pt x="384" y="720"/>
                </a:lnTo>
                <a:lnTo>
                  <a:pt x="192" y="528"/>
                </a:lnTo>
                <a:lnTo>
                  <a:pt x="19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553080" y="2362320"/>
            <a:ext cx="609840" cy="2514600"/>
          </a:xfrm>
          <a:custGeom>
            <a:avLst/>
            <a:gdLst/>
            <a:ahLst/>
            <a:rect l="l" t="t" r="r" b="b"/>
            <a:pathLst>
              <a:path w="384" h="1584">
                <a:moveTo>
                  <a:pt x="192" y="0"/>
                </a:moveTo>
                <a:lnTo>
                  <a:pt x="0" y="0"/>
                </a:lnTo>
                <a:lnTo>
                  <a:pt x="0" y="528"/>
                </a:lnTo>
                <a:lnTo>
                  <a:pt x="192" y="720"/>
                </a:lnTo>
                <a:lnTo>
                  <a:pt x="192" y="1584"/>
                </a:lnTo>
                <a:lnTo>
                  <a:pt x="384" y="1584"/>
                </a:lnTo>
                <a:lnTo>
                  <a:pt x="384" y="720"/>
                </a:lnTo>
                <a:lnTo>
                  <a:pt x="192" y="528"/>
                </a:lnTo>
                <a:lnTo>
                  <a:pt x="19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638680" y="2362320"/>
            <a:ext cx="609840" cy="2514600"/>
          </a:xfrm>
          <a:custGeom>
            <a:avLst/>
            <a:gdLst/>
            <a:ahLst/>
            <a:rect l="l" t="t" r="r" b="b"/>
            <a:pathLst>
              <a:path w="384" h="1584">
                <a:moveTo>
                  <a:pt x="192" y="0"/>
                </a:moveTo>
                <a:lnTo>
                  <a:pt x="0" y="0"/>
                </a:lnTo>
                <a:lnTo>
                  <a:pt x="0" y="528"/>
                </a:lnTo>
                <a:lnTo>
                  <a:pt x="192" y="720"/>
                </a:lnTo>
                <a:lnTo>
                  <a:pt x="192" y="1584"/>
                </a:lnTo>
                <a:lnTo>
                  <a:pt x="384" y="1584"/>
                </a:lnTo>
                <a:lnTo>
                  <a:pt x="384" y="720"/>
                </a:lnTo>
                <a:lnTo>
                  <a:pt x="192" y="528"/>
                </a:lnTo>
                <a:lnTo>
                  <a:pt x="19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09880" y="2362320"/>
            <a:ext cx="30492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419720" y="2362320"/>
            <a:ext cx="30456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724280" y="2362320"/>
            <a:ext cx="30492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200400" y="2362320"/>
            <a:ext cx="30492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505320" y="2362320"/>
            <a:ext cx="30456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114800" y="2362320"/>
            <a:ext cx="30492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895480" y="2362320"/>
            <a:ext cx="30492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89548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20040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50532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80988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371600" y="2819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373040" y="350496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ff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371960" y="426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590920" y="2819520"/>
            <a:ext cx="4495680" cy="304560"/>
          </a:xfrm>
          <a:custGeom>
            <a:avLst/>
            <a:gdLst/>
            <a:ahLst/>
            <a:rect l="l" t="t" r="r" b="b"/>
            <a:pathLst>
              <a:path w="2832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  <a:lnTo>
                  <a:pt x="768" y="192"/>
                </a:lnTo>
                <a:lnTo>
                  <a:pt x="768" y="0"/>
                </a:lnTo>
                <a:lnTo>
                  <a:pt x="2304" y="0"/>
                </a:lnTo>
                <a:lnTo>
                  <a:pt x="2304" y="192"/>
                </a:lnTo>
                <a:lnTo>
                  <a:pt x="2496" y="192"/>
                </a:lnTo>
                <a:lnTo>
                  <a:pt x="2496" y="0"/>
                </a:lnTo>
                <a:lnTo>
                  <a:pt x="2688" y="0"/>
                </a:lnTo>
                <a:lnTo>
                  <a:pt x="2688" y="192"/>
                </a:lnTo>
                <a:lnTo>
                  <a:pt x="2832" y="192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590920" y="3505320"/>
            <a:ext cx="4572000" cy="304560"/>
          </a:xfrm>
          <a:custGeom>
            <a:avLst/>
            <a:gdLst/>
            <a:ahLst/>
            <a:rect l="l" t="t" r="r" b="b"/>
            <a:pathLst>
              <a:path w="2880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  <a:lnTo>
                  <a:pt x="768" y="192"/>
                </a:lnTo>
                <a:lnTo>
                  <a:pt x="768" y="0"/>
                </a:lnTo>
                <a:lnTo>
                  <a:pt x="1920" y="0"/>
                </a:lnTo>
                <a:lnTo>
                  <a:pt x="1920" y="192"/>
                </a:lnTo>
                <a:lnTo>
                  <a:pt x="2112" y="192"/>
                </a:lnTo>
                <a:lnTo>
                  <a:pt x="2112" y="0"/>
                </a:lnTo>
                <a:lnTo>
                  <a:pt x="2496" y="0"/>
                </a:lnTo>
                <a:lnTo>
                  <a:pt x="2496" y="192"/>
                </a:lnTo>
                <a:lnTo>
                  <a:pt x="2688" y="192"/>
                </a:lnTo>
                <a:lnTo>
                  <a:pt x="2688" y="0"/>
                </a:lnTo>
                <a:lnTo>
                  <a:pt x="2880" y="0"/>
                </a:lnTo>
                <a:lnTo>
                  <a:pt x="2880" y="192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590920" y="4267080"/>
            <a:ext cx="4495680" cy="304920"/>
          </a:xfrm>
          <a:custGeom>
            <a:avLst/>
            <a:gdLst/>
            <a:ahLst/>
            <a:rect l="l" t="t" r="r" b="b"/>
            <a:pathLst>
              <a:path w="2832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  <a:lnTo>
                  <a:pt x="384" y="192"/>
                </a:lnTo>
                <a:lnTo>
                  <a:pt x="384" y="0"/>
                </a:lnTo>
                <a:lnTo>
                  <a:pt x="528" y="0"/>
                </a:lnTo>
                <a:lnTo>
                  <a:pt x="576" y="0"/>
                </a:lnTo>
                <a:lnTo>
                  <a:pt x="576" y="192"/>
                </a:lnTo>
                <a:lnTo>
                  <a:pt x="1920" y="192"/>
                </a:lnTo>
                <a:lnTo>
                  <a:pt x="1920" y="0"/>
                </a:lnTo>
                <a:lnTo>
                  <a:pt x="2496" y="0"/>
                </a:lnTo>
                <a:lnTo>
                  <a:pt x="2496" y="192"/>
                </a:lnTo>
                <a:lnTo>
                  <a:pt x="2832" y="192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89548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80988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553080" y="4571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943600" y="4571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63868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33412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02920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72428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1972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11480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0" y="4571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20040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50532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248520" y="4571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532480" y="3259080"/>
            <a:ext cx="533520" cy="685800"/>
          </a:xfrm>
          <a:prstGeom prst="ellipse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97180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88620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41008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0552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80060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49568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112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27672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58128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71500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55308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94360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24852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11480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1972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72428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02920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33412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63868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496400" y="2971440"/>
            <a:ext cx="10951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ffed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648320" y="3276720"/>
            <a:ext cx="990360" cy="75960"/>
          </a:xfrm>
          <a:custGeom>
            <a:avLst/>
            <a:gdLst/>
            <a:ahLst/>
            <a:rect l="l" t="t" r="r" b="b"/>
            <a:pathLst>
              <a:path w="624" h="48">
                <a:moveTo>
                  <a:pt x="0" y="0"/>
                </a:moveTo>
                <a:lnTo>
                  <a:pt x="576" y="0"/>
                </a:lnTo>
                <a:lnTo>
                  <a:pt x="624" y="48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943600" y="2286000"/>
            <a:ext cx="304920" cy="266688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0" y="0"/>
                </a:moveTo>
                <a:lnTo>
                  <a:pt x="0" y="576"/>
                </a:lnTo>
                <a:lnTo>
                  <a:pt x="192" y="768"/>
                </a:lnTo>
                <a:lnTo>
                  <a:pt x="192" y="168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553080" y="2286000"/>
            <a:ext cx="304920" cy="266688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0" y="0"/>
                </a:moveTo>
                <a:lnTo>
                  <a:pt x="0" y="576"/>
                </a:lnTo>
                <a:lnTo>
                  <a:pt x="192" y="768"/>
                </a:lnTo>
                <a:lnTo>
                  <a:pt x="192" y="168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0" y="2286000"/>
            <a:ext cx="304920" cy="266688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0" y="0"/>
                </a:moveTo>
                <a:lnTo>
                  <a:pt x="0" y="576"/>
                </a:lnTo>
                <a:lnTo>
                  <a:pt x="192" y="768"/>
                </a:lnTo>
                <a:lnTo>
                  <a:pt x="192" y="168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638680" y="2286000"/>
            <a:ext cx="304920" cy="266688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0" y="0"/>
                </a:moveTo>
                <a:lnTo>
                  <a:pt x="0" y="576"/>
                </a:lnTo>
                <a:lnTo>
                  <a:pt x="192" y="768"/>
                </a:lnTo>
                <a:lnTo>
                  <a:pt x="192" y="168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48520" y="2286000"/>
            <a:ext cx="304560" cy="266688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0" y="0"/>
                </a:moveTo>
                <a:lnTo>
                  <a:pt x="0" y="576"/>
                </a:lnTo>
                <a:lnTo>
                  <a:pt x="192" y="768"/>
                </a:lnTo>
                <a:lnTo>
                  <a:pt x="192" y="168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75920" y="5183280"/>
            <a:ext cx="643788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mission : un bit à 0 est inséré derrière toute séquence de 6 bits à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cep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de présence du 'stuffed bit' (si absent : non-répon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onstitution de la séquence initial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686160" y="2362320"/>
            <a:ext cx="4802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enus protégés par un CRC (5 bits ou 16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5" name=""/>
          <p:cNvGraphicFramePr/>
          <p:nvPr/>
        </p:nvGraphicFramePr>
        <p:xfrm>
          <a:off x="5105520" y="2819520"/>
          <a:ext cx="3676680" cy="109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819520"/>
                    <a:ext cx="36766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7" name=""/>
          <p:cNvGraphicFramePr/>
          <p:nvPr/>
        </p:nvGraphicFramePr>
        <p:xfrm>
          <a:off x="3352680" y="4191120"/>
          <a:ext cx="5429520" cy="1093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191120"/>
                    <a:ext cx="54295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9" name=""/>
          <p:cNvSpPr/>
          <p:nvPr/>
        </p:nvSpPr>
        <p:spPr>
          <a:xfrm>
            <a:off x="5108040" y="3505320"/>
            <a:ext cx="113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, OUT, SE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583440" y="487692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4000" y="3733920"/>
            <a:ext cx="3428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ID alterné pour les Paquet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21760" y="1523520"/>
            <a:ext cx="387648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ôle hardware des paque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30400" y="1142640"/>
            <a:ext cx="2844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u PID Data alter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85800" y="1509120"/>
            <a:ext cx="83059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e erreur détectée dans un paquet Handshake laisse le Host et le Device en désaccord sur la bonne ou mauvaise réception du paquet Data précédent. Exempl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295280" y="23623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362320" y="236232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828800" y="236232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124080" y="23623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191120" y="236232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657600" y="236232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952880" y="23623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019920" y="236232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486400" y="236232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781680" y="23623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848720" y="236232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315200" y="236232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18800" y="207252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747600" y="207252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500440" y="207252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329240" y="207252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170400" y="2590200"/>
            <a:ext cx="656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943600" y="2286000"/>
            <a:ext cx="6094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600200" y="2895480"/>
            <a:ext cx="6095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transaction 3 est acquittée normalement par le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'acquittement de la transaction 3 est trouvé erroné par le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a transaction 4 le Device attend de nouvell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a transaction 4 le Host répète les Data de la transa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676520" y="3809160"/>
            <a:ext cx="4038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st et Device sont désynchronisés </a:t>
            </a: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à leur in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19320" y="387036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838080" y="4419000"/>
            <a:ext cx="76964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éviter ce problème, le Paquet_ID 'Data' est alterné après chaque transaction réussi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295280" y="508968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362320" y="508968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828800" y="508968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124080" y="508968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191120" y="508968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657600" y="508968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952880" y="508968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019920" y="508968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486400" y="508968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781680" y="508968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848720" y="508968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315200" y="508968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918800" y="479988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747600" y="479988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500440" y="479988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329240" y="479988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941800" y="5393520"/>
            <a:ext cx="656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943600" y="5013360"/>
            <a:ext cx="6094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838080" y="5622840"/>
            <a:ext cx="78487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Device attend un paquet ID 'Data1' pour la transaction 4, et reçoit un paquet ID 'Data0' : erreur de paqu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827640" y="2666520"/>
            <a:ext cx="727452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bbling : non-terminaison d'un paquet avant la fin de t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ss Of Activity : forçage permanent des signaux D+/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s deux défauts sont détectés par les H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cas de défaut constaté : isolation du Device fau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2057400" y="396252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/Initi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04920" y="1294920"/>
            <a:ext cx="7391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ats d'un Devic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493160" y="1980360"/>
            <a:ext cx="8863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333040" y="1980360"/>
            <a:ext cx="8834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46720" y="1980360"/>
            <a:ext cx="746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084800" y="1980360"/>
            <a:ext cx="736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923240" y="1980360"/>
            <a:ext cx="746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5360" y="2361600"/>
            <a:ext cx="4230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Device connecté, non alimenté, n'est pas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52280" y="2742480"/>
            <a:ext cx="4419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limenté, le Device sera détecté lors de la scrutation de son H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2280" y="3351960"/>
            <a:ext cx="4267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tecté, le Device reçoit une signalisation Reset. Il répond à l'adresse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52280" y="3961800"/>
            <a:ext cx="43434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descripteur standard du Device est lu et analysé. Le device reçoit son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4570920"/>
            <a:ext cx="4343400" cy="9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s descripteurs complémentaires du Device sont lus et analysés. Une configuration est choisie par le Host, et assignée au Device. Le Device est en état de foncti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495680" y="1905120"/>
            <a:ext cx="83844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52280" y="1905120"/>
            <a:ext cx="4343400" cy="373356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151920" y="2286000"/>
            <a:ext cx="8534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4800240" y="2438280"/>
            <a:ext cx="152640" cy="152640"/>
            <a:chOff x="4800240" y="2438280"/>
            <a:chExt cx="152640" cy="152640"/>
          </a:xfrm>
        </p:grpSpPr>
        <p:sp>
          <p:nvSpPr>
            <p:cNvPr id="1648" name=""/>
            <p:cNvSpPr/>
            <p:nvPr/>
          </p:nvSpPr>
          <p:spPr>
            <a:xfrm>
              <a:off x="4800600" y="24382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4800240" y="24382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4800240" y="2819520"/>
            <a:ext cx="152640" cy="152280"/>
            <a:chOff x="4800240" y="2819520"/>
            <a:chExt cx="152640" cy="152280"/>
          </a:xfrm>
        </p:grpSpPr>
        <p:sp>
          <p:nvSpPr>
            <p:cNvPr id="1651" name=""/>
            <p:cNvSpPr/>
            <p:nvPr/>
          </p:nvSpPr>
          <p:spPr>
            <a:xfrm>
              <a:off x="4800600" y="2819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4800240" y="2819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4800240" y="3429000"/>
            <a:ext cx="152640" cy="152280"/>
            <a:chOff x="4800240" y="3429000"/>
            <a:chExt cx="152640" cy="152280"/>
          </a:xfrm>
        </p:grpSpPr>
        <p:sp>
          <p:nvSpPr>
            <p:cNvPr id="1654" name=""/>
            <p:cNvSpPr/>
            <p:nvPr/>
          </p:nvSpPr>
          <p:spPr>
            <a:xfrm>
              <a:off x="480060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480024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4800240" y="4038480"/>
            <a:ext cx="152640" cy="152640"/>
            <a:chOff x="4800240" y="4038480"/>
            <a:chExt cx="152640" cy="152640"/>
          </a:xfrm>
        </p:grpSpPr>
        <p:sp>
          <p:nvSpPr>
            <p:cNvPr id="1657" name=""/>
            <p:cNvSpPr/>
            <p:nvPr/>
          </p:nvSpPr>
          <p:spPr>
            <a:xfrm>
              <a:off x="480060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480024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4800240" y="4648320"/>
            <a:ext cx="152640" cy="152280"/>
            <a:chOff x="4800240" y="4648320"/>
            <a:chExt cx="152640" cy="152280"/>
          </a:xfrm>
        </p:grpSpPr>
        <p:sp>
          <p:nvSpPr>
            <p:cNvPr id="1660" name=""/>
            <p:cNvSpPr/>
            <p:nvPr/>
          </p:nvSpPr>
          <p:spPr>
            <a:xfrm>
              <a:off x="480060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480024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5638320" y="2819520"/>
            <a:ext cx="152640" cy="152280"/>
            <a:chOff x="5638320" y="2819520"/>
            <a:chExt cx="152640" cy="152280"/>
          </a:xfrm>
        </p:grpSpPr>
        <p:sp>
          <p:nvSpPr>
            <p:cNvPr id="1663" name=""/>
            <p:cNvSpPr/>
            <p:nvPr/>
          </p:nvSpPr>
          <p:spPr>
            <a:xfrm>
              <a:off x="5638680" y="2819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5638320" y="2819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5638320" y="3429000"/>
            <a:ext cx="152640" cy="152280"/>
            <a:chOff x="5638320" y="3429000"/>
            <a:chExt cx="152640" cy="152280"/>
          </a:xfrm>
        </p:grpSpPr>
        <p:sp>
          <p:nvSpPr>
            <p:cNvPr id="1666" name=""/>
            <p:cNvSpPr/>
            <p:nvPr/>
          </p:nvSpPr>
          <p:spPr>
            <a:xfrm>
              <a:off x="563868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563832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5638320" y="4038480"/>
            <a:ext cx="152640" cy="152640"/>
            <a:chOff x="5638320" y="4038480"/>
            <a:chExt cx="152640" cy="152640"/>
          </a:xfrm>
        </p:grpSpPr>
        <p:sp>
          <p:nvSpPr>
            <p:cNvPr id="1669" name=""/>
            <p:cNvSpPr/>
            <p:nvPr/>
          </p:nvSpPr>
          <p:spPr>
            <a:xfrm>
              <a:off x="563868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563832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5638320" y="4648320"/>
            <a:ext cx="152640" cy="152280"/>
            <a:chOff x="5638320" y="4648320"/>
            <a:chExt cx="152640" cy="152280"/>
          </a:xfrm>
        </p:grpSpPr>
        <p:sp>
          <p:nvSpPr>
            <p:cNvPr id="1672" name=""/>
            <p:cNvSpPr/>
            <p:nvPr/>
          </p:nvSpPr>
          <p:spPr>
            <a:xfrm>
              <a:off x="563868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563832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6476760" y="3429000"/>
            <a:ext cx="152640" cy="152280"/>
            <a:chOff x="6476760" y="3429000"/>
            <a:chExt cx="152640" cy="152280"/>
          </a:xfrm>
        </p:grpSpPr>
        <p:sp>
          <p:nvSpPr>
            <p:cNvPr id="1675" name=""/>
            <p:cNvSpPr/>
            <p:nvPr/>
          </p:nvSpPr>
          <p:spPr>
            <a:xfrm>
              <a:off x="647712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47676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7314840" y="4038480"/>
            <a:ext cx="152640" cy="152640"/>
            <a:chOff x="7314840" y="4038480"/>
            <a:chExt cx="152640" cy="152640"/>
          </a:xfrm>
        </p:grpSpPr>
        <p:sp>
          <p:nvSpPr>
            <p:cNvPr id="1678" name=""/>
            <p:cNvSpPr/>
            <p:nvPr/>
          </p:nvSpPr>
          <p:spPr>
            <a:xfrm>
              <a:off x="731520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731484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476760" y="4038480"/>
            <a:ext cx="152640" cy="152640"/>
            <a:chOff x="6476760" y="4038480"/>
            <a:chExt cx="152640" cy="152640"/>
          </a:xfrm>
        </p:grpSpPr>
        <p:sp>
          <p:nvSpPr>
            <p:cNvPr id="1681" name=""/>
            <p:cNvSpPr/>
            <p:nvPr/>
          </p:nvSpPr>
          <p:spPr>
            <a:xfrm>
              <a:off x="647712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647676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6476760" y="4648320"/>
            <a:ext cx="152640" cy="152280"/>
            <a:chOff x="6476760" y="4648320"/>
            <a:chExt cx="152640" cy="152280"/>
          </a:xfrm>
        </p:grpSpPr>
        <p:sp>
          <p:nvSpPr>
            <p:cNvPr id="1684" name=""/>
            <p:cNvSpPr/>
            <p:nvPr/>
          </p:nvSpPr>
          <p:spPr>
            <a:xfrm>
              <a:off x="647712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647676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8152920" y="4648320"/>
            <a:ext cx="152640" cy="152280"/>
            <a:chOff x="8152920" y="4648320"/>
            <a:chExt cx="152640" cy="152280"/>
          </a:xfrm>
        </p:grpSpPr>
        <p:sp>
          <p:nvSpPr>
            <p:cNvPr id="1687" name=""/>
            <p:cNvSpPr/>
            <p:nvPr/>
          </p:nvSpPr>
          <p:spPr>
            <a:xfrm>
              <a:off x="815328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815292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7314840" y="4648320"/>
            <a:ext cx="152640" cy="152280"/>
            <a:chOff x="7314840" y="4648320"/>
            <a:chExt cx="152640" cy="152280"/>
          </a:xfrm>
        </p:grpSpPr>
        <p:sp>
          <p:nvSpPr>
            <p:cNvPr id="1690" name=""/>
            <p:cNvSpPr/>
            <p:nvPr/>
          </p:nvSpPr>
          <p:spPr>
            <a:xfrm>
              <a:off x="731520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731484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7848720" y="1905120"/>
            <a:ext cx="83808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7010280" y="1905120"/>
            <a:ext cx="83844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172200" y="1905120"/>
            <a:ext cx="83808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334120" y="1905120"/>
            <a:ext cx="83808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152280" y="1371960"/>
            <a:ext cx="8763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nfiguration de chaque Device s'effectue pendant l'énumération via une succession de transferts spécifiques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ol Transfer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, adressé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on EndPoint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/Initi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1800" y="3885480"/>
            <a:ext cx="8685000" cy="2144520"/>
            <a:chOff x="1800" y="3885480"/>
            <a:chExt cx="8685000" cy="2144520"/>
          </a:xfrm>
        </p:grpSpPr>
        <p:sp>
          <p:nvSpPr>
            <p:cNvPr id="1699" name=""/>
            <p:cNvSpPr/>
            <p:nvPr/>
          </p:nvSpPr>
          <p:spPr>
            <a:xfrm>
              <a:off x="1447920" y="4572000"/>
              <a:ext cx="1523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4572000"/>
              <a:ext cx="152388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181480" y="4572000"/>
              <a:ext cx="152424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086600" y="4572000"/>
              <a:ext cx="152388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447920" y="5486400"/>
              <a:ext cx="1523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257800" y="5486400"/>
              <a:ext cx="152388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276720" y="5486400"/>
              <a:ext cx="152388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086600" y="5486400"/>
              <a:ext cx="152388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21720" y="3901320"/>
              <a:ext cx="12096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etup S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493520" y="3885480"/>
              <a:ext cx="1101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Data S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160040" y="3901320"/>
              <a:ext cx="12596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tatus S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 rot="5400000">
              <a:off x="2095560" y="3542400"/>
              <a:ext cx="228600" cy="1523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 rot="5400000">
              <a:off x="4876920" y="2589840"/>
              <a:ext cx="228600" cy="3429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 rot="5400000">
              <a:off x="7734240" y="3466080"/>
              <a:ext cx="228600" cy="1676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4792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828800" y="48006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59092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00600" y="4571640"/>
              <a:ext cx="3909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00600" y="5486040"/>
              <a:ext cx="3909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72160" y="5333760"/>
              <a:ext cx="34992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726600" y="5333760"/>
              <a:ext cx="34992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2280" y="4647960"/>
              <a:ext cx="113796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ontrol 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800" y="5486040"/>
              <a:ext cx="137412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ontrol Write 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o Data 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825920" y="5105160"/>
              <a:ext cx="75996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eque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27672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57600" y="48006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41972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181480" y="4800600"/>
              <a:ext cx="38124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62720" y="4800600"/>
              <a:ext cx="76176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324480" y="4800600"/>
              <a:ext cx="38124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08660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467480" y="48006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22960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44792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828800" y="57150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59092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27672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57600" y="57150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41972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25780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638680" y="57150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40080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8660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467480" y="57150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22960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4" name=""/>
          <p:cNvSpPr/>
          <p:nvPr/>
        </p:nvSpPr>
        <p:spPr>
          <a:xfrm>
            <a:off x="152280" y="1981800"/>
            <a:ext cx="8763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ontrol Transfer débute par une transaction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décrivant la requête adressée au 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52280" y="2591280"/>
            <a:ext cx="8763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transaction de Setup est éventuellement suivie de transactions IN (Control Read) ou OUT (Control Wri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52280" y="3200400"/>
            <a:ext cx="8763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se termine par une transaction de STATUS (OUT ou 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1371600" y="4495680"/>
            <a:ext cx="1676520" cy="1524240"/>
            <a:chOff x="1371600" y="4495680"/>
            <a:chExt cx="1676520" cy="1524240"/>
          </a:xfrm>
        </p:grpSpPr>
        <p:sp>
          <p:nvSpPr>
            <p:cNvPr id="1748" name=""/>
            <p:cNvSpPr/>
            <p:nvPr/>
          </p:nvSpPr>
          <p:spPr>
            <a:xfrm>
              <a:off x="1371600" y="4495680"/>
              <a:ext cx="167652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371600" y="5410080"/>
              <a:ext cx="167652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3200400" y="4495680"/>
            <a:ext cx="3581280" cy="1524240"/>
            <a:chOff x="3200400" y="4495680"/>
            <a:chExt cx="3581280" cy="1524240"/>
          </a:xfrm>
        </p:grpSpPr>
        <p:sp>
          <p:nvSpPr>
            <p:cNvPr id="1751" name=""/>
            <p:cNvSpPr/>
            <p:nvPr/>
          </p:nvSpPr>
          <p:spPr>
            <a:xfrm>
              <a:off x="3200400" y="4495680"/>
              <a:ext cx="358128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200400" y="5410080"/>
              <a:ext cx="358128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7010280" y="4495680"/>
            <a:ext cx="1676520" cy="1524240"/>
            <a:chOff x="7010280" y="4495680"/>
            <a:chExt cx="1676520" cy="1524240"/>
          </a:xfrm>
        </p:grpSpPr>
        <p:sp>
          <p:nvSpPr>
            <p:cNvPr id="1754" name=""/>
            <p:cNvSpPr/>
            <p:nvPr/>
          </p:nvSpPr>
          <p:spPr>
            <a:xfrm>
              <a:off x="7010280" y="4495680"/>
              <a:ext cx="167652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010280" y="5410080"/>
              <a:ext cx="167652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4191120"/>
            <a:ext cx="1295280" cy="152532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1295280"/>
            <a:ext cx="388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f3f8"/>
                </a:solidFill>
                <a:latin typeface="Arial"/>
              </a:rPr>
              <a:t>PERFORMANCE </a:t>
            </a:r>
            <a:r>
              <a:rPr b="0" lang="en-US" sz="1400" spc="-1" strike="noStrike">
                <a:solidFill>
                  <a:srgbClr val="def3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def3f8"/>
                </a:solidFill>
                <a:latin typeface="Arial"/>
              </a:rPr>
              <a:t>   APPLICATION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2819520"/>
            <a:ext cx="6858000" cy="1434960"/>
          </a:xfrm>
          <a:prstGeom prst="rect">
            <a:avLst/>
          </a:prstGeom>
          <a:solidFill>
            <a:srgbClr val="ff9966"/>
          </a:solidFill>
          <a:ln w="12600">
            <a:solidFill>
              <a:srgbClr val="def3f8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676520"/>
            <a:ext cx="6858000" cy="977760"/>
          </a:xfrm>
          <a:prstGeom prst="rect">
            <a:avLst/>
          </a:prstGeom>
          <a:solidFill>
            <a:srgbClr val="ff9966"/>
          </a:solidFill>
          <a:ln w="12600">
            <a:solidFill>
              <a:srgbClr val="def3f8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4419720"/>
            <a:ext cx="6858000" cy="1130040"/>
          </a:xfrm>
          <a:prstGeom prst="rect">
            <a:avLst/>
          </a:prstGeom>
          <a:solidFill>
            <a:srgbClr val="c0c0c0"/>
          </a:solidFill>
          <a:ln w="12600">
            <a:solidFill>
              <a:srgbClr val="def3f8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00200"/>
            <a:ext cx="1295280" cy="251460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362320"/>
            <a:ext cx="144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Times New Roman"/>
              </a:rPr>
              <a:t>USB Low/Ful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56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400" y="106668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78200" y="178164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--&gt; 10K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7840" y="292464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--&gt; 10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77840" y="452484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--&gt; 400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167472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Périphériques interactifs (claviers, souris, conso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Afficheurs, le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Automatismes (mesure, capt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Remplacement liaisons-série l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2923920"/>
            <a:ext cx="472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Télécom/Datacom (téléphonie, mod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Bureautique (disques, imprimantes, fax, scann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Multimedia (audio, vidéo limitée, set-top-box, jeux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Lecteurs carte a pu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Remplacement liaisons-série rap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8120" y="4494240"/>
            <a:ext cx="382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Multimedia (vide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Bureautique (disques, imprimantes, scann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Télécom-Data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Transmission haute vit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4956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r>
              <a:rPr b="1" i="1" lang="en-GB" sz="1800" spc="-1" strike="noStrike">
                <a:solidFill>
                  <a:srgbClr val="000099"/>
                </a:solidFill>
                <a:latin typeface="Times New Roman"/>
              </a:rPr>
              <a:t> 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Times New Roman"/>
              </a:rPr>
              <a:t>High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2181240" y="2895120"/>
            <a:ext cx="509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276720" y="2895480"/>
            <a:ext cx="175248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616720" y="28954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743200" y="2895480"/>
            <a:ext cx="533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33520" y="28954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56840" y="2895120"/>
            <a:ext cx="689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037880" y="2895120"/>
            <a:ext cx="61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571040" y="2895120"/>
            <a:ext cx="6044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743200" y="2895120"/>
            <a:ext cx="5875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349080" y="2895120"/>
            <a:ext cx="14396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quête (8 oct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638320" y="2895120"/>
            <a:ext cx="4946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04920" y="1447920"/>
            <a:ext cx="8610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tup Stage : envoi d'une requête décrivant l'information souhai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368800" y="1905120"/>
            <a:ext cx="182808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tup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 rot="5400000">
            <a:off x="3162240" y="-420120"/>
            <a:ext cx="381240" cy="5638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066680" y="2895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600200" y="2895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133720" y="289548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063080" y="2590560"/>
            <a:ext cx="11347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quet T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349440" y="2590560"/>
            <a:ext cx="10324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que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480280" y="2590560"/>
            <a:ext cx="14839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quet Handsh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884400" y="3427920"/>
            <a:ext cx="3764880" cy="25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ractéristiques de requê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rection (Host -&gt; Device, Device -&gt; H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 (Standard, Class, Vendor, 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tinataire (Device, Interface, Endpoint, 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de-requê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t Add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t/Set 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t/Set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b octets à transférer suite à la requê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33920" y="34290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733920" y="3581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733920" y="4343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733920" y="5867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rot="16200000">
            <a:off x="4038480" y="24379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991"/>
                </a:lnTo>
                <a:cubicBezTo>
                  <a:pt x="10800" y="4891"/>
                  <a:pt x="5400" y="5791"/>
                  <a:pt x="0" y="5791"/>
                </a:cubicBezTo>
                <a:cubicBezTo>
                  <a:pt x="5400" y="5791"/>
                  <a:pt x="10800" y="6691"/>
                  <a:pt x="10800" y="759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029200" y="2895120"/>
            <a:ext cx="509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029200" y="2895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52280" y="6019920"/>
            <a:ext cx="86108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req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 standard doiven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 reconnues et e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 par tout Device 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/>
          <p:nvPr/>
        </p:nvSpPr>
        <p:spPr>
          <a:xfrm>
            <a:off x="1828800" y="2438280"/>
            <a:ext cx="1447920" cy="2438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04920" y="1447920"/>
            <a:ext cx="274320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 des req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828800" y="24382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quest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828800" y="27432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quest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828800" y="3048120"/>
            <a:ext cx="1447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828800" y="3657600"/>
            <a:ext cx="1447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828800" y="4267080"/>
            <a:ext cx="1447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257800" y="2438280"/>
            <a:ext cx="30492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562720" y="2438280"/>
            <a:ext cx="60948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172200" y="2438280"/>
            <a:ext cx="152388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cip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804560" y="3048120"/>
            <a:ext cx="1402920" cy="45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 : Host-to-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: Device-to-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28440" y="3048120"/>
            <a:ext cx="1047960" cy="81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 :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: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: Ven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: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548120" y="3022560"/>
            <a:ext cx="1175760" cy="99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 : 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: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: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: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.. :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352680" y="259092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410080" y="27432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867280" y="27432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934320" y="274320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116600" y="3733920"/>
            <a:ext cx="1593360" cy="245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 : Get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: Clear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: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: Set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: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: Set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: Get 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: Set 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: Get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: Set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: Get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: Set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: Sync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352680" y="2895480"/>
            <a:ext cx="83844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/>
          <p:nvPr/>
        </p:nvSpPr>
        <p:spPr>
          <a:xfrm>
            <a:off x="304920" y="1447920"/>
            <a:ext cx="64767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'Get Device Descriptor' ( Setup S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457200" y="2362320"/>
            <a:ext cx="3733920" cy="228600"/>
            <a:chOff x="457200" y="2362320"/>
            <a:chExt cx="3733920" cy="228600"/>
          </a:xfrm>
        </p:grpSpPr>
        <p:sp>
          <p:nvSpPr>
            <p:cNvPr id="1808" name=""/>
            <p:cNvSpPr/>
            <p:nvPr/>
          </p:nvSpPr>
          <p:spPr>
            <a:xfrm>
              <a:off x="45720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914400" y="2362320"/>
              <a:ext cx="53352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447920" y="23623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905120" y="236232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36232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819520" y="2362320"/>
              <a:ext cx="99036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quête (8 o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809880" y="23623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4267080" y="2362320"/>
            <a:ext cx="38124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2514600" y="3200400"/>
            <a:ext cx="6342840" cy="3285720"/>
            <a:chOff x="2514600" y="3200400"/>
            <a:chExt cx="6342840" cy="3285720"/>
          </a:xfrm>
        </p:grpSpPr>
        <p:sp>
          <p:nvSpPr>
            <p:cNvPr id="1817" name=""/>
            <p:cNvSpPr/>
            <p:nvPr/>
          </p:nvSpPr>
          <p:spPr>
            <a:xfrm>
              <a:off x="2514600" y="3200400"/>
              <a:ext cx="1447920" cy="243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514600" y="3200400"/>
              <a:ext cx="1447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equest Typ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514600" y="3505320"/>
              <a:ext cx="1447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equest cod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514600" y="3809880"/>
              <a:ext cx="14479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alue = 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514600" y="4419720"/>
              <a:ext cx="14479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dex= 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514600" y="5029200"/>
              <a:ext cx="14479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ngth=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562720" y="3200400"/>
              <a:ext cx="30456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67280" y="3200400"/>
              <a:ext cx="60984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477120" y="3200400"/>
              <a:ext cx="15238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cip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11640" y="3835440"/>
              <a:ext cx="1194120" cy="39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 : Host-to-De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 : Device-to-H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634800" y="3835440"/>
              <a:ext cx="898560" cy="69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 : Stand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 : Cla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 : Vend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3 : Reserv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53760" y="3809880"/>
              <a:ext cx="1003680" cy="84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 : De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 : 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 : End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3 : 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4... : Reserv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038480" y="33526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715000" y="35053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172200" y="3505320"/>
              <a:ext cx="5335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238880" y="3505320"/>
              <a:ext cx="60984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883040" y="4419720"/>
              <a:ext cx="1344960" cy="206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 : Get St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 : Clear Fe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 : Reserv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3 : Set Fe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4 : Reserv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5 : Set Add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6 : Get Descrip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7 : Set Descrip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8 : Get Configu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9 : Set Configu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 : Get 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1 : Set 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 : Sync 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38480" y="3657600"/>
              <a:ext cx="8384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2514240" y="26668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809880" y="266688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"/>
          <p:cNvGrpSpPr/>
          <p:nvPr/>
        </p:nvGrpSpPr>
        <p:grpSpPr>
          <a:xfrm>
            <a:off x="3809880" y="3962520"/>
            <a:ext cx="4343400" cy="1917720"/>
            <a:chOff x="3809880" y="3962520"/>
            <a:chExt cx="4343400" cy="1917720"/>
          </a:xfrm>
        </p:grpSpPr>
        <p:sp>
          <p:nvSpPr>
            <p:cNvPr id="1839" name=""/>
            <p:cNvSpPr/>
            <p:nvPr/>
          </p:nvSpPr>
          <p:spPr>
            <a:xfrm>
              <a:off x="6705720" y="5410080"/>
              <a:ext cx="144756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809880" y="3962520"/>
              <a:ext cx="2667240" cy="1917720"/>
            </a:xfrm>
            <a:custGeom>
              <a:avLst/>
              <a:gdLst/>
              <a:ahLst/>
              <a:rect l="l" t="t" r="r" b="b"/>
              <a:pathLst>
                <a:path w="1680" h="1208">
                  <a:moveTo>
                    <a:pt x="1680" y="1056"/>
                  </a:moveTo>
                  <a:cubicBezTo>
                    <a:pt x="1440" y="1132"/>
                    <a:pt x="1200" y="1208"/>
                    <a:pt x="960" y="1152"/>
                  </a:cubicBezTo>
                  <a:cubicBezTo>
                    <a:pt x="720" y="1096"/>
                    <a:pt x="400" y="912"/>
                    <a:pt x="240" y="720"/>
                  </a:cubicBezTo>
                  <a:cubicBezTo>
                    <a:pt x="80" y="528"/>
                    <a:pt x="40" y="264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809880" y="3505320"/>
            <a:ext cx="4343400" cy="1904760"/>
            <a:chOff x="3809880" y="3505320"/>
            <a:chExt cx="4343400" cy="1904760"/>
          </a:xfrm>
        </p:grpSpPr>
        <p:sp>
          <p:nvSpPr>
            <p:cNvPr id="1842" name=""/>
            <p:cNvSpPr/>
            <p:nvPr/>
          </p:nvSpPr>
          <p:spPr>
            <a:xfrm>
              <a:off x="6705720" y="3581280"/>
              <a:ext cx="144756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809880" y="3505320"/>
              <a:ext cx="2667240" cy="1307880"/>
            </a:xfrm>
            <a:custGeom>
              <a:avLst/>
              <a:gdLst/>
              <a:ahLst/>
              <a:rect l="l" t="t" r="r" b="b"/>
              <a:pathLst>
                <a:path w="1680" h="824">
                  <a:moveTo>
                    <a:pt x="1680" y="624"/>
                  </a:moveTo>
                  <a:cubicBezTo>
                    <a:pt x="1496" y="716"/>
                    <a:pt x="1312" y="808"/>
                    <a:pt x="1104" y="816"/>
                  </a:cubicBezTo>
                  <a:cubicBezTo>
                    <a:pt x="896" y="824"/>
                    <a:pt x="616" y="808"/>
                    <a:pt x="432" y="672"/>
                  </a:cubicBezTo>
                  <a:cubicBezTo>
                    <a:pt x="248" y="536"/>
                    <a:pt x="124" y="268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3733920" y="1752480"/>
            <a:ext cx="4419360" cy="1854360"/>
            <a:chOff x="3733920" y="1752480"/>
            <a:chExt cx="4419360" cy="1854360"/>
          </a:xfrm>
        </p:grpSpPr>
        <p:sp>
          <p:nvSpPr>
            <p:cNvPr id="1845" name=""/>
            <p:cNvSpPr/>
            <p:nvPr/>
          </p:nvSpPr>
          <p:spPr>
            <a:xfrm>
              <a:off x="6705720" y="1752480"/>
              <a:ext cx="144756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733920" y="2666880"/>
              <a:ext cx="2743200" cy="939960"/>
            </a:xfrm>
            <a:custGeom>
              <a:avLst/>
              <a:gdLst/>
              <a:ahLst/>
              <a:rect l="l" t="t" r="r" b="b"/>
              <a:pathLst>
                <a:path w="1728" h="592">
                  <a:moveTo>
                    <a:pt x="1728" y="0"/>
                  </a:moveTo>
                  <a:cubicBezTo>
                    <a:pt x="1656" y="144"/>
                    <a:pt x="1584" y="288"/>
                    <a:pt x="1440" y="384"/>
                  </a:cubicBezTo>
                  <a:cubicBezTo>
                    <a:pt x="1296" y="480"/>
                    <a:pt x="1056" y="560"/>
                    <a:pt x="864" y="576"/>
                  </a:cubicBezTo>
                  <a:cubicBezTo>
                    <a:pt x="672" y="592"/>
                    <a:pt x="432" y="536"/>
                    <a:pt x="288" y="480"/>
                  </a:cubicBezTo>
                  <a:cubicBezTo>
                    <a:pt x="144" y="424"/>
                    <a:pt x="72" y="332"/>
                    <a:pt x="0" y="2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304920" y="1447920"/>
            <a:ext cx="64767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'Get Device Descriptor' (Data S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762120" y="2819520"/>
            <a:ext cx="1828800" cy="228600"/>
            <a:chOff x="762120" y="2819520"/>
            <a:chExt cx="1828800" cy="228600"/>
          </a:xfrm>
        </p:grpSpPr>
        <p:sp>
          <p:nvSpPr>
            <p:cNvPr id="1849" name=""/>
            <p:cNvSpPr/>
            <p:nvPr/>
          </p:nvSpPr>
          <p:spPr>
            <a:xfrm>
              <a:off x="762120" y="28195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219320" y="28195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52480" y="28195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209680" y="28195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2666880" y="2819520"/>
            <a:ext cx="2286000" cy="228600"/>
            <a:chOff x="2666880" y="2819520"/>
            <a:chExt cx="2286000" cy="228600"/>
          </a:xfrm>
        </p:grpSpPr>
        <p:sp>
          <p:nvSpPr>
            <p:cNvPr id="1854" name=""/>
            <p:cNvSpPr/>
            <p:nvPr/>
          </p:nvSpPr>
          <p:spPr>
            <a:xfrm>
              <a:off x="2666880" y="28195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24080" y="2819520"/>
              <a:ext cx="99072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ipt (débu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114800" y="2819520"/>
              <a:ext cx="38088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572000" y="2819520"/>
              <a:ext cx="3808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990720" y="3276720"/>
            <a:ext cx="1828800" cy="228600"/>
            <a:chOff x="990720" y="3276720"/>
            <a:chExt cx="1828800" cy="228600"/>
          </a:xfrm>
        </p:grpSpPr>
        <p:sp>
          <p:nvSpPr>
            <p:cNvPr id="1859" name=""/>
            <p:cNvSpPr/>
            <p:nvPr/>
          </p:nvSpPr>
          <p:spPr>
            <a:xfrm>
              <a:off x="990720" y="32767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447920" y="32767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080" y="32767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438280" y="32767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2895480" y="3276720"/>
            <a:ext cx="2286000" cy="228600"/>
            <a:chOff x="2895480" y="3276720"/>
            <a:chExt cx="2286000" cy="228600"/>
          </a:xfrm>
        </p:grpSpPr>
        <p:sp>
          <p:nvSpPr>
            <p:cNvPr id="1864" name=""/>
            <p:cNvSpPr/>
            <p:nvPr/>
          </p:nvSpPr>
          <p:spPr>
            <a:xfrm>
              <a:off x="2895480" y="32767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352680" y="3276720"/>
              <a:ext cx="99072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ipt (milieu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343400" y="3276720"/>
              <a:ext cx="38088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800600" y="3276720"/>
              <a:ext cx="3808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219320" y="3733920"/>
            <a:ext cx="1828800" cy="228600"/>
            <a:chOff x="1219320" y="3733920"/>
            <a:chExt cx="1828800" cy="228600"/>
          </a:xfrm>
        </p:grpSpPr>
        <p:sp>
          <p:nvSpPr>
            <p:cNvPr id="1869" name=""/>
            <p:cNvSpPr/>
            <p:nvPr/>
          </p:nvSpPr>
          <p:spPr>
            <a:xfrm>
              <a:off x="1219320" y="37339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676520" y="37339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209680" y="37339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666880" y="37339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3124080" y="3733920"/>
            <a:ext cx="1981440" cy="228600"/>
            <a:chOff x="3124080" y="3733920"/>
            <a:chExt cx="1981440" cy="228600"/>
          </a:xfrm>
        </p:grpSpPr>
        <p:sp>
          <p:nvSpPr>
            <p:cNvPr id="1874" name=""/>
            <p:cNvSpPr/>
            <p:nvPr/>
          </p:nvSpPr>
          <p:spPr>
            <a:xfrm>
              <a:off x="3124080" y="37339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581280" y="3733920"/>
              <a:ext cx="68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. (fi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267080" y="3733920"/>
              <a:ext cx="38124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724280" y="3733920"/>
              <a:ext cx="38124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6477120" y="1752480"/>
            <a:ext cx="1676160" cy="4114800"/>
            <a:chOff x="6477120" y="1752480"/>
            <a:chExt cx="1676160" cy="4114800"/>
          </a:xfrm>
        </p:grpSpPr>
        <p:sp>
          <p:nvSpPr>
            <p:cNvPr id="1879" name=""/>
            <p:cNvSpPr/>
            <p:nvPr/>
          </p:nvSpPr>
          <p:spPr>
            <a:xfrm>
              <a:off x="6705720" y="17524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escript. length=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705720" y="1752480"/>
              <a:ext cx="1447560" cy="411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705720" y="19810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escript type=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705720" y="22096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USB Release=x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705720" y="26668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705720" y="28954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ub-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705720" y="31240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705720" y="33526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ax Packet 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05720" y="35812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Vendor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705720" y="40384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oduct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705720" y="44956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evice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705720" y="49528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Vendor 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705720" y="56386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b of Confi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705720" y="54100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erial nb 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705720" y="51814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oduct 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477120" y="1828800"/>
              <a:ext cx="152280" cy="1676520"/>
            </a:xfrm>
            <a:custGeom>
              <a:avLst/>
              <a:gdLst/>
              <a:ahLst/>
              <a:rect l="l" t="t" r="r" b="b"/>
              <a:pathLst>
                <a:path w="96" h="1152">
                  <a:moveTo>
                    <a:pt x="96" y="0"/>
                  </a:moveTo>
                  <a:lnTo>
                    <a:pt x="48" y="48"/>
                  </a:lnTo>
                  <a:lnTo>
                    <a:pt x="48" y="528"/>
                  </a:lnTo>
                  <a:lnTo>
                    <a:pt x="0" y="576"/>
                  </a:lnTo>
                  <a:lnTo>
                    <a:pt x="48" y="624"/>
                  </a:lnTo>
                  <a:lnTo>
                    <a:pt x="48" y="1104"/>
                  </a:lnTo>
                  <a:lnTo>
                    <a:pt x="96" y="11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477120" y="3657600"/>
              <a:ext cx="152280" cy="1676520"/>
            </a:xfrm>
            <a:custGeom>
              <a:avLst/>
              <a:gdLst/>
              <a:ahLst/>
              <a:rect l="l" t="t" r="r" b="b"/>
              <a:pathLst>
                <a:path w="96" h="1152">
                  <a:moveTo>
                    <a:pt x="96" y="0"/>
                  </a:moveTo>
                  <a:lnTo>
                    <a:pt x="48" y="48"/>
                  </a:lnTo>
                  <a:lnTo>
                    <a:pt x="48" y="528"/>
                  </a:lnTo>
                  <a:lnTo>
                    <a:pt x="0" y="576"/>
                  </a:lnTo>
                  <a:lnTo>
                    <a:pt x="48" y="624"/>
                  </a:lnTo>
                  <a:lnTo>
                    <a:pt x="48" y="1104"/>
                  </a:lnTo>
                  <a:lnTo>
                    <a:pt x="96" y="11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477120" y="54100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144"/>
                  </a:lnTo>
                  <a:lnTo>
                    <a:pt x="48" y="192"/>
                  </a:lnTo>
                  <a:lnTo>
                    <a:pt x="48" y="240"/>
                  </a:lnTo>
                  <a:lnTo>
                    <a:pt x="96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457200" y="2362320"/>
            <a:ext cx="4191120" cy="228600"/>
            <a:chOff x="457200" y="2362320"/>
            <a:chExt cx="4191120" cy="228600"/>
          </a:xfrm>
        </p:grpSpPr>
        <p:sp>
          <p:nvSpPr>
            <p:cNvPr id="1899" name=""/>
            <p:cNvSpPr/>
            <p:nvPr/>
          </p:nvSpPr>
          <p:spPr>
            <a:xfrm>
              <a:off x="45720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914400" y="2362320"/>
              <a:ext cx="53352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447920" y="23623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905120" y="236232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6232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19520" y="2362320"/>
              <a:ext cx="9903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t Dev. Desc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809880" y="23623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267080" y="2362320"/>
              <a:ext cx="38124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2971800" y="6019920"/>
            <a:ext cx="3808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447920" y="60199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14160" y="6018840"/>
            <a:ext cx="81936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H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061000" y="6018840"/>
            <a:ext cx="9352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De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04920" y="2286000"/>
            <a:ext cx="45720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304920" y="1447920"/>
            <a:ext cx="64767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'Get Device Descriptor' (Status S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762120" y="2819520"/>
            <a:ext cx="1828800" cy="228600"/>
            <a:chOff x="762120" y="2819520"/>
            <a:chExt cx="1828800" cy="228600"/>
          </a:xfrm>
        </p:grpSpPr>
        <p:sp>
          <p:nvSpPr>
            <p:cNvPr id="1914" name=""/>
            <p:cNvSpPr/>
            <p:nvPr/>
          </p:nvSpPr>
          <p:spPr>
            <a:xfrm>
              <a:off x="762120" y="28195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219320" y="28195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752480" y="28195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209680" y="28195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2666880" y="2819520"/>
            <a:ext cx="2286000" cy="228600"/>
            <a:chOff x="2666880" y="2819520"/>
            <a:chExt cx="2286000" cy="228600"/>
          </a:xfrm>
        </p:grpSpPr>
        <p:sp>
          <p:nvSpPr>
            <p:cNvPr id="1919" name=""/>
            <p:cNvSpPr/>
            <p:nvPr/>
          </p:nvSpPr>
          <p:spPr>
            <a:xfrm>
              <a:off x="2666880" y="28195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124080" y="2819520"/>
              <a:ext cx="99072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ipt (débu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114800" y="2819520"/>
              <a:ext cx="38088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572000" y="2819520"/>
              <a:ext cx="3808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990720" y="3276720"/>
            <a:ext cx="1828800" cy="228600"/>
            <a:chOff x="990720" y="3276720"/>
            <a:chExt cx="1828800" cy="228600"/>
          </a:xfrm>
        </p:grpSpPr>
        <p:sp>
          <p:nvSpPr>
            <p:cNvPr id="1924" name=""/>
            <p:cNvSpPr/>
            <p:nvPr/>
          </p:nvSpPr>
          <p:spPr>
            <a:xfrm>
              <a:off x="990720" y="32767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447920" y="32767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981080" y="32767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438280" y="32767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2895480" y="3276720"/>
            <a:ext cx="2286000" cy="228600"/>
            <a:chOff x="2895480" y="3276720"/>
            <a:chExt cx="2286000" cy="228600"/>
          </a:xfrm>
        </p:grpSpPr>
        <p:sp>
          <p:nvSpPr>
            <p:cNvPr id="1929" name=""/>
            <p:cNvSpPr/>
            <p:nvPr/>
          </p:nvSpPr>
          <p:spPr>
            <a:xfrm>
              <a:off x="2895480" y="32767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352680" y="3276720"/>
              <a:ext cx="99072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ipt (milieu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343400" y="3276720"/>
              <a:ext cx="38088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800600" y="3276720"/>
              <a:ext cx="3808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1219320" y="3733920"/>
            <a:ext cx="1828800" cy="228600"/>
            <a:chOff x="1219320" y="3733920"/>
            <a:chExt cx="1828800" cy="228600"/>
          </a:xfrm>
        </p:grpSpPr>
        <p:sp>
          <p:nvSpPr>
            <p:cNvPr id="1934" name=""/>
            <p:cNvSpPr/>
            <p:nvPr/>
          </p:nvSpPr>
          <p:spPr>
            <a:xfrm>
              <a:off x="1219320" y="37339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676520" y="37339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209680" y="37339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666880" y="37339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3124080" y="3733920"/>
            <a:ext cx="1981440" cy="228600"/>
            <a:chOff x="3124080" y="3733920"/>
            <a:chExt cx="1981440" cy="228600"/>
          </a:xfrm>
        </p:grpSpPr>
        <p:sp>
          <p:nvSpPr>
            <p:cNvPr id="1939" name=""/>
            <p:cNvSpPr/>
            <p:nvPr/>
          </p:nvSpPr>
          <p:spPr>
            <a:xfrm>
              <a:off x="3124080" y="37339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581280" y="3733920"/>
              <a:ext cx="68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. (fi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267080" y="3733920"/>
              <a:ext cx="38124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724280" y="3733920"/>
              <a:ext cx="38124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457200" y="2362320"/>
            <a:ext cx="4191120" cy="228600"/>
            <a:chOff x="457200" y="2362320"/>
            <a:chExt cx="4191120" cy="228600"/>
          </a:xfrm>
        </p:grpSpPr>
        <p:sp>
          <p:nvSpPr>
            <p:cNvPr id="1945" name=""/>
            <p:cNvSpPr/>
            <p:nvPr/>
          </p:nvSpPr>
          <p:spPr>
            <a:xfrm>
              <a:off x="45720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914400" y="2362320"/>
              <a:ext cx="53352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47920" y="23623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905120" y="236232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36232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819520" y="2362320"/>
              <a:ext cx="9903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t Dev. Desc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809880" y="23623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267080" y="2362320"/>
              <a:ext cx="38124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2971800" y="6019920"/>
            <a:ext cx="3808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447920" y="60199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4160" y="6018840"/>
            <a:ext cx="81936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H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061000" y="6018840"/>
            <a:ext cx="9352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De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1523880" y="4191120"/>
            <a:ext cx="1828800" cy="228600"/>
            <a:chOff x="1523880" y="4191120"/>
            <a:chExt cx="1828800" cy="228600"/>
          </a:xfrm>
        </p:grpSpPr>
        <p:sp>
          <p:nvSpPr>
            <p:cNvPr id="1958" name=""/>
            <p:cNvSpPr/>
            <p:nvPr/>
          </p:nvSpPr>
          <p:spPr>
            <a:xfrm>
              <a:off x="1523880" y="41911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981080" y="4191120"/>
              <a:ext cx="53352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514600" y="41911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971800" y="419112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3429000" y="4191120"/>
            <a:ext cx="838080" cy="228600"/>
            <a:chOff x="3429000" y="4191120"/>
            <a:chExt cx="838080" cy="228600"/>
          </a:xfrm>
        </p:grpSpPr>
        <p:sp>
          <p:nvSpPr>
            <p:cNvPr id="1963" name=""/>
            <p:cNvSpPr/>
            <p:nvPr/>
          </p:nvSpPr>
          <p:spPr>
            <a:xfrm>
              <a:off x="3429000" y="41911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886200" y="419112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5" name=""/>
          <p:cNvSpPr/>
          <p:nvPr/>
        </p:nvSpPr>
        <p:spPr>
          <a:xfrm>
            <a:off x="4343400" y="4191120"/>
            <a:ext cx="3808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04920" y="2286000"/>
            <a:ext cx="502920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304920" y="1447920"/>
            <a:ext cx="64767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'Get Device Descriptor' (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pitulat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57200" y="23623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914400" y="23623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447920" y="2362320"/>
            <a:ext cx="4572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905120" y="2362320"/>
            <a:ext cx="38088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362320" y="23623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819520" y="2362320"/>
            <a:ext cx="99036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quête (8 oct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809880" y="2362320"/>
            <a:ext cx="38124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267080" y="2362320"/>
            <a:ext cx="38124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990720" y="30481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447920" y="3048120"/>
            <a:ext cx="53316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981080" y="3048120"/>
            <a:ext cx="4572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438280" y="3048120"/>
            <a:ext cx="38124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895480" y="3048120"/>
            <a:ext cx="4572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352680" y="3048120"/>
            <a:ext cx="9907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script (débu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343400" y="3048120"/>
            <a:ext cx="38088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800600" y="3048120"/>
            <a:ext cx="38088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447920" y="37339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905120" y="3733920"/>
            <a:ext cx="53316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438280" y="3733920"/>
            <a:ext cx="4572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895480" y="3733920"/>
            <a:ext cx="38124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352680" y="3733920"/>
            <a:ext cx="4572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809880" y="3733920"/>
            <a:ext cx="9907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script (milieu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800600" y="3733920"/>
            <a:ext cx="38088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257800" y="3733920"/>
            <a:ext cx="38088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981080" y="44197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438280" y="44197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971800" y="4419720"/>
            <a:ext cx="4572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429000" y="4419720"/>
            <a:ext cx="38088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4419720"/>
            <a:ext cx="4572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343400" y="4419720"/>
            <a:ext cx="9907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script (fi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334120" y="4419720"/>
            <a:ext cx="38088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791320" y="4419720"/>
            <a:ext cx="38088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514600" y="51055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971800" y="51055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505320" y="5105520"/>
            <a:ext cx="4572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962520" y="5105520"/>
            <a:ext cx="38088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419720" y="51055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876920" y="5105520"/>
            <a:ext cx="38088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334120" y="5105520"/>
            <a:ext cx="3808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800600" y="2819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952880" y="4952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84560" y="2361240"/>
            <a:ext cx="116388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tup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861600" y="3732840"/>
            <a:ext cx="107388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860160" y="5180760"/>
            <a:ext cx="120492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atus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43080" y="2514600"/>
            <a:ext cx="4991040" cy="609480"/>
          </a:xfrm>
          <a:custGeom>
            <a:avLst/>
            <a:gdLst/>
            <a:ahLst/>
            <a:rect l="l" t="t" r="r" b="b"/>
            <a:pathLst>
              <a:path w="3144" h="384">
                <a:moveTo>
                  <a:pt x="2760" y="0"/>
                </a:moveTo>
                <a:cubicBezTo>
                  <a:pt x="2952" y="32"/>
                  <a:pt x="3144" y="64"/>
                  <a:pt x="3000" y="96"/>
                </a:cubicBezTo>
                <a:cubicBezTo>
                  <a:pt x="2856" y="128"/>
                  <a:pt x="2352" y="176"/>
                  <a:pt x="1896" y="192"/>
                </a:cubicBezTo>
                <a:cubicBezTo>
                  <a:pt x="1440" y="208"/>
                  <a:pt x="528" y="160"/>
                  <a:pt x="264" y="192"/>
                </a:cubicBezTo>
                <a:cubicBezTo>
                  <a:pt x="0" y="224"/>
                  <a:pt x="156" y="304"/>
                  <a:pt x="312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914400" y="3200400"/>
            <a:ext cx="4991040" cy="609480"/>
          </a:xfrm>
          <a:custGeom>
            <a:avLst/>
            <a:gdLst/>
            <a:ahLst/>
            <a:rect l="l" t="t" r="r" b="b"/>
            <a:pathLst>
              <a:path w="3144" h="384">
                <a:moveTo>
                  <a:pt x="2760" y="0"/>
                </a:moveTo>
                <a:cubicBezTo>
                  <a:pt x="2952" y="32"/>
                  <a:pt x="3144" y="64"/>
                  <a:pt x="3000" y="96"/>
                </a:cubicBezTo>
                <a:cubicBezTo>
                  <a:pt x="2856" y="128"/>
                  <a:pt x="2352" y="176"/>
                  <a:pt x="1896" y="192"/>
                </a:cubicBezTo>
                <a:cubicBezTo>
                  <a:pt x="1440" y="208"/>
                  <a:pt x="528" y="160"/>
                  <a:pt x="264" y="192"/>
                </a:cubicBezTo>
                <a:cubicBezTo>
                  <a:pt x="0" y="224"/>
                  <a:pt x="156" y="304"/>
                  <a:pt x="312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371600" y="3886200"/>
            <a:ext cx="4991040" cy="609480"/>
          </a:xfrm>
          <a:custGeom>
            <a:avLst/>
            <a:gdLst/>
            <a:ahLst/>
            <a:rect l="l" t="t" r="r" b="b"/>
            <a:pathLst>
              <a:path w="3144" h="384">
                <a:moveTo>
                  <a:pt x="2760" y="0"/>
                </a:moveTo>
                <a:cubicBezTo>
                  <a:pt x="2952" y="32"/>
                  <a:pt x="3144" y="64"/>
                  <a:pt x="3000" y="96"/>
                </a:cubicBezTo>
                <a:cubicBezTo>
                  <a:pt x="2856" y="128"/>
                  <a:pt x="2352" y="176"/>
                  <a:pt x="1896" y="192"/>
                </a:cubicBezTo>
                <a:cubicBezTo>
                  <a:pt x="1440" y="208"/>
                  <a:pt x="528" y="160"/>
                  <a:pt x="264" y="192"/>
                </a:cubicBezTo>
                <a:cubicBezTo>
                  <a:pt x="0" y="224"/>
                  <a:pt x="156" y="304"/>
                  <a:pt x="312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828800" y="4572000"/>
            <a:ext cx="5067360" cy="609480"/>
          </a:xfrm>
          <a:custGeom>
            <a:avLst/>
            <a:gdLst/>
            <a:ahLst/>
            <a:rect l="l" t="t" r="r" b="b"/>
            <a:pathLst>
              <a:path w="3144" h="384">
                <a:moveTo>
                  <a:pt x="2760" y="0"/>
                </a:moveTo>
                <a:cubicBezTo>
                  <a:pt x="2952" y="32"/>
                  <a:pt x="3144" y="64"/>
                  <a:pt x="3000" y="96"/>
                </a:cubicBezTo>
                <a:cubicBezTo>
                  <a:pt x="2856" y="128"/>
                  <a:pt x="2352" y="176"/>
                  <a:pt x="1896" y="192"/>
                </a:cubicBezTo>
                <a:cubicBezTo>
                  <a:pt x="1440" y="208"/>
                  <a:pt x="528" y="160"/>
                  <a:pt x="264" y="192"/>
                </a:cubicBezTo>
                <a:cubicBezTo>
                  <a:pt x="0" y="224"/>
                  <a:pt x="156" y="304"/>
                  <a:pt x="312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971800" y="6019920"/>
            <a:ext cx="3808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447920" y="60199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4160" y="6018840"/>
            <a:ext cx="81936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H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061000" y="6018840"/>
            <a:ext cx="9352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De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"/>
          <p:cNvSpPr/>
          <p:nvPr/>
        </p:nvSpPr>
        <p:spPr>
          <a:xfrm>
            <a:off x="304920" y="1447920"/>
            <a:ext cx="502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'Set Address' (req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 stand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2" name=""/>
          <p:cNvGrpSpPr/>
          <p:nvPr/>
        </p:nvGrpSpPr>
        <p:grpSpPr>
          <a:xfrm>
            <a:off x="457200" y="2057400"/>
            <a:ext cx="3733920" cy="228600"/>
            <a:chOff x="457200" y="2057400"/>
            <a:chExt cx="3733920" cy="228600"/>
          </a:xfrm>
        </p:grpSpPr>
        <p:sp>
          <p:nvSpPr>
            <p:cNvPr id="2023" name=""/>
            <p:cNvSpPr/>
            <p:nvPr/>
          </p:nvSpPr>
          <p:spPr>
            <a:xfrm>
              <a:off x="457200" y="205740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14400" y="2057400"/>
              <a:ext cx="53352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447920" y="205740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05120" y="205740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362320" y="205740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819520" y="2057400"/>
              <a:ext cx="9903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quête (8 o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809880" y="205740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4267080" y="2057400"/>
            <a:ext cx="38124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879800" y="2056680"/>
            <a:ext cx="116388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tup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345560" y="2589840"/>
            <a:ext cx="120492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atus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6858000" y="2057400"/>
            <a:ext cx="1447920" cy="2438280"/>
            <a:chOff x="6858000" y="2057400"/>
            <a:chExt cx="1447920" cy="2438280"/>
          </a:xfrm>
        </p:grpSpPr>
        <p:sp>
          <p:nvSpPr>
            <p:cNvPr id="2034" name=""/>
            <p:cNvSpPr/>
            <p:nvPr/>
          </p:nvSpPr>
          <p:spPr>
            <a:xfrm>
              <a:off x="6858000" y="2057400"/>
              <a:ext cx="1447920" cy="243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858000" y="2057400"/>
              <a:ext cx="1447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equest Typ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858000" y="2362320"/>
              <a:ext cx="1447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equest cod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858000" y="2666880"/>
              <a:ext cx="14479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alue =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858000" y="3276720"/>
              <a:ext cx="14479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dex= 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858000" y="3886200"/>
              <a:ext cx="14479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ngth=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762120" y="2590920"/>
            <a:ext cx="1828800" cy="228600"/>
            <a:chOff x="762120" y="2590920"/>
            <a:chExt cx="1828800" cy="228600"/>
          </a:xfrm>
        </p:grpSpPr>
        <p:sp>
          <p:nvSpPr>
            <p:cNvPr id="2041" name=""/>
            <p:cNvSpPr/>
            <p:nvPr/>
          </p:nvSpPr>
          <p:spPr>
            <a:xfrm>
              <a:off x="762120" y="25909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19320" y="25909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52480" y="25909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209680" y="25909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2666880" y="2590920"/>
            <a:ext cx="838440" cy="228600"/>
            <a:chOff x="2666880" y="2590920"/>
            <a:chExt cx="838440" cy="228600"/>
          </a:xfrm>
        </p:grpSpPr>
        <p:sp>
          <p:nvSpPr>
            <p:cNvPr id="2046" name=""/>
            <p:cNvSpPr/>
            <p:nvPr/>
          </p:nvSpPr>
          <p:spPr>
            <a:xfrm>
              <a:off x="2666880" y="25909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124080" y="2590920"/>
              <a:ext cx="38124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8" name=""/>
          <p:cNvSpPr/>
          <p:nvPr/>
        </p:nvSpPr>
        <p:spPr>
          <a:xfrm>
            <a:off x="3581280" y="2590920"/>
            <a:ext cx="38124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"/>
          <p:cNvSpPr/>
          <p:nvPr/>
        </p:nvSpPr>
        <p:spPr>
          <a:xfrm>
            <a:off x="304920" y="1447920"/>
            <a:ext cx="8610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s de descri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352680" y="1828800"/>
            <a:ext cx="10670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676520" y="2743200"/>
            <a:ext cx="106668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638680" y="2743200"/>
            <a:ext cx="106704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38080" y="3733920"/>
            <a:ext cx="10670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191120" y="3733920"/>
            <a:ext cx="10666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33520" y="4800600"/>
            <a:ext cx="9144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1828800" y="4800600"/>
            <a:ext cx="9144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124080" y="4800600"/>
            <a:ext cx="9144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209680" y="2590920"/>
            <a:ext cx="3962520" cy="152280"/>
          </a:xfrm>
          <a:custGeom>
            <a:avLst/>
            <a:gdLst/>
            <a:ahLst/>
            <a:rect l="l" t="t" r="r" b="b"/>
            <a:pathLst>
              <a:path w="1488" h="96">
                <a:moveTo>
                  <a:pt x="0" y="96"/>
                </a:moveTo>
                <a:lnTo>
                  <a:pt x="0" y="0"/>
                </a:lnTo>
                <a:lnTo>
                  <a:pt x="1488" y="0"/>
                </a:lnTo>
                <a:lnTo>
                  <a:pt x="1488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572000" y="25909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295280" y="3581280"/>
            <a:ext cx="3886200" cy="152640"/>
          </a:xfrm>
          <a:custGeom>
            <a:avLst/>
            <a:gdLst/>
            <a:ahLst/>
            <a:rect l="l" t="t" r="r" b="b"/>
            <a:pathLst>
              <a:path w="1728" h="96">
                <a:moveTo>
                  <a:pt x="0" y="96"/>
                </a:moveTo>
                <a:lnTo>
                  <a:pt x="0" y="0"/>
                </a:lnTo>
                <a:lnTo>
                  <a:pt x="172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990720" y="4572000"/>
            <a:ext cx="3276360" cy="228600"/>
          </a:xfrm>
          <a:custGeom>
            <a:avLst/>
            <a:gdLst/>
            <a:ahLst/>
            <a:rect l="l" t="t" r="r" b="b"/>
            <a:pathLst>
              <a:path w="2064" h="144">
                <a:moveTo>
                  <a:pt x="0" y="144"/>
                </a:moveTo>
                <a:lnTo>
                  <a:pt x="0" y="0"/>
                </a:lnTo>
                <a:lnTo>
                  <a:pt x="206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886200" y="236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209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1295280" y="4267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28600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58128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04920" y="5715000"/>
            <a:ext cx="8610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diff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nts descripteurs sont communiq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 sur demande du Host, pendant l'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Descript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3733920" y="1981080"/>
            <a:ext cx="1447560" cy="4267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 des Devi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04920" y="1371600"/>
            <a:ext cx="8610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ice Descriptor : communiqué par le Device sur une requêt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'Get Descriptor (Device)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733920" y="198108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.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733920" y="228600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 type (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733920" y="2590920"/>
            <a:ext cx="1447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 Re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733920" y="289548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733920" y="320040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b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733920" y="3505320"/>
            <a:ext cx="1447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733920" y="380988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 Packet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733920" y="411480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ndor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733920" y="4419720"/>
            <a:ext cx="1447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duct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733920" y="472428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vice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733920" y="502920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ndor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733920" y="594360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b of Conf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733920" y="563868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rial nb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733920" y="5334120"/>
            <a:ext cx="1447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duct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"/>
          <p:cNvSpPr/>
          <p:nvPr/>
        </p:nvSpPr>
        <p:spPr>
          <a:xfrm>
            <a:off x="3581280" y="2286000"/>
            <a:ext cx="1447920" cy="243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04920" y="1447920"/>
            <a:ext cx="8610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figuration Descriptor : communiqué(s) par le Device sur une requêt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'Get Descriptor/Configuration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81280" y="22860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.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581280" y="25909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 type=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581280" y="28954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581280" y="32004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b of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581280" y="35053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ig.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581280" y="38098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ig.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581280" y="41148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581280" y="44197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486040" y="4037760"/>
            <a:ext cx="2105640" cy="51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us/Self Pow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mote wake-up yes/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952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4864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/Initi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1752480"/>
            <a:ext cx="838224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752480"/>
            <a:ext cx="83822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Les atouts de l'USB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828800"/>
            <a:ext cx="1673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ractéri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4640" y="1812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éné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280" y="228492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ible coût de l'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26720" y="228492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ériphériques économ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657600"/>
            <a:ext cx="154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'Hot Plug &amp; Pla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11480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usqu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127 périphér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760" y="2742120"/>
            <a:ext cx="31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ssibilité d'alimentation par le câ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6040" y="4570920"/>
            <a:ext cx="27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tection et correction d'err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3160" y="5028120"/>
            <a:ext cx="27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 vitesses, 4 types de transf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27080" y="3199320"/>
            <a:ext cx="213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ériphériques univers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6760" y="3199320"/>
            <a:ext cx="28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épendant des machines-hô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0680" y="365652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implicité d'empl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18440" y="4113720"/>
            <a:ext cx="35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rosses configurations, systèmes ouv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28880" y="457092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abilité, sécur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505836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pport de périphériques et d'applications varié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28520" y="274212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ériphériques lé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752480"/>
            <a:ext cx="3200400" cy="365760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6668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40384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5812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1240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9528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4956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/>
          <p:nvPr/>
        </p:nvSpPr>
        <p:spPr>
          <a:xfrm>
            <a:off x="3581280" y="2286000"/>
            <a:ext cx="1447920" cy="243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04920" y="1447920"/>
            <a:ext cx="88390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face Descriptor : envoyé par le Device à la suite du Configuration 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581280" y="22860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.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581280" y="25909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 type (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81280" y="28954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581280" y="32004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lternate-set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581280" y="35053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b of End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581280" y="38098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581280" y="41148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. sub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44197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.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581280" y="4724280"/>
            <a:ext cx="144792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/Initi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"/>
          <p:cNvSpPr/>
          <p:nvPr/>
        </p:nvSpPr>
        <p:spPr>
          <a:xfrm>
            <a:off x="3352680" y="2514600"/>
            <a:ext cx="1447920" cy="1828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04920" y="1447920"/>
            <a:ext cx="88390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dPoint Descriptor(s) : envoyés par le Device à la suite du 'Interface Descriptor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352680" y="25146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.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352680" y="28195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 type (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352680" y="31240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Point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352680" y="34290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352680" y="37339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 Packet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352680" y="40384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lling 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413320" y="2894760"/>
            <a:ext cx="1247400" cy="51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° End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87692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4100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7692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402520" y="3428280"/>
            <a:ext cx="315684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rol, Interrupt, Bulk, Isochr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/Initi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2133720" y="441972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lnSpc>
                <a:spcPct val="75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tre types de transferts possi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de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ntrôl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Low/Full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til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pérations d'initialisation/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tilisab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ntuellement pour des transferts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mode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terrup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Low/Full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és à des échang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 et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od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équence de scrutation garan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ise sur 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sochr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ll Spe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qu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de passante garanti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t, lat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 de reprise sur 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de masse ('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l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)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ll Spe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qu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ébit selon disponibi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ise sur 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ypes de transfer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0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lnSpc>
                <a:spcPct val="75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el type de transfert choisir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de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ntrô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rsque le nombre de Endpoints est lim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utilisation EP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tenter d'obtenir un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t Low Speed accep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utiliser le driver de classe HID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mode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te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des transfert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l'initiative du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que (asynchr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des transferts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odiques ou permanent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soch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8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des transfert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t constant et garanti (attention : la bande passante recla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 et non util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 est perdue)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u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tous les autres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ypes de transfer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ériphérique peut utiliser simultanément différents types de transfert sur différents endpoi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 0 :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ialis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: mode Contrô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 1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cture sta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: mode Interrup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 2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oi commande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mode 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l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 3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oi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: mode 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l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 4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ctur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: mode 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l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u d'u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que, un transfert de type Interrupt est identiqu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 transfert de type Bulk (la seule d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ce est au niveau du Ho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ypes de transfer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2057400" y="480060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cation de la bande passante US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% 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pour les transferts no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 (Control et Bu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usqu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90% utilisables pour les transfert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 (Interruption, Isochr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bande passante non 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 par les transfert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 est utilisable pour des transferts no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 (au g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u Ho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83808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ique pour le Host = 6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ow Speed par t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ur un transfert en mode Interrupt Low Speed, pas plus de 1 transaction toutes les 10 trames (=10 ms), soit un 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t maximum de 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800 octets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elon la charge du bus et la bonne volo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u Host, la 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ode peut descendr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1 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845280" y="2895480"/>
            <a:ext cx="7422480" cy="1534680"/>
            <a:chOff x="845280" y="2895480"/>
            <a:chExt cx="7422480" cy="1534680"/>
          </a:xfrm>
        </p:grpSpPr>
        <p:sp>
          <p:nvSpPr>
            <p:cNvPr id="2145" name=""/>
            <p:cNvSpPr/>
            <p:nvPr/>
          </p:nvSpPr>
          <p:spPr>
            <a:xfrm>
              <a:off x="1066680" y="3505320"/>
              <a:ext cx="15264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219320" y="3505320"/>
              <a:ext cx="15228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447920" y="3505320"/>
              <a:ext cx="68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33720" y="3505320"/>
              <a:ext cx="76176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895480" y="3505320"/>
              <a:ext cx="6858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NDP,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57600" y="3505320"/>
              <a:ext cx="15228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809880" y="3505320"/>
              <a:ext cx="15264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038480" y="3505320"/>
              <a:ext cx="68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724280" y="3505320"/>
              <a:ext cx="76212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486400" y="3505320"/>
              <a:ext cx="1143000" cy="228600"/>
            </a:xfrm>
            <a:prstGeom prst="rect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 = 8 oct. 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781680" y="3505320"/>
              <a:ext cx="68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467480" y="3505320"/>
              <a:ext cx="76212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997560" y="3276720"/>
              <a:ext cx="4399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88480" y="3276720"/>
              <a:ext cx="4399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216520" y="3276720"/>
              <a:ext cx="6166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112360" y="3276720"/>
              <a:ext cx="5176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246080" y="3276720"/>
              <a:ext cx="4399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2" name=""/>
            <p:cNvGrpSpPr/>
            <p:nvPr/>
          </p:nvGrpSpPr>
          <p:grpSpPr>
            <a:xfrm>
              <a:off x="3186000" y="3467160"/>
              <a:ext cx="76320" cy="76320"/>
              <a:chOff x="3186000" y="3467160"/>
              <a:chExt cx="76320" cy="76320"/>
            </a:xfrm>
          </p:grpSpPr>
          <p:sp>
            <p:nvSpPr>
              <p:cNvPr id="2163" name=""/>
              <p:cNvSpPr/>
              <p:nvPr/>
            </p:nvSpPr>
            <p:spPr>
              <a:xfrm flipH="1">
                <a:off x="3186000" y="346716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>
                <a:off x="3224160" y="346716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5" name=""/>
            <p:cNvGrpSpPr/>
            <p:nvPr/>
          </p:nvGrpSpPr>
          <p:grpSpPr>
            <a:xfrm>
              <a:off x="3176640" y="3700440"/>
              <a:ext cx="76320" cy="76320"/>
              <a:chOff x="3176640" y="3700440"/>
              <a:chExt cx="76320" cy="76320"/>
            </a:xfrm>
          </p:grpSpPr>
          <p:sp>
            <p:nvSpPr>
              <p:cNvPr id="2166" name=""/>
              <p:cNvSpPr/>
              <p:nvPr/>
            </p:nvSpPr>
            <p:spPr>
              <a:xfrm flipH="1">
                <a:off x="3176640" y="370044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>
                <a:off x="3214800" y="370044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8" name=""/>
            <p:cNvGrpSpPr/>
            <p:nvPr/>
          </p:nvGrpSpPr>
          <p:grpSpPr>
            <a:xfrm>
              <a:off x="5910120" y="3467160"/>
              <a:ext cx="76320" cy="76320"/>
              <a:chOff x="5910120" y="3467160"/>
              <a:chExt cx="76320" cy="76320"/>
            </a:xfrm>
          </p:grpSpPr>
          <p:sp>
            <p:nvSpPr>
              <p:cNvPr id="2169" name=""/>
              <p:cNvSpPr/>
              <p:nvPr/>
            </p:nvSpPr>
            <p:spPr>
              <a:xfrm flipH="1">
                <a:off x="5910120" y="346716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>
                <a:off x="5948280" y="346716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1" name=""/>
            <p:cNvGrpSpPr/>
            <p:nvPr/>
          </p:nvGrpSpPr>
          <p:grpSpPr>
            <a:xfrm>
              <a:off x="5891040" y="3700440"/>
              <a:ext cx="76320" cy="76320"/>
              <a:chOff x="5891040" y="3700440"/>
              <a:chExt cx="76320" cy="76320"/>
            </a:xfrm>
          </p:grpSpPr>
          <p:sp>
            <p:nvSpPr>
              <p:cNvPr id="2172" name=""/>
              <p:cNvSpPr/>
              <p:nvPr/>
            </p:nvSpPr>
            <p:spPr>
              <a:xfrm flipH="1">
                <a:off x="5891040" y="370044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5929200" y="370044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4" name=""/>
            <p:cNvSpPr/>
            <p:nvPr/>
          </p:nvSpPr>
          <p:spPr>
            <a:xfrm>
              <a:off x="920520" y="3809880"/>
              <a:ext cx="5526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6 bi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511440" y="3809880"/>
              <a:ext cx="5526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6 bi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758960" y="3809880"/>
              <a:ext cx="15235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32 bits LS = 256 bits F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502160" y="3809880"/>
              <a:ext cx="159336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12 bits LS = 896 bits F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712200" y="3809880"/>
              <a:ext cx="15235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6 bits LS = 128 bits F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9" name=""/>
            <p:cNvGrpSpPr/>
            <p:nvPr/>
          </p:nvGrpSpPr>
          <p:grpSpPr>
            <a:xfrm>
              <a:off x="1028880" y="3048120"/>
              <a:ext cx="7238880" cy="914400"/>
              <a:chOff x="1028880" y="3048120"/>
              <a:chExt cx="7238880" cy="914400"/>
            </a:xfrm>
          </p:grpSpPr>
          <p:sp>
            <p:nvSpPr>
              <p:cNvPr id="2180" name=""/>
              <p:cNvSpPr/>
              <p:nvPr/>
            </p:nvSpPr>
            <p:spPr>
              <a:xfrm>
                <a:off x="1028880" y="31240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409760" y="3124080"/>
                <a:ext cx="220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619440" y="3124080"/>
                <a:ext cx="38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000320" y="312408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028880" y="304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409760" y="304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619440" y="304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000320" y="304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8267760" y="304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9" name=""/>
            <p:cNvSpPr/>
            <p:nvPr/>
          </p:nvSpPr>
          <p:spPr>
            <a:xfrm>
              <a:off x="2063520" y="2895480"/>
              <a:ext cx="8118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797080" y="2895480"/>
              <a:ext cx="8118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45280" y="2895480"/>
              <a:ext cx="78264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ull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436200" y="2895480"/>
              <a:ext cx="78264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ull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664440" y="4191120"/>
              <a:ext cx="13482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otal : ~1600 bits F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4" name=""/>
          <p:cNvSpPr/>
          <p:nvPr/>
        </p:nvSpPr>
        <p:spPr>
          <a:xfrm>
            <a:off x="38088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Interrupt, Low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6212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 de don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8 oct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d'un paquet Data  s'accompagne d'un overhead important : environ 14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(14% d'une tr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 Interrupt, Full Spe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b max. de do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64 oct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e d'un paquet de 64 octets 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som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viron 5% d'une t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que pour le Host = 19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es par t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ur un transfert en mode Interrupt Full Speed, 1 transaction max par trame de 1 ms, soit un 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t maximum de </a:t>
            </a:r>
            <a:r>
              <a:rPr b="1" i="1" lang="en-GB" sz="2400" spc="-1" strike="noStrike">
                <a:solidFill>
                  <a:srgbClr val="cc3300"/>
                </a:solidFill>
                <a:latin typeface="Arial"/>
              </a:rPr>
              <a:t>64000 octets/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7400" y="190512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9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Control, Low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b d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8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raison de la structure des Transferts de Cont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, l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d'un paquet Data s'accompagne d'un overhead t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 important : environ 300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 (30% d'une tr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ique pour le Host = 3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s par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transfert en mode Control Low Speed, le 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maximum envisageable (mais non garanti) en mode Control est de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24000 octets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5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Control, Full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b d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64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d'un paquet Data de 64 octets c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som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environ 7% d'une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ique pour le Host = 13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s par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transfert en mode Control Full Speed, le 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maximum envisageable (mais non garanti) en mode Control est de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832 Koctets/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Isochrone (Full Speed unique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b d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1023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d'un paquet c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som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e 1% (paquet de 1 octet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69% (paquet de 1023 octets) d'une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ique pour le Host = de 150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s (1 octet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(1024 octets) par tr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transfert Isochrone, au maximum 1 transaction par trame, soit un 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maximum garanti de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1 Moctet/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paquets de 1023 oct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30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Bulk (Full Speed unique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b d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64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d'un paquet Data de 64 octets consomme environ 5% d'une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ique pour le Host = 1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s par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 Bulk, le 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maximum envisageable (mais non garanti) est de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1,2 Moctets/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30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3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 Speed : 3 transactions/trame x 8 octets : 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24K oct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non gar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Speed : 13 transactions/trame x 64 octets : 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832K oct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non gar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Interru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 Spe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1 transaction/10 tra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8 octe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800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 oc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 Speed : 1 transaction/trame x 8 octets        : 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8K oct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non gar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Spe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1 transaction/tram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4 octe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4K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oc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Isochr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transaction/tram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023 octe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 Moc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Bu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nsactions/tram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octe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.2 Moct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non gar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231120" y="1422360"/>
            <a:ext cx="5787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ulatif des performances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"/>
          <p:cNvSpPr/>
          <p:nvPr/>
        </p:nvSpPr>
        <p:spPr>
          <a:xfrm>
            <a:off x="2209680" y="5257800"/>
            <a:ext cx="518184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048120" y="3889440"/>
            <a:ext cx="16761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163bc0"/>
                </a:solidFill>
                <a:latin typeface="Arial"/>
              </a:rPr>
              <a:t>USB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048120" y="4422600"/>
            <a:ext cx="167616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163bc0"/>
                </a:solidFill>
                <a:latin typeface="Arial"/>
              </a:rPr>
              <a:t>USB Host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163bc0"/>
                </a:solidFill>
                <a:latin typeface="Arial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048120" y="5718240"/>
            <a:ext cx="16761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USB Host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334120" y="5486400"/>
            <a:ext cx="8096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440" y="1294560"/>
            <a:ext cx="147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3bc0"/>
                </a:solidFill>
                <a:latin typeface="Arial"/>
              </a:rPr>
              <a:t>Hos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859080" y="1370520"/>
            <a:ext cx="1410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B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81600" y="4145040"/>
            <a:ext cx="218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f3f8"/>
                </a:solidFill>
                <a:latin typeface="Arial"/>
              </a:rPr>
              <a:t>USB 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f3f8"/>
                </a:solidFill>
                <a:latin typeface="Arial"/>
              </a:rPr>
              <a:t>(Operating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2743200" y="1752480"/>
            <a:ext cx="2286000" cy="46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400800" y="1752480"/>
            <a:ext cx="2286000" cy="464832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029200" y="586728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rot="16200000">
            <a:off x="3467160" y="522252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rot="16200000">
            <a:off x="3467160" y="339048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0880" y="3505320"/>
            <a:ext cx="4724640" cy="0"/>
          </a:xfrm>
          <a:prstGeom prst="line">
            <a:avLst/>
          </a:prstGeom>
          <a:ln w="12600">
            <a:solidFill>
              <a:srgbClr val="def3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0880" y="5334120"/>
            <a:ext cx="4724640" cy="0"/>
          </a:xfrm>
          <a:prstGeom prst="line">
            <a:avLst/>
          </a:prstGeom>
          <a:ln w="12600">
            <a:solidFill>
              <a:srgbClr val="def3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81240" y="579096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f3f8"/>
                </a:solidFill>
                <a:latin typeface="Arial"/>
              </a:rPr>
              <a:t>USB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454320" y="22093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f3f8"/>
                </a:solidFill>
                <a:latin typeface="Arial"/>
              </a:rPr>
              <a:t>Client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276720" y="251460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Client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352680" y="1828800"/>
            <a:ext cx="1524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200400" y="1905120"/>
            <a:ext cx="152388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1981080"/>
            <a:ext cx="152388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200400" y="2590920"/>
            <a:ext cx="152388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Client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048120" y="2666880"/>
            <a:ext cx="1523880" cy="457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163bc0"/>
                </a:solidFill>
                <a:latin typeface="Arial"/>
              </a:rPr>
              <a:t>USB Client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rot="16200000">
            <a:off x="3733920" y="24379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838080" y="1460880"/>
            <a:ext cx="74152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rme USB regroupe les périphériques en </a:t>
            </a:r>
            <a:r>
              <a:rPr b="0" lang="en-US" sz="2000" spc="-1" strike="noStrike">
                <a:solidFill>
                  <a:srgbClr val="e60c04"/>
                </a:solidFill>
                <a:latin typeface="Arial"/>
              </a:rPr>
              <a:t>clas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'écriture et l'utilisation de drivers géné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e permet de décri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caractéristiques des périphériques qui la 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classes retenues initiale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uniquement télépho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(configuration de moniteu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 (Human Interface Dev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res classes potentiel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(Physical Interface Dev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ial RS232 e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685800" y="2208600"/>
            <a:ext cx="741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: Windows 98, Window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 : Ma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04920" y="1447920"/>
            <a:ext cx="8153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ls Operating Systems supportent l'USB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228600" y="3276720"/>
            <a:ext cx="71629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 les autr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85800" y="388512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 de support USB n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es so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(par ex. Philog, </a:t>
            </a:r>
            <a:r>
              <a:rPr b="0" lang="en-GB" sz="2000" spc="-1" strike="noStrike" u="sng">
                <a:solidFill>
                  <a:srgbClr val="163bc0"/>
                </a:solidFill>
                <a:uFillTx/>
                <a:latin typeface="Arial"/>
              </a:rPr>
              <a:t>www.philog.c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proposent une </a:t>
            </a:r>
            <a:r>
              <a:rPr b="0" i="1" lang="en-GB" sz="2000" spc="-1" strike="noStrike">
                <a:solidFill>
                  <a:srgbClr val="e60c04"/>
                </a:solidFill>
                <a:latin typeface="Arial"/>
              </a:rPr>
              <a:t>souche US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qui permet d'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r les fonctionnal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USB dans di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ts s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 d'exploitation (Windows NT, WinCE, Linux, s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 temps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.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228600" y="11430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 les driv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24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 d'un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que apparten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e classe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ie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 le 'Class driver' existe (par ex. souris U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 le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que o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 aux s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fications de la classe, il peut utiliser directement le Class Driver exi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 le 'Class driver' n'existe pas encore (par ex. emulation RS2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lopper un driver s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fique ('Mini-Driver') reprenant les s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fications de la classe ( pour pouvoir ul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eurement basculer sur le Class driver offici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 d'un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que n'appartenant p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e classe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 raccroc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e classe voisine, pour laquelle existe un Class driver (par ex. classe H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lopper un driver 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fique (Mini-Dr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523880" y="2666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1a981c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523880" y="35812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1a981c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523880" y="48006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1a981c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523880" y="57150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1a981c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5280" y="2260440"/>
            <a:ext cx="609840" cy="203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057400"/>
            <a:ext cx="381240" cy="177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1120" y="1143000"/>
            <a:ext cx="42087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 de bus physique partag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nnexions point-à-point, topologie en étag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ux types de fonction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Hub (= répét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evice (= périphér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Compound functions = Hub+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jusqu'à 127 fonctions connectable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ctionnement maître-esclav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n seul maît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bor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'Host Controller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as de ligne d'interruption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 beso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utation cycl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219320"/>
            <a:ext cx="152280" cy="152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163bc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828800"/>
            <a:ext cx="152280" cy="152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163bc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124080"/>
            <a:ext cx="152280" cy="152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163bc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514600" y="5257800"/>
            <a:ext cx="6148440" cy="1117440"/>
            <a:chOff x="2514600" y="5257800"/>
            <a:chExt cx="6148440" cy="1117440"/>
          </a:xfrm>
        </p:grpSpPr>
        <p:graphicFrame>
          <p:nvGraphicFramePr>
            <p:cNvPr id="164" name=""/>
            <p:cNvGraphicFramePr/>
            <p:nvPr/>
          </p:nvGraphicFramePr>
          <p:xfrm>
            <a:off x="2514600" y="5638680"/>
            <a:ext cx="78588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5638680"/>
                      <a:ext cx="785880" cy="7365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7696080" y="5562720"/>
            <a:ext cx="966960" cy="80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5562720"/>
                      <a:ext cx="966960" cy="8031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8" name=""/>
            <p:cNvSpPr/>
            <p:nvPr/>
          </p:nvSpPr>
          <p:spPr>
            <a:xfrm>
              <a:off x="3429000" y="5791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élé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7120" y="5791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c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5791320"/>
              <a:ext cx="106704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mprim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5638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34320" y="5638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5638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5257800"/>
              <a:ext cx="685800" cy="38088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0" y="0"/>
                  </a:moveTo>
                  <a:lnTo>
                    <a:pt x="0" y="144"/>
                  </a:lnTo>
                  <a:lnTo>
                    <a:pt x="432" y="144"/>
                  </a:lnTo>
                  <a:lnTo>
                    <a:pt x="432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6400" y="5257800"/>
              <a:ext cx="53352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lnTo>
                    <a:pt x="336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5257800"/>
              <a:ext cx="1752480" cy="380880"/>
            </a:xfrm>
            <a:custGeom>
              <a:avLst/>
              <a:gdLst/>
              <a:ahLst/>
              <a:rect l="l" t="t" r="r" b="b"/>
              <a:pathLst>
                <a:path w="1104" h="240">
                  <a:moveTo>
                    <a:pt x="0" y="240"/>
                  </a:moveTo>
                  <a:lnTo>
                    <a:pt x="0" y="48"/>
                  </a:lnTo>
                  <a:lnTo>
                    <a:pt x="1104" y="48"/>
                  </a:lnTo>
                  <a:lnTo>
                    <a:pt x="110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600200" y="4038480"/>
            <a:ext cx="7358040" cy="1219320"/>
            <a:chOff x="1600200" y="4038480"/>
            <a:chExt cx="7358040" cy="1219320"/>
          </a:xfrm>
        </p:grpSpPr>
        <p:sp>
          <p:nvSpPr>
            <p:cNvPr id="178" name=""/>
            <p:cNvSpPr/>
            <p:nvPr/>
          </p:nvSpPr>
          <p:spPr>
            <a:xfrm>
              <a:off x="5562720" y="4648320"/>
              <a:ext cx="121896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7924680" y="4267080"/>
            <a:ext cx="1033560" cy="42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924680" y="4267080"/>
                      <a:ext cx="1033560" cy="422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1600200" y="4648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43400" y="464832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ic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91520" y="464832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ou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800" y="4648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242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724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290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00600" y="403848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288"/>
                  </a:moveTo>
                  <a:lnTo>
                    <a:pt x="0" y="240"/>
                  </a:lnTo>
                  <a:lnTo>
                    <a:pt x="576" y="240"/>
                  </a:lnTo>
                  <a:lnTo>
                    <a:pt x="57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5320" y="4038480"/>
              <a:ext cx="1904760" cy="45720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288"/>
                  </a:moveTo>
                  <a:lnTo>
                    <a:pt x="0" y="144"/>
                  </a:lnTo>
                  <a:lnTo>
                    <a:pt x="1200" y="144"/>
                  </a:lnTo>
                  <a:lnTo>
                    <a:pt x="1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3720" y="4038480"/>
              <a:ext cx="2971800" cy="457200"/>
            </a:xfrm>
            <a:custGeom>
              <a:avLst/>
              <a:gdLst/>
              <a:ahLst/>
              <a:rect l="l" t="t" r="r" b="b"/>
              <a:pathLst>
                <a:path w="1872" h="288">
                  <a:moveTo>
                    <a:pt x="1872" y="0"/>
                  </a:moveTo>
                  <a:lnTo>
                    <a:pt x="1872" y="48"/>
                  </a:lnTo>
                  <a:lnTo>
                    <a:pt x="0" y="48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920" y="40384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lnTo>
                    <a:pt x="0" y="144"/>
                  </a:lnTo>
                  <a:lnTo>
                    <a:pt x="96" y="144"/>
                  </a:lnTo>
                  <a:lnTo>
                    <a:pt x="96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91520" y="403848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28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51055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38680" y="510552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48520" y="51055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3080" y="510552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952880" y="3048120"/>
            <a:ext cx="2590920" cy="990360"/>
            <a:chOff x="4952880" y="3048120"/>
            <a:chExt cx="2590920" cy="990360"/>
          </a:xfrm>
        </p:grpSpPr>
        <p:sp>
          <p:nvSpPr>
            <p:cNvPr id="200" name=""/>
            <p:cNvSpPr/>
            <p:nvPr/>
          </p:nvSpPr>
          <p:spPr>
            <a:xfrm>
              <a:off x="4952880" y="342900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3276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34320" y="3276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62720" y="3048120"/>
              <a:ext cx="53316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53080" y="304812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38680" y="38862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412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7120" y="342900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38862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3432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152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342900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42900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52880" y="3429000"/>
              <a:ext cx="12193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oniteu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3429000"/>
              <a:ext cx="10666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avie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334120" y="1676160"/>
            <a:ext cx="1981080" cy="1447920"/>
            <a:chOff x="5334120" y="1676160"/>
            <a:chExt cx="1981080" cy="1447920"/>
          </a:xfrm>
        </p:grpSpPr>
        <p:sp>
          <p:nvSpPr>
            <p:cNvPr id="218" name=""/>
            <p:cNvSpPr/>
            <p:nvPr/>
          </p:nvSpPr>
          <p:spPr>
            <a:xfrm>
              <a:off x="5334120" y="312408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2438280"/>
              <a:ext cx="91440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oot 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24480" y="2133720"/>
              <a:ext cx="18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38680" y="1676520"/>
              <a:ext cx="137160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9920" y="28954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77120" y="28954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334120" y="16761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315200" y="16761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Exemple de Périphérique multi-class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2057400" y="1752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ss 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ass Device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2057400" y="41148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ystem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057400" y="56386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 Host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962520" y="5486400"/>
            <a:ext cx="8096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210040" y="1218240"/>
            <a:ext cx="147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s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985280" y="1218240"/>
            <a:ext cx="1652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B CD-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105520" y="17524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ss 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105520" y="40384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 Logic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5105520" y="56386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752480" y="1600200"/>
            <a:ext cx="2286000" cy="472428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4724280" y="1600200"/>
            <a:ext cx="2286000" cy="472752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733920" y="579132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rot="16200000">
            <a:off x="2362320" y="502884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rot="16200000">
            <a:off x="2781000" y="354312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rot="16200000">
            <a:off x="5562720" y="358092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rot="16200000">
            <a:off x="5372280" y="4990680"/>
            <a:ext cx="1066680" cy="228600"/>
          </a:xfrm>
          <a:prstGeom prst="leftRightArrow">
            <a:avLst>
              <a:gd name="adj1" fmla="val 50000"/>
              <a:gd name="adj2" fmla="val 92891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33920" y="426708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733920" y="190512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105520" y="26668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 rot="16200000">
            <a:off x="1866960" y="3390480"/>
            <a:ext cx="1219320" cy="228600"/>
          </a:xfrm>
          <a:prstGeom prst="leftRightArrow">
            <a:avLst>
              <a:gd name="adj1" fmla="val 50000"/>
              <a:gd name="adj2" fmla="val 106183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rot="16200000">
            <a:off x="2057400" y="259056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057400" y="2666880"/>
            <a:ext cx="1676520" cy="533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lass Device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733920" y="281952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029200" y="1676520"/>
            <a:ext cx="16765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/>
          <p:nvPr/>
        </p:nvSpPr>
        <p:spPr>
          <a:xfrm>
            <a:off x="2057400" y="563868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8" name=""/>
          <p:cNvGrpSpPr/>
          <p:nvPr/>
        </p:nvGrpSpPr>
        <p:grpSpPr>
          <a:xfrm>
            <a:off x="152280" y="2133360"/>
            <a:ext cx="8829720" cy="4150080"/>
            <a:chOff x="152280" y="2133360"/>
            <a:chExt cx="8829720" cy="4150080"/>
          </a:xfrm>
        </p:grpSpPr>
        <p:sp>
          <p:nvSpPr>
            <p:cNvPr id="2279" name=""/>
            <p:cNvSpPr/>
            <p:nvPr/>
          </p:nvSpPr>
          <p:spPr>
            <a:xfrm>
              <a:off x="152280" y="2133720"/>
              <a:ext cx="8829720" cy="414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cc99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90360" y="2249640"/>
              <a:ext cx="15246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ériphé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r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293640" y="2249640"/>
              <a:ext cx="572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b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096600" y="2249640"/>
              <a:ext cx="1242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Remar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30040" y="2756160"/>
              <a:ext cx="2320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méra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visiocon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997720" y="2756160"/>
              <a:ext cx="11667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-150M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82360" y="2756160"/>
              <a:ext cx="37861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Quali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 MPEG-2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ans com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30400" y="3492720"/>
              <a:ext cx="10278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an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930760" y="3492720"/>
              <a:ext cx="13006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-100Mbs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484160" y="3492720"/>
              <a:ext cx="3236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mplacement interface SC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30040" y="3996000"/>
              <a:ext cx="13586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mprimant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930760" y="3996000"/>
              <a:ext cx="13006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-100Mbs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480560" y="3996000"/>
              <a:ext cx="44247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olution sup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eure, plus de couleu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limination de buffers-page, faible cou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30040" y="4965840"/>
              <a:ext cx="24541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tock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836440" y="4965840"/>
              <a:ext cx="14868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 to 240M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80560" y="4965840"/>
              <a:ext cx="40179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mplacement interface SCS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port ZIP, CD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hte vitess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CD-R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30040" y="5936040"/>
              <a:ext cx="26398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nexion large ba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997720" y="5936040"/>
              <a:ext cx="11667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-100M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81280" y="5936040"/>
              <a:ext cx="33566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ble, DSL, Ethernet, HPNA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52280" y="2578320"/>
              <a:ext cx="8826480" cy="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52280" y="3330720"/>
              <a:ext cx="8826480" cy="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52280" y="3848400"/>
              <a:ext cx="8826480" cy="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52280" y="4795920"/>
              <a:ext cx="8826480" cy="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52280" y="5781960"/>
              <a:ext cx="8826480" cy="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3" name=""/>
            <p:cNvGrpSpPr/>
            <p:nvPr/>
          </p:nvGrpSpPr>
          <p:grpSpPr>
            <a:xfrm>
              <a:off x="2830320" y="2133360"/>
              <a:ext cx="1522440" cy="4149720"/>
              <a:chOff x="2830320" y="2133360"/>
              <a:chExt cx="1522440" cy="4149720"/>
            </a:xfrm>
          </p:grpSpPr>
          <p:sp>
            <p:nvSpPr>
              <p:cNvPr id="2304" name=""/>
              <p:cNvSpPr/>
              <p:nvPr/>
            </p:nvSpPr>
            <p:spPr>
              <a:xfrm flipV="1">
                <a:off x="2830320" y="2133360"/>
                <a:ext cx="0" cy="4149720"/>
              </a:xfrm>
              <a:prstGeom prst="line">
                <a:avLst/>
              </a:prstGeom>
              <a:ln w="284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V="1">
                <a:off x="4352760" y="2133360"/>
                <a:ext cx="0" cy="4149720"/>
              </a:xfrm>
              <a:prstGeom prst="line">
                <a:avLst/>
              </a:prstGeom>
              <a:ln w="284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6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Pourquoi l'USB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28600" y="1295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certain nombre d'applications sont hors de 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de l'USB 1.1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861084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joute une 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nce de transfert pl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0Mb/s (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High Spe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is plus rapide q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ll Spe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ement compatible avec l'USB 1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s 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les et conne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s carac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stiques de consom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 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ismes Plug &amp;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u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 ou Hub USB1.1 peut fonctionner sans modification (hard ou soft) dans un environnement USB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USB 2.0 : une 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  <a:ea typeface="Arial"/>
              </a:rPr>
              <a:t>é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volution de l'USB 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28600" y="5867280"/>
            <a:ext cx="86248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N.B. : l'USB2.0 est une 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volution de la norme USB, et ne doit pas etre identifi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e 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  <a:ea typeface="Arial"/>
              </a:rPr>
              <a:t>à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 la seule version High Speed 480Mbps : il existe aussi des souris USB2.0, des claviers USB2.0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2313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1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2502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3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8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2689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0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3" name=""/>
          <p:cNvGrpSpPr/>
          <p:nvPr/>
        </p:nvGrpSpPr>
        <p:grpSpPr>
          <a:xfrm>
            <a:off x="3886200" y="1371600"/>
            <a:ext cx="4571640" cy="2590920"/>
            <a:chOff x="3886200" y="1371600"/>
            <a:chExt cx="4571640" cy="2590920"/>
          </a:xfrm>
        </p:grpSpPr>
        <p:sp>
          <p:nvSpPr>
            <p:cNvPr id="2754" name=""/>
            <p:cNvSpPr/>
            <p:nvPr/>
          </p:nvSpPr>
          <p:spPr>
            <a:xfrm>
              <a:off x="3886200" y="2133720"/>
              <a:ext cx="1447920" cy="68580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334120" y="2971800"/>
              <a:ext cx="2133360" cy="99072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H="1">
              <a:off x="5562000" y="1371600"/>
              <a:ext cx="2895480" cy="762120"/>
            </a:xfrm>
            <a:prstGeom prst="wedgeRoundRectCallout">
              <a:avLst>
                <a:gd name="adj1" fmla="val 62004"/>
                <a:gd name="adj2" fmla="val 87912"/>
                <a:gd name="adj3" fmla="val 16667"/>
              </a:avLst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Un Hub 2.0 sait g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é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rer simultan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é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ment des Devices ou Hubs USB1.1 et des Devices ou Hubs High 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324480" y="2133720"/>
              <a:ext cx="685800" cy="91440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432" y="0"/>
                  </a:moveTo>
                  <a:lnTo>
                    <a:pt x="0" y="576"/>
                  </a:lnTo>
                  <a:lnTo>
                    <a:pt x="288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781680" y="2133720"/>
              <a:ext cx="2286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9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0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2761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9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2950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1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6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3137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8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1" name=""/>
          <p:cNvGrpSpPr/>
          <p:nvPr/>
        </p:nvGrpSpPr>
        <p:grpSpPr>
          <a:xfrm>
            <a:off x="380880" y="1219320"/>
            <a:ext cx="7435440" cy="6091200"/>
            <a:chOff x="380880" y="1219320"/>
            <a:chExt cx="7435440" cy="6091200"/>
          </a:xfrm>
        </p:grpSpPr>
        <p:sp>
          <p:nvSpPr>
            <p:cNvPr id="3202" name=""/>
            <p:cNvSpPr/>
            <p:nvPr/>
          </p:nvSpPr>
          <p:spPr>
            <a:xfrm rot="2245200">
              <a:off x="1131480" y="3465360"/>
              <a:ext cx="6777000" cy="199080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 flipH="1">
              <a:off x="380880" y="1219320"/>
              <a:ext cx="3353040" cy="1066680"/>
            </a:xfrm>
            <a:prstGeom prst="wedgeRoundRectCallout">
              <a:avLst>
                <a:gd name="adj1" fmla="val 944"/>
                <a:gd name="adj2" fmla="val 70828"/>
                <a:gd name="adj3" fmla="val 16667"/>
              </a:avLst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Tout Device ou Hub USB1.1 fonctionne sans aucune modification dans un environnement USB2.0 (c'est le Hub 2.0 amont qui assure la transparenc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4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5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3206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4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3395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6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1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3582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3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6" name=""/>
          <p:cNvGrpSpPr/>
          <p:nvPr/>
        </p:nvGrpSpPr>
        <p:grpSpPr>
          <a:xfrm>
            <a:off x="228600" y="3657600"/>
            <a:ext cx="2362320" cy="2819520"/>
            <a:chOff x="228600" y="3657600"/>
            <a:chExt cx="2362320" cy="2819520"/>
          </a:xfrm>
        </p:grpSpPr>
        <p:sp>
          <p:nvSpPr>
            <p:cNvPr id="3647" name=""/>
            <p:cNvSpPr/>
            <p:nvPr/>
          </p:nvSpPr>
          <p:spPr>
            <a:xfrm>
              <a:off x="228600" y="3657600"/>
              <a:ext cx="1600200" cy="167652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04920" y="5181480"/>
              <a:ext cx="2286000" cy="1295640"/>
            </a:xfrm>
            <a:prstGeom prst="wedgeRoundRectCallout">
              <a:avLst>
                <a:gd name="adj1" fmla="val 2430"/>
                <a:gd name="adj2" fmla="val -82476"/>
                <a:gd name="adj3" fmla="val 16667"/>
              </a:avLst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Un P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é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riph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é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rique High Speed peut se connecter sans perturbation 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à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 un Hub 1.1 (son fonctionnement op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é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rationnel est optionn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9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0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3651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9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3840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1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6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4027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8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"/>
          <p:cNvSpPr/>
          <p:nvPr/>
        </p:nvSpPr>
        <p:spPr>
          <a:xfrm rot="19002600">
            <a:off x="3962520" y="3733560"/>
            <a:ext cx="2743200" cy="152388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rot="1561800">
            <a:off x="1905120" y="2895120"/>
            <a:ext cx="2666880" cy="152424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4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4095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3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4284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5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0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4471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2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5" name=""/>
          <p:cNvSpPr/>
          <p:nvPr/>
        </p:nvSpPr>
        <p:spPr>
          <a:xfrm>
            <a:off x="3886200" y="2286000"/>
            <a:ext cx="205740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1248" y="0"/>
                </a:moveTo>
                <a:lnTo>
                  <a:pt x="0" y="720"/>
                </a:lnTo>
                <a:lnTo>
                  <a:pt x="1152" y="240"/>
                </a:lnTo>
                <a:lnTo>
                  <a:pt x="1248" y="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 flipH="1">
            <a:off x="5485680" y="1371600"/>
            <a:ext cx="2514600" cy="914400"/>
          </a:xfrm>
          <a:prstGeom prst="wedgeRoundRectCallout">
            <a:avLst>
              <a:gd name="adj1" fmla="val 59277"/>
              <a:gd name="adj2" fmla="val 203814"/>
              <a:gd name="adj3" fmla="val 16667"/>
            </a:avLst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Plusieurs P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  <a:ea typeface="Arial"/>
              </a:rPr>
              <a:t>é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riph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  <a:ea typeface="Arial"/>
              </a:rPr>
              <a:t>é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riques Full Speed peuvent fonctionner simultan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  <a:ea typeface="Arial"/>
              </a:rPr>
              <a:t>é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ment 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  <a:ea typeface="Arial"/>
              </a:rPr>
              <a:t>à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 pleine vitesse ( N x 12Mb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5710320" y="2295360"/>
            <a:ext cx="214200" cy="447840"/>
          </a:xfrm>
          <a:custGeom>
            <a:avLst/>
            <a:gdLst/>
            <a:ahLst/>
            <a:rect l="l" t="t" r="r" b="b"/>
            <a:pathLst>
              <a:path w="135" h="285">
                <a:moveTo>
                  <a:pt x="3" y="285"/>
                </a:moveTo>
                <a:lnTo>
                  <a:pt x="0" y="192"/>
                </a:lnTo>
                <a:lnTo>
                  <a:pt x="81" y="54"/>
                </a:lnTo>
                <a:lnTo>
                  <a:pt x="135" y="0"/>
                </a:lnTo>
                <a:lnTo>
                  <a:pt x="48" y="243"/>
                </a:lnTo>
                <a:lnTo>
                  <a:pt x="3" y="285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"/>
          <p:cNvSpPr/>
          <p:nvPr/>
        </p:nvSpPr>
        <p:spPr>
          <a:xfrm rot="2050200">
            <a:off x="4333680" y="3097080"/>
            <a:ext cx="4724280" cy="167652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6247800" y="1523880"/>
            <a:ext cx="2361960" cy="838440"/>
          </a:xfrm>
          <a:prstGeom prst="wedgeRoundRectCallout">
            <a:avLst>
              <a:gd name="adj1" fmla="val 50736"/>
              <a:gd name="adj2" fmla="val 105490"/>
              <a:gd name="adj3" fmla="val 16667"/>
            </a:avLst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Fonctionnement High Speed possible lorsque </a:t>
            </a:r>
            <a:r>
              <a:rPr b="0" lang="en-GB" sz="1200" spc="-1" strike="noStrike" u="sng">
                <a:solidFill>
                  <a:srgbClr val="163bc0"/>
                </a:solidFill>
                <a:uFillTx/>
                <a:latin typeface="Arial"/>
              </a:rPr>
              <a:t>tous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 les tron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  <a:ea typeface="Arial"/>
              </a:rPr>
              <a:t>ç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ons sont High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1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4542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0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4731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2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7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4918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9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1523880"/>
            <a:ext cx="3786840" cy="520200"/>
            <a:chOff x="457200" y="1523880"/>
            <a:chExt cx="3786840" cy="520200"/>
          </a:xfrm>
        </p:grpSpPr>
        <p:sp>
          <p:nvSpPr>
            <p:cNvPr id="228" name=""/>
            <p:cNvSpPr/>
            <p:nvPr/>
          </p:nvSpPr>
          <p:spPr>
            <a:xfrm>
              <a:off x="596160" y="1523880"/>
              <a:ext cx="3647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que fonction (hub ou device) reçoit u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resse à l'initial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16002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63bc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600200" y="1676160"/>
            <a:ext cx="7358040" cy="4699080"/>
            <a:chOff x="1600200" y="1676160"/>
            <a:chExt cx="7358040" cy="4699080"/>
          </a:xfrm>
        </p:grpSpPr>
        <p:sp>
          <p:nvSpPr>
            <p:cNvPr id="231" name=""/>
            <p:cNvSpPr/>
            <p:nvPr/>
          </p:nvSpPr>
          <p:spPr>
            <a:xfrm>
              <a:off x="4952880" y="342900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2720" y="4648320"/>
              <a:ext cx="121896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"/>
            <p:cNvGraphicFramePr/>
            <p:nvPr/>
          </p:nvGraphicFramePr>
          <p:xfrm>
            <a:off x="2514600" y="5638680"/>
            <a:ext cx="78588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5638680"/>
                      <a:ext cx="785880" cy="7365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"/>
            <p:cNvGraphicFramePr/>
            <p:nvPr/>
          </p:nvGraphicFramePr>
          <p:xfrm>
            <a:off x="7696080" y="5562720"/>
            <a:ext cx="966960" cy="80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5562720"/>
                      <a:ext cx="966960" cy="8031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7924680" y="4267080"/>
            <a:ext cx="1033560" cy="42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924680" y="4267080"/>
                      <a:ext cx="1033560" cy="422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3429000" y="5791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Télé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4648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3400" y="464832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Mic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91520" y="464832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Sou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77120" y="5791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Lec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52880" y="5791320"/>
              <a:ext cx="106704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Imprim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71800" y="4648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86400" y="3276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58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3276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67280" y="2438280"/>
              <a:ext cx="91440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Root 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86200" y="5638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242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724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34320" y="5638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5638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24480" y="2133720"/>
              <a:ext cx="18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62720" y="3048120"/>
              <a:ext cx="53316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3080" y="304812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403848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288"/>
                  </a:moveTo>
                  <a:lnTo>
                    <a:pt x="0" y="240"/>
                  </a:lnTo>
                  <a:lnTo>
                    <a:pt x="576" y="240"/>
                  </a:lnTo>
                  <a:lnTo>
                    <a:pt x="57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05320" y="4038480"/>
              <a:ext cx="1904760" cy="45720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288"/>
                  </a:moveTo>
                  <a:lnTo>
                    <a:pt x="0" y="144"/>
                  </a:lnTo>
                  <a:lnTo>
                    <a:pt x="1200" y="144"/>
                  </a:lnTo>
                  <a:lnTo>
                    <a:pt x="1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4038480"/>
              <a:ext cx="2971800" cy="457200"/>
            </a:xfrm>
            <a:custGeom>
              <a:avLst/>
              <a:gdLst/>
              <a:ahLst/>
              <a:rect l="l" t="t" r="r" b="b"/>
              <a:pathLst>
                <a:path w="1872" h="288">
                  <a:moveTo>
                    <a:pt x="1872" y="0"/>
                  </a:moveTo>
                  <a:lnTo>
                    <a:pt x="1872" y="48"/>
                  </a:lnTo>
                  <a:lnTo>
                    <a:pt x="0" y="48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9920" y="40384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lnTo>
                    <a:pt x="0" y="144"/>
                  </a:lnTo>
                  <a:lnTo>
                    <a:pt x="96" y="144"/>
                  </a:lnTo>
                  <a:lnTo>
                    <a:pt x="96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5257800"/>
              <a:ext cx="685800" cy="38088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0" y="0"/>
                  </a:moveTo>
                  <a:lnTo>
                    <a:pt x="0" y="144"/>
                  </a:lnTo>
                  <a:lnTo>
                    <a:pt x="432" y="144"/>
                  </a:lnTo>
                  <a:lnTo>
                    <a:pt x="432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400" y="5257800"/>
              <a:ext cx="53352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lnTo>
                    <a:pt x="336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62520" y="5257800"/>
              <a:ext cx="1752480" cy="380880"/>
            </a:xfrm>
            <a:custGeom>
              <a:avLst/>
              <a:gdLst/>
              <a:ahLst/>
              <a:rect l="l" t="t" r="r" b="b"/>
              <a:pathLst>
                <a:path w="1104" h="240">
                  <a:moveTo>
                    <a:pt x="0" y="240"/>
                  </a:moveTo>
                  <a:lnTo>
                    <a:pt x="0" y="48"/>
                  </a:lnTo>
                  <a:lnTo>
                    <a:pt x="1104" y="48"/>
                  </a:lnTo>
                  <a:lnTo>
                    <a:pt x="110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91520" y="403848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28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38680" y="1676520"/>
              <a:ext cx="137160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19920" y="28954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28954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3600" y="51055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38680" y="510552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51055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510552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38862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412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292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342900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080" y="38862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3432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152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52880" y="342900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7120" y="342900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3429000"/>
              <a:ext cx="12193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Moniteu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77120" y="3429000"/>
              <a:ext cx="10666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Clavie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4120" y="312408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334120" y="16761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315200" y="16761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133720" y="2133720"/>
            <a:ext cx="4876560" cy="3657600"/>
            <a:chOff x="2133720" y="2133720"/>
            <a:chExt cx="4876560" cy="3657600"/>
          </a:xfrm>
        </p:grpSpPr>
        <p:sp>
          <p:nvSpPr>
            <p:cNvPr id="291" name=""/>
            <p:cNvSpPr/>
            <p:nvPr/>
          </p:nvSpPr>
          <p:spPr>
            <a:xfrm>
              <a:off x="6324480" y="21337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33720" y="3886200"/>
              <a:ext cx="2971800" cy="762120"/>
            </a:xfrm>
            <a:custGeom>
              <a:avLst/>
              <a:gdLst/>
              <a:ahLst/>
              <a:rect l="l" t="t" r="r" b="b"/>
              <a:pathLst>
                <a:path w="1872" h="480">
                  <a:moveTo>
                    <a:pt x="1872" y="0"/>
                  </a:moveTo>
                  <a:lnTo>
                    <a:pt x="1872" y="144"/>
                  </a:lnTo>
                  <a:lnTo>
                    <a:pt x="0" y="144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886200"/>
              <a:ext cx="1904760" cy="762120"/>
            </a:xfrm>
            <a:custGeom>
              <a:avLst/>
              <a:gdLst/>
              <a:ahLst/>
              <a:rect l="l" t="t" r="r" b="b"/>
              <a:pathLst>
                <a:path w="1200" h="480">
                  <a:moveTo>
                    <a:pt x="1200" y="0"/>
                  </a:moveTo>
                  <a:lnTo>
                    <a:pt x="1200" y="240"/>
                  </a:lnTo>
                  <a:lnTo>
                    <a:pt x="0" y="240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3886200"/>
              <a:ext cx="914400" cy="762120"/>
            </a:xfrm>
            <a:custGeom>
              <a:avLst/>
              <a:gdLst/>
              <a:ahLst/>
              <a:rect l="l" t="t" r="r" b="b"/>
              <a:pathLst>
                <a:path w="576" h="480">
                  <a:moveTo>
                    <a:pt x="576" y="0"/>
                  </a:moveTo>
                  <a:lnTo>
                    <a:pt x="576" y="336"/>
                  </a:lnTo>
                  <a:lnTo>
                    <a:pt x="0" y="336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9920" y="3886200"/>
              <a:ext cx="152280" cy="76212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0" y="0"/>
                  </a:moveTo>
                  <a:lnTo>
                    <a:pt x="0" y="240"/>
                  </a:lnTo>
                  <a:lnTo>
                    <a:pt x="96" y="240"/>
                  </a:lnTo>
                  <a:lnTo>
                    <a:pt x="96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62520" y="5105520"/>
              <a:ext cx="1752480" cy="685800"/>
            </a:xfrm>
            <a:custGeom>
              <a:avLst/>
              <a:gdLst/>
              <a:ahLst/>
              <a:rect l="l" t="t" r="r" b="b"/>
              <a:pathLst>
                <a:path w="1104" h="432">
                  <a:moveTo>
                    <a:pt x="1104" y="0"/>
                  </a:moveTo>
                  <a:lnTo>
                    <a:pt x="1104" y="144"/>
                  </a:lnTo>
                  <a:lnTo>
                    <a:pt x="0" y="144"/>
                  </a:lnTo>
                  <a:lnTo>
                    <a:pt x="0" y="43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86400" y="5105520"/>
              <a:ext cx="533520" cy="685800"/>
            </a:xfrm>
            <a:custGeom>
              <a:avLst/>
              <a:gdLst/>
              <a:ahLst/>
              <a:rect l="l" t="t" r="r" b="b"/>
              <a:pathLst>
                <a:path w="336" h="432">
                  <a:moveTo>
                    <a:pt x="336" y="0"/>
                  </a:moveTo>
                  <a:lnTo>
                    <a:pt x="336" y="240"/>
                  </a:lnTo>
                  <a:lnTo>
                    <a:pt x="0" y="240"/>
                  </a:lnTo>
                  <a:lnTo>
                    <a:pt x="0" y="43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24480" y="510552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0"/>
                  </a:moveTo>
                  <a:lnTo>
                    <a:pt x="0" y="240"/>
                  </a:lnTo>
                  <a:lnTo>
                    <a:pt x="432" y="240"/>
                  </a:lnTo>
                  <a:lnTo>
                    <a:pt x="432" y="43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62720" y="289548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0"/>
                  </a:moveTo>
                  <a:lnTo>
                    <a:pt x="336" y="192"/>
                  </a:lnTo>
                  <a:lnTo>
                    <a:pt x="0" y="192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53080" y="289548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lnTo>
                    <a:pt x="0" y="192"/>
                  </a:lnTo>
                  <a:lnTo>
                    <a:pt x="288" y="192"/>
                  </a:lnTo>
                  <a:lnTo>
                    <a:pt x="288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219320" y="2666880"/>
            <a:ext cx="3157920" cy="307080"/>
            <a:chOff x="1219320" y="2666880"/>
            <a:chExt cx="3157920" cy="307080"/>
          </a:xfrm>
        </p:grpSpPr>
        <p:sp>
          <p:nvSpPr>
            <p:cNvPr id="302" name=""/>
            <p:cNvSpPr/>
            <p:nvPr/>
          </p:nvSpPr>
          <p:spPr>
            <a:xfrm>
              <a:off x="1514160" y="2666880"/>
              <a:ext cx="28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ule la fonction adressée rép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19320" y="27432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63bc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7200" y="2133720"/>
            <a:ext cx="4250520" cy="520200"/>
            <a:chOff x="457200" y="2133720"/>
            <a:chExt cx="4250520" cy="520200"/>
          </a:xfrm>
        </p:grpSpPr>
        <p:sp>
          <p:nvSpPr>
            <p:cNvPr id="305" name=""/>
            <p:cNvSpPr/>
            <p:nvPr/>
          </p:nvSpPr>
          <p:spPr>
            <a:xfrm>
              <a:off x="457200" y="2209680"/>
              <a:ext cx="152280" cy="152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63bc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9600" y="2133720"/>
              <a:ext cx="403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s transferts déclenchés par le Host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arcou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ous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s tronçons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(except. Low Spe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86400" y="2133720"/>
            <a:ext cx="839880" cy="3657600"/>
            <a:chOff x="5486400" y="2133720"/>
            <a:chExt cx="839880" cy="3657600"/>
          </a:xfrm>
        </p:grpSpPr>
        <p:sp>
          <p:nvSpPr>
            <p:cNvPr id="308" name=""/>
            <p:cNvSpPr/>
            <p:nvPr/>
          </p:nvSpPr>
          <p:spPr>
            <a:xfrm>
              <a:off x="5486400" y="5105520"/>
              <a:ext cx="533520" cy="685800"/>
            </a:xfrm>
            <a:custGeom>
              <a:avLst/>
              <a:gdLst/>
              <a:ahLst/>
              <a:rect l="l" t="t" r="r" b="b"/>
              <a:pathLst>
                <a:path w="336" h="432">
                  <a:moveTo>
                    <a:pt x="0" y="432"/>
                  </a:moveTo>
                  <a:lnTo>
                    <a:pt x="0" y="240"/>
                  </a:lnTo>
                  <a:lnTo>
                    <a:pt x="336" y="240"/>
                  </a:lnTo>
                  <a:lnTo>
                    <a:pt x="33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19920" y="3886200"/>
              <a:ext cx="152280" cy="76212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96" y="480"/>
                  </a:moveTo>
                  <a:lnTo>
                    <a:pt x="96" y="24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2720" y="289548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0" y="192"/>
                  </a:lnTo>
                  <a:lnTo>
                    <a:pt x="336" y="192"/>
                  </a:lnTo>
                  <a:lnTo>
                    <a:pt x="33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324480" y="2133720"/>
              <a:ext cx="180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"/>
          <p:cNvSpPr/>
          <p:nvPr/>
        </p:nvSpPr>
        <p:spPr>
          <a:xfrm>
            <a:off x="1828800" y="3429000"/>
            <a:ext cx="6781680" cy="838080"/>
          </a:xfrm>
          <a:custGeom>
            <a:avLst/>
            <a:gdLst/>
            <a:ahLst/>
            <a:rect l="l" t="t" r="r" b="b"/>
            <a:pathLst>
              <a:path w="4272" h="528">
                <a:moveTo>
                  <a:pt x="0" y="528"/>
                </a:moveTo>
                <a:lnTo>
                  <a:pt x="816" y="528"/>
                </a:lnTo>
                <a:lnTo>
                  <a:pt x="1008" y="0"/>
                </a:lnTo>
                <a:lnTo>
                  <a:pt x="2880" y="0"/>
                </a:lnTo>
                <a:lnTo>
                  <a:pt x="3072" y="528"/>
                </a:lnTo>
                <a:lnTo>
                  <a:pt x="4272" y="52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"/>
          <p:cNvSpPr/>
          <p:nvPr/>
        </p:nvSpPr>
        <p:spPr>
          <a:xfrm>
            <a:off x="1828800" y="3429000"/>
            <a:ext cx="6781680" cy="838080"/>
          </a:xfrm>
          <a:custGeom>
            <a:avLst/>
            <a:gdLst/>
            <a:ahLst/>
            <a:rect l="l" t="t" r="r" b="b"/>
            <a:pathLst>
              <a:path w="4272" h="528">
                <a:moveTo>
                  <a:pt x="0" y="0"/>
                </a:moveTo>
                <a:lnTo>
                  <a:pt x="816" y="0"/>
                </a:lnTo>
                <a:lnTo>
                  <a:pt x="1008" y="528"/>
                </a:lnTo>
                <a:lnTo>
                  <a:pt x="2880" y="528"/>
                </a:lnTo>
                <a:lnTo>
                  <a:pt x="3888" y="528"/>
                </a:lnTo>
                <a:lnTo>
                  <a:pt x="4080" y="0"/>
                </a:lnTo>
                <a:lnTo>
                  <a:pt x="4272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>
            <a:off x="7772400" y="3962520"/>
            <a:ext cx="7632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High-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 liaisons physiques que Low/Full Speed, mais niveaux et principe dif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ts (commutation de coura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"/>
          <p:cNvSpPr/>
          <p:nvPr/>
        </p:nvSpPr>
        <p:spPr>
          <a:xfrm>
            <a:off x="1065600" y="3200400"/>
            <a:ext cx="515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1065960" y="4114800"/>
            <a:ext cx="4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3577320" y="4572000"/>
            <a:ext cx="102564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i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6934680" y="4572000"/>
            <a:ext cx="9021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Rep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2515320" y="3886200"/>
            <a:ext cx="15228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>
            <a:off x="4191120" y="3886200"/>
            <a:ext cx="1523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4946040" y="4572000"/>
            <a:ext cx="161244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s de transi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3276720" y="3124080"/>
            <a:ext cx="0" cy="2133720"/>
          </a:xfrm>
          <a:prstGeom prst="line">
            <a:avLst/>
          </a:prstGeom>
          <a:ln w="12600">
            <a:solidFill>
              <a:srgbClr val="def3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4952880" y="3124080"/>
            <a:ext cx="0" cy="2133720"/>
          </a:xfrm>
          <a:prstGeom prst="line">
            <a:avLst/>
          </a:prstGeom>
          <a:ln w="12600">
            <a:solidFill>
              <a:srgbClr val="def3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6553080" y="3124080"/>
            <a:ext cx="0" cy="2133720"/>
          </a:xfrm>
          <a:prstGeom prst="line">
            <a:avLst/>
          </a:prstGeom>
          <a:ln w="12600">
            <a:solidFill>
              <a:srgbClr val="def3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8153280" y="3200400"/>
            <a:ext cx="0" cy="2133720"/>
          </a:xfrm>
          <a:prstGeom prst="line">
            <a:avLst/>
          </a:prstGeom>
          <a:ln w="12600">
            <a:solidFill>
              <a:srgbClr val="def3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6095880" y="3276720"/>
            <a:ext cx="7632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 flipH="1">
            <a:off x="6019560" y="3276720"/>
            <a:ext cx="152280" cy="30456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 flipH="1">
            <a:off x="6095880" y="3276720"/>
            <a:ext cx="152640" cy="30456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 flipH="1">
            <a:off x="6095880" y="4114800"/>
            <a:ext cx="15264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 flipH="1">
            <a:off x="6019560" y="4114800"/>
            <a:ext cx="15228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 flipH="1">
            <a:off x="7772040" y="4114800"/>
            <a:ext cx="15228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 flipH="1">
            <a:off x="7696080" y="4114800"/>
            <a:ext cx="15264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1298520" y="2286000"/>
            <a:ext cx="51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+ et D- : nivea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ctif = 400mV, niveau inactif = 0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153360" y="3505320"/>
            <a:ext cx="8391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ef3f8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ef3f8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990720" y="3124080"/>
            <a:ext cx="152280" cy="1600200"/>
          </a:xfrm>
          <a:custGeom>
            <a:avLst/>
            <a:gdLst/>
            <a:ahLst/>
            <a:rect l="l" t="t" r="r" b="b"/>
            <a:pathLst>
              <a:path w="96" h="1296">
                <a:moveTo>
                  <a:pt x="96" y="0"/>
                </a:moveTo>
                <a:lnTo>
                  <a:pt x="0" y="48"/>
                </a:lnTo>
                <a:lnTo>
                  <a:pt x="0" y="1248"/>
                </a:lnTo>
                <a:lnTo>
                  <a:pt x="48" y="1296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5334120" y="3048120"/>
            <a:ext cx="701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at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3733920" y="3048120"/>
            <a:ext cx="73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at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1378080" y="5562720"/>
            <a:ext cx="48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 de dif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nce ent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t repos et SEO (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"/>
          <p:cNvSpPr/>
          <p:nvPr/>
        </p:nvSpPr>
        <p:spPr>
          <a:xfrm>
            <a:off x="2971800" y="350532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144" y="96"/>
                </a:lnTo>
                <a:lnTo>
                  <a:pt x="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 flipH="1">
            <a:off x="3504960" y="4114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 flipH="1">
            <a:off x="3352680" y="5715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High-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01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te interface High Speed inclut une interface Full-Speed co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ut Device High Speed se connecte initialement en mode Full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res v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fication des possibili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, le mode Full Speed est commu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u profit du mode High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"/>
          <p:cNvSpPr/>
          <p:nvPr/>
        </p:nvSpPr>
        <p:spPr>
          <a:xfrm>
            <a:off x="7315200" y="320040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0" name=""/>
          <p:cNvGrpSpPr/>
          <p:nvPr/>
        </p:nvGrpSpPr>
        <p:grpSpPr>
          <a:xfrm>
            <a:off x="7010280" y="3276720"/>
            <a:ext cx="380880" cy="304560"/>
            <a:chOff x="7010280" y="3276720"/>
            <a:chExt cx="380880" cy="304560"/>
          </a:xfrm>
        </p:grpSpPr>
        <p:sp>
          <p:nvSpPr>
            <p:cNvPr id="5021" name=""/>
            <p:cNvSpPr/>
            <p:nvPr/>
          </p:nvSpPr>
          <p:spPr>
            <a:xfrm flipH="1">
              <a:off x="7010280" y="33526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 flipH="1">
              <a:off x="7010280" y="35049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7162560" y="327672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4" name=""/>
            <p:cNvGrpSpPr/>
            <p:nvPr/>
          </p:nvGrpSpPr>
          <p:grpSpPr>
            <a:xfrm>
              <a:off x="7162560" y="3428640"/>
              <a:ext cx="152280" cy="152280"/>
              <a:chOff x="7162560" y="3428640"/>
              <a:chExt cx="152280" cy="152280"/>
            </a:xfrm>
          </p:grpSpPr>
          <p:sp>
            <p:nvSpPr>
              <p:cNvPr id="5025" name=""/>
              <p:cNvSpPr/>
              <p:nvPr/>
            </p:nvSpPr>
            <p:spPr>
              <a:xfrm>
                <a:off x="7212960" y="347904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7162560" y="342864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7" name=""/>
          <p:cNvSpPr/>
          <p:nvPr/>
        </p:nvSpPr>
        <p:spPr>
          <a:xfrm>
            <a:off x="7391520" y="34290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7315200" y="38098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 flipH="1">
            <a:off x="7009920" y="3962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 flipH="1">
            <a:off x="7009920" y="4114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7162920" y="38862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lnTo>
                  <a:pt x="144" y="192"/>
                </a:lnTo>
                <a:lnTo>
                  <a:pt x="0" y="96"/>
                </a:lnTo>
                <a:lnTo>
                  <a:pt x="144" y="0"/>
                </a:lnTo>
                <a:close/>
              </a:path>
            </a:pathLst>
          </a:custGeom>
          <a:solidFill>
            <a:srgbClr val="ffc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2" name=""/>
          <p:cNvGrpSpPr/>
          <p:nvPr/>
        </p:nvGrpSpPr>
        <p:grpSpPr>
          <a:xfrm>
            <a:off x="7162920" y="4038480"/>
            <a:ext cx="152280" cy="152640"/>
            <a:chOff x="7162920" y="4038480"/>
            <a:chExt cx="152280" cy="152640"/>
          </a:xfrm>
        </p:grpSpPr>
        <p:sp>
          <p:nvSpPr>
            <p:cNvPr id="5033" name=""/>
            <p:cNvSpPr/>
            <p:nvPr/>
          </p:nvSpPr>
          <p:spPr>
            <a:xfrm>
              <a:off x="7213320" y="4089240"/>
              <a:ext cx="50760" cy="51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7162920" y="403848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5" name=""/>
          <p:cNvSpPr/>
          <p:nvPr/>
        </p:nvSpPr>
        <p:spPr>
          <a:xfrm>
            <a:off x="7391520" y="403848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6" name=""/>
          <p:cNvGrpSpPr/>
          <p:nvPr/>
        </p:nvGrpSpPr>
        <p:grpSpPr>
          <a:xfrm>
            <a:off x="7010280" y="4343400"/>
            <a:ext cx="380880" cy="304560"/>
            <a:chOff x="7010280" y="4343400"/>
            <a:chExt cx="380880" cy="304560"/>
          </a:xfrm>
        </p:grpSpPr>
        <p:sp>
          <p:nvSpPr>
            <p:cNvPr id="5037" name=""/>
            <p:cNvSpPr/>
            <p:nvPr/>
          </p:nvSpPr>
          <p:spPr>
            <a:xfrm flipH="1">
              <a:off x="7010280" y="4572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flipH="1">
              <a:off x="7162200" y="434340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9" name=""/>
            <p:cNvGrpSpPr/>
            <p:nvPr/>
          </p:nvGrpSpPr>
          <p:grpSpPr>
            <a:xfrm>
              <a:off x="7057800" y="4495680"/>
              <a:ext cx="152280" cy="152280"/>
              <a:chOff x="7057800" y="4495680"/>
              <a:chExt cx="152280" cy="152280"/>
            </a:xfrm>
          </p:grpSpPr>
          <p:sp>
            <p:nvSpPr>
              <p:cNvPr id="5040" name=""/>
              <p:cNvSpPr/>
              <p:nvPr/>
            </p:nvSpPr>
            <p:spPr>
              <a:xfrm flipH="1">
                <a:off x="7108560" y="454608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 flipH="1">
                <a:off x="7057440" y="44956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2" name=""/>
            <p:cNvSpPr/>
            <p:nvPr/>
          </p:nvSpPr>
          <p:spPr>
            <a:xfrm flipH="1">
              <a:off x="7010280" y="441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3" name=""/>
          <p:cNvSpPr/>
          <p:nvPr/>
        </p:nvSpPr>
        <p:spPr>
          <a:xfrm flipH="1">
            <a:off x="7010280" y="4952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 flipH="1">
            <a:off x="7162200" y="4724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lnTo>
                  <a:pt x="144" y="192"/>
                </a:lnTo>
                <a:lnTo>
                  <a:pt x="0" y="96"/>
                </a:lnTo>
                <a:lnTo>
                  <a:pt x="144" y="0"/>
                </a:lnTo>
                <a:close/>
              </a:path>
            </a:pathLst>
          </a:custGeom>
          <a:solidFill>
            <a:srgbClr val="ffc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5" name=""/>
          <p:cNvGrpSpPr/>
          <p:nvPr/>
        </p:nvGrpSpPr>
        <p:grpSpPr>
          <a:xfrm>
            <a:off x="7057800" y="4876920"/>
            <a:ext cx="152280" cy="152280"/>
            <a:chOff x="7057800" y="4876920"/>
            <a:chExt cx="152280" cy="152280"/>
          </a:xfrm>
        </p:grpSpPr>
        <p:sp>
          <p:nvSpPr>
            <p:cNvPr id="5046" name=""/>
            <p:cNvSpPr/>
            <p:nvPr/>
          </p:nvSpPr>
          <p:spPr>
            <a:xfrm flipH="1">
              <a:off x="7108560" y="49273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H="1">
              <a:off x="705744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8" name=""/>
          <p:cNvSpPr/>
          <p:nvPr/>
        </p:nvSpPr>
        <p:spPr>
          <a:xfrm flipH="1">
            <a:off x="7010280" y="48006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 flipH="1">
            <a:off x="7010280" y="5715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 flipH="1">
            <a:off x="7162200" y="5486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lnTo>
                  <a:pt x="144" y="192"/>
                </a:lnTo>
                <a:lnTo>
                  <a:pt x="0" y="96"/>
                </a:lnTo>
                <a:lnTo>
                  <a:pt x="144" y="0"/>
                </a:lnTo>
                <a:close/>
              </a:path>
            </a:pathLst>
          </a:custGeom>
          <a:solidFill>
            <a:srgbClr val="ffc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1" name=""/>
          <p:cNvGrpSpPr/>
          <p:nvPr/>
        </p:nvGrpSpPr>
        <p:grpSpPr>
          <a:xfrm>
            <a:off x="7057800" y="5638680"/>
            <a:ext cx="152280" cy="152640"/>
            <a:chOff x="7057800" y="5638680"/>
            <a:chExt cx="152280" cy="152640"/>
          </a:xfrm>
        </p:grpSpPr>
        <p:sp>
          <p:nvSpPr>
            <p:cNvPr id="5052" name=""/>
            <p:cNvSpPr/>
            <p:nvPr/>
          </p:nvSpPr>
          <p:spPr>
            <a:xfrm flipH="1">
              <a:off x="7108560" y="568944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 flipH="1">
              <a:off x="7057440" y="5638680"/>
              <a:ext cx="152280" cy="15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4" name=""/>
          <p:cNvSpPr/>
          <p:nvPr/>
        </p:nvSpPr>
        <p:spPr>
          <a:xfrm flipH="1">
            <a:off x="7010280" y="5562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 flipH="1">
            <a:off x="7010280" y="5334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 flipH="1">
            <a:off x="7162200" y="51055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lnTo>
                  <a:pt x="144" y="192"/>
                </a:lnTo>
                <a:lnTo>
                  <a:pt x="0" y="96"/>
                </a:lnTo>
                <a:lnTo>
                  <a:pt x="144" y="0"/>
                </a:lnTo>
                <a:close/>
              </a:path>
            </a:pathLst>
          </a:custGeom>
          <a:solidFill>
            <a:srgbClr val="ffc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7" name=""/>
          <p:cNvGrpSpPr/>
          <p:nvPr/>
        </p:nvGrpSpPr>
        <p:grpSpPr>
          <a:xfrm>
            <a:off x="7057800" y="5257800"/>
            <a:ext cx="152280" cy="152280"/>
            <a:chOff x="7057800" y="5257800"/>
            <a:chExt cx="152280" cy="152280"/>
          </a:xfrm>
        </p:grpSpPr>
        <p:sp>
          <p:nvSpPr>
            <p:cNvPr id="5058" name=""/>
            <p:cNvSpPr/>
            <p:nvPr/>
          </p:nvSpPr>
          <p:spPr>
            <a:xfrm flipH="1">
              <a:off x="7108560" y="5308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 flipH="1">
              <a:off x="7057440" y="5257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0" name=""/>
          <p:cNvSpPr/>
          <p:nvPr/>
        </p:nvSpPr>
        <p:spPr>
          <a:xfrm flipH="1">
            <a:off x="7010280" y="51814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1" name=""/>
          <p:cNvGrpSpPr/>
          <p:nvPr/>
        </p:nvGrpSpPr>
        <p:grpSpPr>
          <a:xfrm>
            <a:off x="6172200" y="3276720"/>
            <a:ext cx="152280" cy="304560"/>
            <a:chOff x="6172200" y="3276720"/>
            <a:chExt cx="152280" cy="304560"/>
          </a:xfrm>
        </p:grpSpPr>
        <p:grpSp>
          <p:nvGrpSpPr>
            <p:cNvPr id="5062" name=""/>
            <p:cNvGrpSpPr/>
            <p:nvPr/>
          </p:nvGrpSpPr>
          <p:grpSpPr>
            <a:xfrm>
              <a:off x="6210000" y="3276720"/>
              <a:ext cx="76320" cy="304200"/>
              <a:chOff x="6210000" y="3276720"/>
              <a:chExt cx="76320" cy="304200"/>
            </a:xfrm>
          </p:grpSpPr>
          <p:sp>
            <p:nvSpPr>
              <p:cNvPr id="5063" name=""/>
              <p:cNvSpPr/>
              <p:nvPr/>
            </p:nvSpPr>
            <p:spPr>
              <a:xfrm>
                <a:off x="6210360" y="327672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210360" y="33613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210360" y="342900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 flipH="1" flipV="1">
                <a:off x="6209640" y="349596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7" name=""/>
            <p:cNvSpPr/>
            <p:nvPr/>
          </p:nvSpPr>
          <p:spPr>
            <a:xfrm>
              <a:off x="6172200" y="3276720"/>
              <a:ext cx="1522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8" name=""/>
          <p:cNvGrpSpPr/>
          <p:nvPr/>
        </p:nvGrpSpPr>
        <p:grpSpPr>
          <a:xfrm>
            <a:off x="6705720" y="3276720"/>
            <a:ext cx="304560" cy="152280"/>
            <a:chOff x="6705720" y="3276720"/>
            <a:chExt cx="304560" cy="152280"/>
          </a:xfrm>
        </p:grpSpPr>
        <p:grpSp>
          <p:nvGrpSpPr>
            <p:cNvPr id="5069" name=""/>
            <p:cNvGrpSpPr/>
            <p:nvPr/>
          </p:nvGrpSpPr>
          <p:grpSpPr>
            <a:xfrm>
              <a:off x="6706080" y="3314520"/>
              <a:ext cx="304200" cy="76320"/>
              <a:chOff x="6706080" y="3314520"/>
              <a:chExt cx="304200" cy="76320"/>
            </a:xfrm>
          </p:grpSpPr>
          <p:sp>
            <p:nvSpPr>
              <p:cNvPr id="5070" name=""/>
              <p:cNvSpPr/>
              <p:nvPr/>
            </p:nvSpPr>
            <p:spPr>
              <a:xfrm rot="5400000">
                <a:off x="6930000" y="331056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 rot="5400000">
                <a:off x="6853680" y="331884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 rot="5400000">
                <a:off x="6786000" y="331884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H="1" flipV="1" rot="5400000">
                <a:off x="6710040" y="330984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4" name=""/>
            <p:cNvSpPr/>
            <p:nvPr/>
          </p:nvSpPr>
          <p:spPr>
            <a:xfrm rot="5400000">
              <a:off x="6781680" y="3200400"/>
              <a:ext cx="1522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5" name=""/>
          <p:cNvGrpSpPr/>
          <p:nvPr/>
        </p:nvGrpSpPr>
        <p:grpSpPr>
          <a:xfrm>
            <a:off x="6705720" y="3429000"/>
            <a:ext cx="304560" cy="152280"/>
            <a:chOff x="6705720" y="3429000"/>
            <a:chExt cx="304560" cy="152280"/>
          </a:xfrm>
        </p:grpSpPr>
        <p:grpSp>
          <p:nvGrpSpPr>
            <p:cNvPr id="5076" name=""/>
            <p:cNvGrpSpPr/>
            <p:nvPr/>
          </p:nvGrpSpPr>
          <p:grpSpPr>
            <a:xfrm>
              <a:off x="6706080" y="3466800"/>
              <a:ext cx="304200" cy="76320"/>
              <a:chOff x="6706080" y="3466800"/>
              <a:chExt cx="304200" cy="76320"/>
            </a:xfrm>
          </p:grpSpPr>
          <p:sp>
            <p:nvSpPr>
              <p:cNvPr id="5077" name=""/>
              <p:cNvSpPr/>
              <p:nvPr/>
            </p:nvSpPr>
            <p:spPr>
              <a:xfrm rot="5400000">
                <a:off x="6930000" y="346284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 rot="5400000">
                <a:off x="6853680" y="34711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 rot="5400000">
                <a:off x="6786000" y="34711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 flipH="1" flipV="1" rot="5400000">
                <a:off x="6710040" y="346212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1" name=""/>
            <p:cNvSpPr/>
            <p:nvPr/>
          </p:nvSpPr>
          <p:spPr>
            <a:xfrm rot="5400000">
              <a:off x="6781680" y="3352680"/>
              <a:ext cx="1522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2" name=""/>
          <p:cNvSpPr/>
          <p:nvPr/>
        </p:nvSpPr>
        <p:spPr>
          <a:xfrm flipH="1">
            <a:off x="5638680" y="3962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 flipH="1">
            <a:off x="5638680" y="41148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6629400" y="3505320"/>
            <a:ext cx="380880" cy="2209680"/>
          </a:xfrm>
          <a:custGeom>
            <a:avLst/>
            <a:gdLst/>
            <a:ahLst/>
            <a:rect l="l" t="t" r="r" b="b"/>
            <a:pathLst>
              <a:path w="240" h="1392">
                <a:moveTo>
                  <a:pt x="48" y="0"/>
                </a:moveTo>
                <a:lnTo>
                  <a:pt x="0" y="0"/>
                </a:lnTo>
                <a:lnTo>
                  <a:pt x="0" y="1392"/>
                </a:lnTo>
                <a:lnTo>
                  <a:pt x="240" y="13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6477120" y="3352680"/>
            <a:ext cx="533160" cy="2210040"/>
          </a:xfrm>
          <a:custGeom>
            <a:avLst/>
            <a:gdLst/>
            <a:ahLst/>
            <a:rect l="l" t="t" r="r" b="b"/>
            <a:pathLst>
              <a:path w="336" h="1392">
                <a:moveTo>
                  <a:pt x="144" y="0"/>
                </a:moveTo>
                <a:lnTo>
                  <a:pt x="0" y="0"/>
                </a:lnTo>
                <a:lnTo>
                  <a:pt x="0" y="1392"/>
                </a:lnTo>
                <a:lnTo>
                  <a:pt x="336" y="13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>
            <a:off x="6629400" y="5334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6629400" y="4952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6629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6477120" y="441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64771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6477120" y="518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62485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6248520" y="3581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62485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6172200" y="36576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6324480" y="3048120"/>
            <a:ext cx="1219320" cy="685800"/>
          </a:xfrm>
          <a:custGeom>
            <a:avLst/>
            <a:gdLst/>
            <a:ahLst/>
            <a:rect l="l" t="t" r="r" b="b"/>
            <a:pathLst>
              <a:path w="768" h="432">
                <a:moveTo>
                  <a:pt x="0" y="432"/>
                </a:moveTo>
                <a:lnTo>
                  <a:pt x="48" y="432"/>
                </a:lnTo>
                <a:lnTo>
                  <a:pt x="48" y="0"/>
                </a:lnTo>
                <a:lnTo>
                  <a:pt x="76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5943600" y="2819520"/>
            <a:ext cx="1981080" cy="3504960"/>
          </a:xfrm>
          <a:custGeom>
            <a:avLst/>
            <a:gdLst/>
            <a:ahLst/>
            <a:rect l="l" t="t" r="r" b="b"/>
            <a:pathLst>
              <a:path w="1200" h="1968">
                <a:moveTo>
                  <a:pt x="1152" y="0"/>
                </a:moveTo>
                <a:lnTo>
                  <a:pt x="0" y="0"/>
                </a:lnTo>
                <a:lnTo>
                  <a:pt x="0" y="1968"/>
                </a:lnTo>
                <a:lnTo>
                  <a:pt x="1200" y="19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7391520" y="449568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7391520" y="48769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7391520" y="52578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7391520" y="563868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5683320" y="2895480"/>
            <a:ext cx="10778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3.3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7200720" y="2895480"/>
            <a:ext cx="13384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alid. Rp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5559840" y="3352680"/>
            <a:ext cx="105336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p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7200000" y="3086280"/>
            <a:ext cx="19404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Valid. Driver Full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7276320" y="3314880"/>
            <a:ext cx="20257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Full Speed Transmi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7200720" y="3619440"/>
            <a:ext cx="19846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Valid. Driver High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7277400" y="3924360"/>
            <a:ext cx="20700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High Speed Transmi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7278120" y="4762440"/>
            <a:ext cx="20746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High Speed Receiver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7277400" y="4381560"/>
            <a:ext cx="20304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Full Speed Receiver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7277400" y="5143680"/>
            <a:ext cx="12362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el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>
            <a:off x="7277760" y="5524560"/>
            <a:ext cx="1934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High Speed Dis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3" name=""/>
          <p:cNvGrpSpPr/>
          <p:nvPr/>
        </p:nvGrpSpPr>
        <p:grpSpPr>
          <a:xfrm>
            <a:off x="6400800" y="3886200"/>
            <a:ext cx="152280" cy="152280"/>
            <a:chOff x="6400800" y="3886200"/>
            <a:chExt cx="152280" cy="152280"/>
          </a:xfrm>
        </p:grpSpPr>
        <p:sp>
          <p:nvSpPr>
            <p:cNvPr id="5114" name=""/>
            <p:cNvSpPr/>
            <p:nvPr/>
          </p:nvSpPr>
          <p:spPr>
            <a:xfrm>
              <a:off x="6464160" y="39495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6400800" y="38862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6" name=""/>
          <p:cNvGrpSpPr/>
          <p:nvPr/>
        </p:nvGrpSpPr>
        <p:grpSpPr>
          <a:xfrm>
            <a:off x="6553080" y="4038480"/>
            <a:ext cx="152640" cy="152640"/>
            <a:chOff x="6553080" y="4038480"/>
            <a:chExt cx="152640" cy="152640"/>
          </a:xfrm>
        </p:grpSpPr>
        <p:sp>
          <p:nvSpPr>
            <p:cNvPr id="5117" name=""/>
            <p:cNvSpPr/>
            <p:nvPr/>
          </p:nvSpPr>
          <p:spPr>
            <a:xfrm>
              <a:off x="6616440" y="41018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6553080" y="40384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9" name=""/>
          <p:cNvGrpSpPr/>
          <p:nvPr/>
        </p:nvGrpSpPr>
        <p:grpSpPr>
          <a:xfrm>
            <a:off x="6400800" y="4343400"/>
            <a:ext cx="152280" cy="152280"/>
            <a:chOff x="6400800" y="4343400"/>
            <a:chExt cx="152280" cy="152280"/>
          </a:xfrm>
        </p:grpSpPr>
        <p:sp>
          <p:nvSpPr>
            <p:cNvPr id="5120" name=""/>
            <p:cNvSpPr/>
            <p:nvPr/>
          </p:nvSpPr>
          <p:spPr>
            <a:xfrm>
              <a:off x="6464160" y="44067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6400800" y="43434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2" name=""/>
          <p:cNvGrpSpPr/>
          <p:nvPr/>
        </p:nvGrpSpPr>
        <p:grpSpPr>
          <a:xfrm>
            <a:off x="6172200" y="3886200"/>
            <a:ext cx="152280" cy="152280"/>
            <a:chOff x="6172200" y="3886200"/>
            <a:chExt cx="152280" cy="152280"/>
          </a:xfrm>
        </p:grpSpPr>
        <p:sp>
          <p:nvSpPr>
            <p:cNvPr id="5123" name=""/>
            <p:cNvSpPr/>
            <p:nvPr/>
          </p:nvSpPr>
          <p:spPr>
            <a:xfrm>
              <a:off x="6235560" y="39495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6172200" y="38862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5" name=""/>
          <p:cNvGrpSpPr/>
          <p:nvPr/>
        </p:nvGrpSpPr>
        <p:grpSpPr>
          <a:xfrm>
            <a:off x="6553080" y="4495680"/>
            <a:ext cx="152640" cy="152640"/>
            <a:chOff x="6553080" y="4495680"/>
            <a:chExt cx="152640" cy="152640"/>
          </a:xfrm>
        </p:grpSpPr>
        <p:sp>
          <p:nvSpPr>
            <p:cNvPr id="5126" name=""/>
            <p:cNvSpPr/>
            <p:nvPr/>
          </p:nvSpPr>
          <p:spPr>
            <a:xfrm>
              <a:off x="6616440" y="45590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65530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8" name=""/>
          <p:cNvGrpSpPr/>
          <p:nvPr/>
        </p:nvGrpSpPr>
        <p:grpSpPr>
          <a:xfrm>
            <a:off x="6400800" y="4724280"/>
            <a:ext cx="152280" cy="152640"/>
            <a:chOff x="6400800" y="4724280"/>
            <a:chExt cx="152280" cy="152640"/>
          </a:xfrm>
        </p:grpSpPr>
        <p:sp>
          <p:nvSpPr>
            <p:cNvPr id="5129" name=""/>
            <p:cNvSpPr/>
            <p:nvPr/>
          </p:nvSpPr>
          <p:spPr>
            <a:xfrm>
              <a:off x="6464160" y="47876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6400800" y="47242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1" name=""/>
          <p:cNvGrpSpPr/>
          <p:nvPr/>
        </p:nvGrpSpPr>
        <p:grpSpPr>
          <a:xfrm>
            <a:off x="6553080" y="4876920"/>
            <a:ext cx="152640" cy="152280"/>
            <a:chOff x="6553080" y="4876920"/>
            <a:chExt cx="152640" cy="152280"/>
          </a:xfrm>
        </p:grpSpPr>
        <p:sp>
          <p:nvSpPr>
            <p:cNvPr id="5132" name=""/>
            <p:cNvSpPr/>
            <p:nvPr/>
          </p:nvSpPr>
          <p:spPr>
            <a:xfrm>
              <a:off x="6616440" y="49402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6553080" y="487692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4" name=""/>
          <p:cNvGrpSpPr/>
          <p:nvPr/>
        </p:nvGrpSpPr>
        <p:grpSpPr>
          <a:xfrm>
            <a:off x="6400800" y="5105520"/>
            <a:ext cx="152280" cy="152280"/>
            <a:chOff x="6400800" y="5105520"/>
            <a:chExt cx="152280" cy="152280"/>
          </a:xfrm>
        </p:grpSpPr>
        <p:sp>
          <p:nvSpPr>
            <p:cNvPr id="5135" name=""/>
            <p:cNvSpPr/>
            <p:nvPr/>
          </p:nvSpPr>
          <p:spPr>
            <a:xfrm>
              <a:off x="6464160" y="51688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6400800" y="51055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7" name=""/>
          <p:cNvGrpSpPr/>
          <p:nvPr/>
        </p:nvGrpSpPr>
        <p:grpSpPr>
          <a:xfrm>
            <a:off x="6553080" y="5257800"/>
            <a:ext cx="152640" cy="152280"/>
            <a:chOff x="6553080" y="5257800"/>
            <a:chExt cx="152640" cy="152280"/>
          </a:xfrm>
        </p:grpSpPr>
        <p:sp>
          <p:nvSpPr>
            <p:cNvPr id="5138" name=""/>
            <p:cNvSpPr/>
            <p:nvPr/>
          </p:nvSpPr>
          <p:spPr>
            <a:xfrm>
              <a:off x="6616440" y="53211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6553080" y="525780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0" name=""/>
          <p:cNvGrpSpPr/>
          <p:nvPr/>
        </p:nvGrpSpPr>
        <p:grpSpPr>
          <a:xfrm>
            <a:off x="6172200" y="3581280"/>
            <a:ext cx="152280" cy="152640"/>
            <a:chOff x="6172200" y="3581280"/>
            <a:chExt cx="152280" cy="152640"/>
          </a:xfrm>
        </p:grpSpPr>
        <p:sp>
          <p:nvSpPr>
            <p:cNvPr id="5141" name=""/>
            <p:cNvSpPr/>
            <p:nvPr/>
          </p:nvSpPr>
          <p:spPr>
            <a:xfrm>
              <a:off x="6235560" y="36446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6172200" y="35812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3" name=""/>
          <p:cNvSpPr/>
          <p:nvPr/>
        </p:nvSpPr>
        <p:spPr>
          <a:xfrm>
            <a:off x="5301360" y="3790800"/>
            <a:ext cx="100008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5301720" y="4095720"/>
            <a:ext cx="97416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486400" y="3886200"/>
            <a:ext cx="1522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>
            <a:off x="4572000" y="3886200"/>
            <a:ext cx="1522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 flipH="1">
            <a:off x="464832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5410080" y="3886200"/>
            <a:ext cx="15264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H="1">
            <a:off x="4648320" y="3886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0" name=""/>
          <p:cNvGrpSpPr/>
          <p:nvPr/>
        </p:nvGrpSpPr>
        <p:grpSpPr>
          <a:xfrm>
            <a:off x="6172200" y="3733920"/>
            <a:ext cx="152280" cy="152280"/>
            <a:chOff x="6172200" y="3733920"/>
            <a:chExt cx="152280" cy="152280"/>
          </a:xfrm>
        </p:grpSpPr>
        <p:sp>
          <p:nvSpPr>
            <p:cNvPr id="5151" name=""/>
            <p:cNvSpPr/>
            <p:nvPr/>
          </p:nvSpPr>
          <p:spPr>
            <a:xfrm>
              <a:off x="6235560" y="37972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6172200" y="3733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3" name=""/>
          <p:cNvGrpSpPr/>
          <p:nvPr/>
        </p:nvGrpSpPr>
        <p:grpSpPr>
          <a:xfrm>
            <a:off x="2895480" y="3200400"/>
            <a:ext cx="609840" cy="380880"/>
            <a:chOff x="2895480" y="3200400"/>
            <a:chExt cx="609840" cy="380880"/>
          </a:xfrm>
        </p:grpSpPr>
        <p:sp>
          <p:nvSpPr>
            <p:cNvPr id="5154" name=""/>
            <p:cNvSpPr/>
            <p:nvPr/>
          </p:nvSpPr>
          <p:spPr>
            <a:xfrm flipH="1">
              <a:off x="2971440" y="320040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96"/>
                  </a:move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5" name=""/>
            <p:cNvGrpSpPr/>
            <p:nvPr/>
          </p:nvGrpSpPr>
          <p:grpSpPr>
            <a:xfrm>
              <a:off x="3124440" y="3276360"/>
              <a:ext cx="380880" cy="304920"/>
              <a:chOff x="3124440" y="3276360"/>
              <a:chExt cx="380880" cy="304920"/>
            </a:xfrm>
          </p:grpSpPr>
          <p:sp>
            <p:nvSpPr>
              <p:cNvPr id="5156" name=""/>
              <p:cNvSpPr/>
              <p:nvPr/>
            </p:nvSpPr>
            <p:spPr>
              <a:xfrm>
                <a:off x="3200760" y="335268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200760" y="350496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H="1">
                <a:off x="3124080" y="3276360"/>
                <a:ext cx="22860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0"/>
                    </a:moveTo>
                    <a:lnTo>
                      <a:pt x="144" y="192"/>
                    </a:lnTo>
                    <a:lnTo>
                      <a:pt x="0" y="96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9" name=""/>
              <p:cNvGrpSpPr/>
              <p:nvPr/>
            </p:nvGrpSpPr>
            <p:grpSpPr>
              <a:xfrm>
                <a:off x="3200760" y="3428640"/>
                <a:ext cx="152280" cy="152640"/>
                <a:chOff x="3200760" y="3428640"/>
                <a:chExt cx="152280" cy="152640"/>
              </a:xfrm>
            </p:grpSpPr>
            <p:sp>
              <p:nvSpPr>
                <p:cNvPr id="5160" name=""/>
                <p:cNvSpPr/>
                <p:nvPr/>
              </p:nvSpPr>
              <p:spPr>
                <a:xfrm flipH="1">
                  <a:off x="3251520" y="3479400"/>
                  <a:ext cx="50760" cy="51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1" name=""/>
                <p:cNvSpPr/>
                <p:nvPr/>
              </p:nvSpPr>
              <p:spPr>
                <a:xfrm flipH="1">
                  <a:off x="3200400" y="3428640"/>
                  <a:ext cx="152280" cy="152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62" name=""/>
            <p:cNvSpPr/>
            <p:nvPr/>
          </p:nvSpPr>
          <p:spPr>
            <a:xfrm flipH="1">
              <a:off x="2895480" y="342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3" name=""/>
          <p:cNvGrpSpPr/>
          <p:nvPr/>
        </p:nvGrpSpPr>
        <p:grpSpPr>
          <a:xfrm>
            <a:off x="2895480" y="3809880"/>
            <a:ext cx="610200" cy="380880"/>
            <a:chOff x="2895480" y="3809880"/>
            <a:chExt cx="610200" cy="380880"/>
          </a:xfrm>
        </p:grpSpPr>
        <p:sp>
          <p:nvSpPr>
            <p:cNvPr id="5164" name=""/>
            <p:cNvSpPr/>
            <p:nvPr/>
          </p:nvSpPr>
          <p:spPr>
            <a:xfrm flipH="1">
              <a:off x="2971440" y="380988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96"/>
                  </a:move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320076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3200760" y="41148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H="1">
              <a:off x="3123720" y="388620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ce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8" name=""/>
            <p:cNvGrpSpPr/>
            <p:nvPr/>
          </p:nvGrpSpPr>
          <p:grpSpPr>
            <a:xfrm>
              <a:off x="3200400" y="4038480"/>
              <a:ext cx="152280" cy="152280"/>
              <a:chOff x="3200400" y="4038480"/>
              <a:chExt cx="152280" cy="152280"/>
            </a:xfrm>
          </p:grpSpPr>
          <p:sp>
            <p:nvSpPr>
              <p:cNvPr id="5169" name=""/>
              <p:cNvSpPr/>
              <p:nvPr/>
            </p:nvSpPr>
            <p:spPr>
              <a:xfrm flipH="1">
                <a:off x="3251160" y="408888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 flipH="1">
                <a:off x="3200040" y="40384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1" name=""/>
            <p:cNvSpPr/>
            <p:nvPr/>
          </p:nvSpPr>
          <p:spPr>
            <a:xfrm flipH="1">
              <a:off x="2895480" y="4038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2" name=""/>
          <p:cNvGrpSpPr/>
          <p:nvPr/>
        </p:nvGrpSpPr>
        <p:grpSpPr>
          <a:xfrm>
            <a:off x="3124080" y="4724280"/>
            <a:ext cx="380880" cy="304920"/>
            <a:chOff x="3124080" y="4724280"/>
            <a:chExt cx="380880" cy="304920"/>
          </a:xfrm>
        </p:grpSpPr>
        <p:sp>
          <p:nvSpPr>
            <p:cNvPr id="5173" name=""/>
            <p:cNvSpPr/>
            <p:nvPr/>
          </p:nvSpPr>
          <p:spPr>
            <a:xfrm>
              <a:off x="3352320" y="4952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124080" y="472428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ce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5" name=""/>
            <p:cNvGrpSpPr/>
            <p:nvPr/>
          </p:nvGrpSpPr>
          <p:grpSpPr>
            <a:xfrm>
              <a:off x="3305160" y="4876560"/>
              <a:ext cx="152280" cy="152640"/>
              <a:chOff x="3305160" y="4876560"/>
              <a:chExt cx="152280" cy="152640"/>
            </a:xfrm>
          </p:grpSpPr>
          <p:sp>
            <p:nvSpPr>
              <p:cNvPr id="5176" name=""/>
              <p:cNvSpPr/>
              <p:nvPr/>
            </p:nvSpPr>
            <p:spPr>
              <a:xfrm>
                <a:off x="3355560" y="4927320"/>
                <a:ext cx="50760" cy="51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3305160" y="4876560"/>
                <a:ext cx="152280" cy="152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8" name=""/>
            <p:cNvSpPr/>
            <p:nvPr/>
          </p:nvSpPr>
          <p:spPr>
            <a:xfrm>
              <a:off x="3352320" y="48006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9" name=""/>
          <p:cNvGrpSpPr/>
          <p:nvPr/>
        </p:nvGrpSpPr>
        <p:grpSpPr>
          <a:xfrm>
            <a:off x="3124440" y="5486400"/>
            <a:ext cx="333360" cy="304560"/>
            <a:chOff x="3124440" y="5486400"/>
            <a:chExt cx="333360" cy="304560"/>
          </a:xfrm>
        </p:grpSpPr>
        <p:sp>
          <p:nvSpPr>
            <p:cNvPr id="5180" name=""/>
            <p:cNvSpPr/>
            <p:nvPr/>
          </p:nvSpPr>
          <p:spPr>
            <a:xfrm>
              <a:off x="3124440" y="548640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ce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1" name=""/>
            <p:cNvGrpSpPr/>
            <p:nvPr/>
          </p:nvGrpSpPr>
          <p:grpSpPr>
            <a:xfrm>
              <a:off x="3305520" y="5638680"/>
              <a:ext cx="152280" cy="152280"/>
              <a:chOff x="3305520" y="5638680"/>
              <a:chExt cx="152280" cy="152280"/>
            </a:xfrm>
          </p:grpSpPr>
          <p:sp>
            <p:nvSpPr>
              <p:cNvPr id="5182" name=""/>
              <p:cNvSpPr/>
              <p:nvPr/>
            </p:nvSpPr>
            <p:spPr>
              <a:xfrm>
                <a:off x="3355920" y="568908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3305520" y="56386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4" name=""/>
          <p:cNvSpPr/>
          <p:nvPr/>
        </p:nvSpPr>
        <p:spPr>
          <a:xfrm flipH="1">
            <a:off x="3352680" y="5562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5" name=""/>
          <p:cNvGrpSpPr/>
          <p:nvPr/>
        </p:nvGrpSpPr>
        <p:grpSpPr>
          <a:xfrm>
            <a:off x="3124080" y="5105520"/>
            <a:ext cx="380880" cy="304560"/>
            <a:chOff x="3124080" y="5105520"/>
            <a:chExt cx="380880" cy="304560"/>
          </a:xfrm>
        </p:grpSpPr>
        <p:sp>
          <p:nvSpPr>
            <p:cNvPr id="5186" name=""/>
            <p:cNvSpPr/>
            <p:nvPr/>
          </p:nvSpPr>
          <p:spPr>
            <a:xfrm>
              <a:off x="3352320" y="533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3124080" y="510552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ce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8" name=""/>
            <p:cNvGrpSpPr/>
            <p:nvPr/>
          </p:nvGrpSpPr>
          <p:grpSpPr>
            <a:xfrm>
              <a:off x="3305160" y="5257800"/>
              <a:ext cx="152280" cy="151920"/>
              <a:chOff x="3305160" y="5257800"/>
              <a:chExt cx="152280" cy="151920"/>
            </a:xfrm>
          </p:grpSpPr>
          <p:sp>
            <p:nvSpPr>
              <p:cNvPr id="5189" name=""/>
              <p:cNvSpPr/>
              <p:nvPr/>
            </p:nvSpPr>
            <p:spPr>
              <a:xfrm>
                <a:off x="3355560" y="530820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3305160" y="5257800"/>
                <a:ext cx="152280" cy="15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1" name=""/>
            <p:cNvSpPr/>
            <p:nvPr/>
          </p:nvSpPr>
          <p:spPr>
            <a:xfrm>
              <a:off x="3352320" y="51814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2" name=""/>
          <p:cNvGrpSpPr/>
          <p:nvPr/>
        </p:nvGrpSpPr>
        <p:grpSpPr>
          <a:xfrm>
            <a:off x="3505320" y="3276720"/>
            <a:ext cx="304560" cy="152280"/>
            <a:chOff x="3505320" y="3276720"/>
            <a:chExt cx="304560" cy="152280"/>
          </a:xfrm>
        </p:grpSpPr>
        <p:grpSp>
          <p:nvGrpSpPr>
            <p:cNvPr id="5193" name=""/>
            <p:cNvGrpSpPr/>
            <p:nvPr/>
          </p:nvGrpSpPr>
          <p:grpSpPr>
            <a:xfrm>
              <a:off x="3505680" y="3314520"/>
              <a:ext cx="304200" cy="76320"/>
              <a:chOff x="3505680" y="3314520"/>
              <a:chExt cx="304200" cy="76320"/>
            </a:xfrm>
          </p:grpSpPr>
          <p:sp>
            <p:nvSpPr>
              <p:cNvPr id="5194" name=""/>
              <p:cNvSpPr/>
              <p:nvPr/>
            </p:nvSpPr>
            <p:spPr>
              <a:xfrm rot="5400000">
                <a:off x="3729600" y="331056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rot="5400000">
                <a:off x="3653280" y="331884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 rot="5400000">
                <a:off x="3585600" y="331884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 flipH="1" flipV="1" rot="5400000">
                <a:off x="3509640" y="330984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8" name=""/>
            <p:cNvSpPr/>
            <p:nvPr/>
          </p:nvSpPr>
          <p:spPr>
            <a:xfrm rot="5400000">
              <a:off x="3581280" y="3200400"/>
              <a:ext cx="1522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9" name=""/>
          <p:cNvGrpSpPr/>
          <p:nvPr/>
        </p:nvGrpSpPr>
        <p:grpSpPr>
          <a:xfrm>
            <a:off x="3505320" y="3429000"/>
            <a:ext cx="304560" cy="152280"/>
            <a:chOff x="3505320" y="3429000"/>
            <a:chExt cx="304560" cy="152280"/>
          </a:xfrm>
        </p:grpSpPr>
        <p:grpSp>
          <p:nvGrpSpPr>
            <p:cNvPr id="5200" name=""/>
            <p:cNvGrpSpPr/>
            <p:nvPr/>
          </p:nvGrpSpPr>
          <p:grpSpPr>
            <a:xfrm>
              <a:off x="3505680" y="3466800"/>
              <a:ext cx="304200" cy="76320"/>
              <a:chOff x="3505680" y="3466800"/>
              <a:chExt cx="304200" cy="76320"/>
            </a:xfrm>
          </p:grpSpPr>
          <p:sp>
            <p:nvSpPr>
              <p:cNvPr id="5201" name=""/>
              <p:cNvSpPr/>
              <p:nvPr/>
            </p:nvSpPr>
            <p:spPr>
              <a:xfrm rot="5400000">
                <a:off x="3729600" y="346284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 rot="5400000">
                <a:off x="3653280" y="34711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 rot="5400000">
                <a:off x="3585600" y="34711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 flipH="1" flipV="1" rot="5400000">
                <a:off x="3509640" y="346212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5" name=""/>
            <p:cNvSpPr/>
            <p:nvPr/>
          </p:nvSpPr>
          <p:spPr>
            <a:xfrm rot="5400000">
              <a:off x="3581280" y="3352680"/>
              <a:ext cx="1522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6" name=""/>
          <p:cNvSpPr/>
          <p:nvPr/>
        </p:nvSpPr>
        <p:spPr>
          <a:xfrm flipH="1">
            <a:off x="3505320" y="3505320"/>
            <a:ext cx="380880" cy="2209680"/>
          </a:xfrm>
          <a:custGeom>
            <a:avLst/>
            <a:gdLst/>
            <a:ahLst/>
            <a:rect l="l" t="t" r="r" b="b"/>
            <a:pathLst>
              <a:path w="240" h="1392">
                <a:moveTo>
                  <a:pt x="48" y="0"/>
                </a:moveTo>
                <a:lnTo>
                  <a:pt x="0" y="0"/>
                </a:lnTo>
                <a:lnTo>
                  <a:pt x="0" y="1392"/>
                </a:lnTo>
                <a:lnTo>
                  <a:pt x="240" y="13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 flipH="1">
            <a:off x="3504600" y="3352680"/>
            <a:ext cx="533160" cy="2210040"/>
          </a:xfrm>
          <a:custGeom>
            <a:avLst/>
            <a:gdLst/>
            <a:ahLst/>
            <a:rect l="l" t="t" r="r" b="b"/>
            <a:pathLst>
              <a:path w="336" h="1392">
                <a:moveTo>
                  <a:pt x="144" y="0"/>
                </a:moveTo>
                <a:lnTo>
                  <a:pt x="0" y="0"/>
                </a:lnTo>
                <a:lnTo>
                  <a:pt x="0" y="1392"/>
                </a:lnTo>
                <a:lnTo>
                  <a:pt x="336" y="13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3505320" y="5334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3505320" y="4952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350532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3505320" y="441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35053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3505320" y="518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4" name=""/>
          <p:cNvGrpSpPr/>
          <p:nvPr/>
        </p:nvGrpSpPr>
        <p:grpSpPr>
          <a:xfrm>
            <a:off x="2895120" y="4343400"/>
            <a:ext cx="610200" cy="304920"/>
            <a:chOff x="2895120" y="4343400"/>
            <a:chExt cx="610200" cy="304920"/>
          </a:xfrm>
        </p:grpSpPr>
        <p:sp>
          <p:nvSpPr>
            <p:cNvPr id="5215" name=""/>
            <p:cNvSpPr/>
            <p:nvPr/>
          </p:nvSpPr>
          <p:spPr>
            <a:xfrm>
              <a:off x="3352680" y="45720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3124080" y="434340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7" name=""/>
            <p:cNvGrpSpPr/>
            <p:nvPr/>
          </p:nvGrpSpPr>
          <p:grpSpPr>
            <a:xfrm>
              <a:off x="3305160" y="4495680"/>
              <a:ext cx="152280" cy="152640"/>
              <a:chOff x="3305160" y="4495680"/>
              <a:chExt cx="152280" cy="152640"/>
            </a:xfrm>
          </p:grpSpPr>
          <p:sp>
            <p:nvSpPr>
              <p:cNvPr id="5218" name=""/>
              <p:cNvSpPr/>
              <p:nvPr/>
            </p:nvSpPr>
            <p:spPr>
              <a:xfrm>
                <a:off x="3355560" y="4546440"/>
                <a:ext cx="50760" cy="51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3305160" y="4495680"/>
                <a:ext cx="152280" cy="152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0" name=""/>
            <p:cNvSpPr/>
            <p:nvPr/>
          </p:nvSpPr>
          <p:spPr>
            <a:xfrm>
              <a:off x="3352680" y="44197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 flipH="1">
              <a:off x="2895120" y="4495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2" name=""/>
          <p:cNvSpPr/>
          <p:nvPr/>
        </p:nvSpPr>
        <p:spPr>
          <a:xfrm>
            <a:off x="289548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289548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2895480" y="563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5" name=""/>
          <p:cNvGrpSpPr/>
          <p:nvPr/>
        </p:nvGrpSpPr>
        <p:grpSpPr>
          <a:xfrm>
            <a:off x="3962520" y="3886200"/>
            <a:ext cx="152280" cy="152280"/>
            <a:chOff x="3962520" y="3886200"/>
            <a:chExt cx="152280" cy="152280"/>
          </a:xfrm>
        </p:grpSpPr>
        <p:sp>
          <p:nvSpPr>
            <p:cNvPr id="5226" name=""/>
            <p:cNvSpPr/>
            <p:nvPr/>
          </p:nvSpPr>
          <p:spPr>
            <a:xfrm>
              <a:off x="4025880" y="39495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3962520" y="38862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8" name=""/>
          <p:cNvGrpSpPr/>
          <p:nvPr/>
        </p:nvGrpSpPr>
        <p:grpSpPr>
          <a:xfrm>
            <a:off x="3809880" y="4038480"/>
            <a:ext cx="152640" cy="152640"/>
            <a:chOff x="3809880" y="4038480"/>
            <a:chExt cx="152640" cy="152640"/>
          </a:xfrm>
        </p:grpSpPr>
        <p:sp>
          <p:nvSpPr>
            <p:cNvPr id="5229" name=""/>
            <p:cNvSpPr/>
            <p:nvPr/>
          </p:nvSpPr>
          <p:spPr>
            <a:xfrm>
              <a:off x="3873240" y="41018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3809880" y="40384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1" name=""/>
          <p:cNvGrpSpPr/>
          <p:nvPr/>
        </p:nvGrpSpPr>
        <p:grpSpPr>
          <a:xfrm>
            <a:off x="3962520" y="4343400"/>
            <a:ext cx="152280" cy="152280"/>
            <a:chOff x="3962520" y="4343400"/>
            <a:chExt cx="152280" cy="152280"/>
          </a:xfrm>
        </p:grpSpPr>
        <p:sp>
          <p:nvSpPr>
            <p:cNvPr id="5232" name=""/>
            <p:cNvSpPr/>
            <p:nvPr/>
          </p:nvSpPr>
          <p:spPr>
            <a:xfrm>
              <a:off x="4025880" y="44067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3962520" y="43434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4" name=""/>
          <p:cNvGrpSpPr/>
          <p:nvPr/>
        </p:nvGrpSpPr>
        <p:grpSpPr>
          <a:xfrm>
            <a:off x="3809880" y="4495680"/>
            <a:ext cx="152640" cy="152640"/>
            <a:chOff x="3809880" y="4495680"/>
            <a:chExt cx="152640" cy="152640"/>
          </a:xfrm>
        </p:grpSpPr>
        <p:sp>
          <p:nvSpPr>
            <p:cNvPr id="5235" name=""/>
            <p:cNvSpPr/>
            <p:nvPr/>
          </p:nvSpPr>
          <p:spPr>
            <a:xfrm>
              <a:off x="3873240" y="45590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38098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7" name=""/>
          <p:cNvSpPr/>
          <p:nvPr/>
        </p:nvSpPr>
        <p:spPr>
          <a:xfrm flipH="1">
            <a:off x="3504960" y="3962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8" name=""/>
          <p:cNvGrpSpPr/>
          <p:nvPr/>
        </p:nvGrpSpPr>
        <p:grpSpPr>
          <a:xfrm>
            <a:off x="3962520" y="4724280"/>
            <a:ext cx="152280" cy="152640"/>
            <a:chOff x="3962520" y="4724280"/>
            <a:chExt cx="152280" cy="152640"/>
          </a:xfrm>
        </p:grpSpPr>
        <p:sp>
          <p:nvSpPr>
            <p:cNvPr id="5239" name=""/>
            <p:cNvSpPr/>
            <p:nvPr/>
          </p:nvSpPr>
          <p:spPr>
            <a:xfrm>
              <a:off x="4025880" y="47876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3962520" y="47242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1" name=""/>
          <p:cNvGrpSpPr/>
          <p:nvPr/>
        </p:nvGrpSpPr>
        <p:grpSpPr>
          <a:xfrm>
            <a:off x="3809880" y="4876920"/>
            <a:ext cx="152640" cy="152280"/>
            <a:chOff x="3809880" y="4876920"/>
            <a:chExt cx="152640" cy="152280"/>
          </a:xfrm>
        </p:grpSpPr>
        <p:sp>
          <p:nvSpPr>
            <p:cNvPr id="5242" name=""/>
            <p:cNvSpPr/>
            <p:nvPr/>
          </p:nvSpPr>
          <p:spPr>
            <a:xfrm>
              <a:off x="3873240" y="49402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809880" y="487692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4" name=""/>
          <p:cNvGrpSpPr/>
          <p:nvPr/>
        </p:nvGrpSpPr>
        <p:grpSpPr>
          <a:xfrm>
            <a:off x="3962520" y="5105520"/>
            <a:ext cx="152280" cy="152280"/>
            <a:chOff x="3962520" y="5105520"/>
            <a:chExt cx="152280" cy="152280"/>
          </a:xfrm>
        </p:grpSpPr>
        <p:sp>
          <p:nvSpPr>
            <p:cNvPr id="5245" name=""/>
            <p:cNvSpPr/>
            <p:nvPr/>
          </p:nvSpPr>
          <p:spPr>
            <a:xfrm>
              <a:off x="4025880" y="51688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962520" y="51055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7" name=""/>
          <p:cNvGrpSpPr/>
          <p:nvPr/>
        </p:nvGrpSpPr>
        <p:grpSpPr>
          <a:xfrm>
            <a:off x="3809880" y="5257800"/>
            <a:ext cx="152640" cy="152280"/>
            <a:chOff x="3809880" y="5257800"/>
            <a:chExt cx="152640" cy="152280"/>
          </a:xfrm>
        </p:grpSpPr>
        <p:sp>
          <p:nvSpPr>
            <p:cNvPr id="5248" name=""/>
            <p:cNvSpPr/>
            <p:nvPr/>
          </p:nvSpPr>
          <p:spPr>
            <a:xfrm>
              <a:off x="3873240" y="53211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3809880" y="525780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0" name=""/>
          <p:cNvGrpSpPr/>
          <p:nvPr/>
        </p:nvGrpSpPr>
        <p:grpSpPr>
          <a:xfrm>
            <a:off x="3809880" y="2971800"/>
            <a:ext cx="152640" cy="304920"/>
            <a:chOff x="3809880" y="2971800"/>
            <a:chExt cx="152640" cy="304920"/>
          </a:xfrm>
        </p:grpSpPr>
        <p:grpSp>
          <p:nvGrpSpPr>
            <p:cNvPr id="5251" name=""/>
            <p:cNvGrpSpPr/>
            <p:nvPr/>
          </p:nvGrpSpPr>
          <p:grpSpPr>
            <a:xfrm>
              <a:off x="3847680" y="2971800"/>
              <a:ext cx="76320" cy="304560"/>
              <a:chOff x="3847680" y="2971800"/>
              <a:chExt cx="76320" cy="304560"/>
            </a:xfrm>
          </p:grpSpPr>
          <p:sp>
            <p:nvSpPr>
              <p:cNvPr id="5252" name=""/>
              <p:cNvSpPr/>
              <p:nvPr/>
            </p:nvSpPr>
            <p:spPr>
              <a:xfrm>
                <a:off x="3848040" y="29718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3848040" y="305640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3848040" y="312408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 flipH="1" flipV="1">
                <a:off x="3847320" y="31914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6" name=""/>
            <p:cNvSpPr/>
            <p:nvPr/>
          </p:nvSpPr>
          <p:spPr>
            <a:xfrm>
              <a:off x="3809880" y="2971800"/>
              <a:ext cx="1526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7" name=""/>
          <p:cNvGrpSpPr/>
          <p:nvPr/>
        </p:nvGrpSpPr>
        <p:grpSpPr>
          <a:xfrm>
            <a:off x="3962520" y="2971800"/>
            <a:ext cx="152280" cy="304920"/>
            <a:chOff x="3962520" y="2971800"/>
            <a:chExt cx="152280" cy="304920"/>
          </a:xfrm>
        </p:grpSpPr>
        <p:grpSp>
          <p:nvGrpSpPr>
            <p:cNvPr id="5258" name=""/>
            <p:cNvGrpSpPr/>
            <p:nvPr/>
          </p:nvGrpSpPr>
          <p:grpSpPr>
            <a:xfrm>
              <a:off x="4000320" y="2971800"/>
              <a:ext cx="76320" cy="304560"/>
              <a:chOff x="4000320" y="2971800"/>
              <a:chExt cx="76320" cy="304560"/>
            </a:xfrm>
          </p:grpSpPr>
          <p:sp>
            <p:nvSpPr>
              <p:cNvPr id="5259" name=""/>
              <p:cNvSpPr/>
              <p:nvPr/>
            </p:nvSpPr>
            <p:spPr>
              <a:xfrm>
                <a:off x="4000680" y="29718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4000680" y="305640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4000680" y="312408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 flipH="1" flipV="1">
                <a:off x="3999960" y="31914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3" name=""/>
            <p:cNvSpPr/>
            <p:nvPr/>
          </p:nvSpPr>
          <p:spPr>
            <a:xfrm>
              <a:off x="3962520" y="2971800"/>
              <a:ext cx="152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4" name="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403848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6" name=""/>
          <p:cNvGrpSpPr/>
          <p:nvPr/>
        </p:nvGrpSpPr>
        <p:grpSpPr>
          <a:xfrm>
            <a:off x="3581280" y="3048120"/>
            <a:ext cx="152640" cy="75960"/>
            <a:chOff x="3581280" y="3048120"/>
            <a:chExt cx="152640" cy="75960"/>
          </a:xfrm>
        </p:grpSpPr>
        <p:sp>
          <p:nvSpPr>
            <p:cNvPr id="5267" name=""/>
            <p:cNvSpPr/>
            <p:nvPr/>
          </p:nvSpPr>
          <p:spPr>
            <a:xfrm>
              <a:off x="3606480" y="30859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3632040" y="312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3581280" y="30481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0" name=""/>
          <p:cNvGrpSpPr/>
          <p:nvPr/>
        </p:nvGrpSpPr>
        <p:grpSpPr>
          <a:xfrm>
            <a:off x="3962520" y="5486400"/>
            <a:ext cx="152280" cy="152280"/>
            <a:chOff x="3962520" y="5486400"/>
            <a:chExt cx="152280" cy="152280"/>
          </a:xfrm>
        </p:grpSpPr>
        <p:sp>
          <p:nvSpPr>
            <p:cNvPr id="5271" name=""/>
            <p:cNvSpPr/>
            <p:nvPr/>
          </p:nvSpPr>
          <p:spPr>
            <a:xfrm>
              <a:off x="4025880" y="55497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3962520" y="54864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3" name=""/>
          <p:cNvGrpSpPr/>
          <p:nvPr/>
        </p:nvGrpSpPr>
        <p:grpSpPr>
          <a:xfrm>
            <a:off x="3809880" y="5638680"/>
            <a:ext cx="152640" cy="152640"/>
            <a:chOff x="3809880" y="5638680"/>
            <a:chExt cx="152640" cy="152640"/>
          </a:xfrm>
        </p:grpSpPr>
        <p:sp>
          <p:nvSpPr>
            <p:cNvPr id="5274" name=""/>
            <p:cNvSpPr/>
            <p:nvPr/>
          </p:nvSpPr>
          <p:spPr>
            <a:xfrm>
              <a:off x="3873240" y="57020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3809880" y="5638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6" name=""/>
          <p:cNvSpPr/>
          <p:nvPr/>
        </p:nvSpPr>
        <p:spPr>
          <a:xfrm>
            <a:off x="3702600" y="2971800"/>
            <a:ext cx="105336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p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1104480" y="3095640"/>
            <a:ext cx="21553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alid. Driver Full/Low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1028520" y="3324240"/>
            <a:ext cx="2240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ull/Low Speed Transmi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1257120" y="3705120"/>
            <a:ext cx="19846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alid. Driver High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1181160" y="3933720"/>
            <a:ext cx="20700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 Speed Transmi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1105920" y="4772160"/>
            <a:ext cx="20746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 Speed Receiver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952920" y="4390920"/>
            <a:ext cx="22453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ull/Low Speed Receiver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1943280" y="5153040"/>
            <a:ext cx="12362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el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1257840" y="5533920"/>
            <a:ext cx="1934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 Speed Dis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1562400" y="3552840"/>
            <a:ext cx="17028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dge Mode Sel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 flipH="1">
            <a:off x="2361600" y="2819520"/>
            <a:ext cx="1981080" cy="3504960"/>
          </a:xfrm>
          <a:custGeom>
            <a:avLst/>
            <a:gdLst/>
            <a:ahLst/>
            <a:rect l="l" t="t" r="r" b="b"/>
            <a:pathLst>
              <a:path w="1200" h="1968">
                <a:moveTo>
                  <a:pt x="1152" y="0"/>
                </a:moveTo>
                <a:lnTo>
                  <a:pt x="0" y="0"/>
                </a:lnTo>
                <a:lnTo>
                  <a:pt x="0" y="1968"/>
                </a:lnTo>
                <a:lnTo>
                  <a:pt x="1200" y="19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5523840" y="6324480"/>
            <a:ext cx="2568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def3f8"/>
                </a:solidFill>
                <a:latin typeface="Arial"/>
              </a:rPr>
              <a:t>High Speed Device 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2171880" y="6324480"/>
            <a:ext cx="21538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def3f8"/>
                </a:solidFill>
                <a:latin typeface="Arial"/>
              </a:rPr>
              <a:t>USB2.0 Hub 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4009320" y="3790800"/>
            <a:ext cx="10000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4009680" y="4095720"/>
            <a:ext cx="9741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3657600" y="29718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48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 flipV="1">
            <a:off x="388620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 flipV="1">
            <a:off x="4038480" y="3276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4" name=""/>
          <p:cNvGrpSpPr/>
          <p:nvPr/>
        </p:nvGrpSpPr>
        <p:grpSpPr>
          <a:xfrm>
            <a:off x="3962520" y="3276720"/>
            <a:ext cx="152280" cy="152280"/>
            <a:chOff x="3962520" y="3276720"/>
            <a:chExt cx="152280" cy="152280"/>
          </a:xfrm>
        </p:grpSpPr>
        <p:sp>
          <p:nvSpPr>
            <p:cNvPr id="5295" name=""/>
            <p:cNvSpPr/>
            <p:nvPr/>
          </p:nvSpPr>
          <p:spPr>
            <a:xfrm>
              <a:off x="4025880" y="33400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962520" y="3276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7" name=""/>
          <p:cNvGrpSpPr/>
          <p:nvPr/>
        </p:nvGrpSpPr>
        <p:grpSpPr>
          <a:xfrm>
            <a:off x="3809880" y="3429000"/>
            <a:ext cx="152640" cy="152280"/>
            <a:chOff x="3809880" y="3429000"/>
            <a:chExt cx="152640" cy="152280"/>
          </a:xfrm>
        </p:grpSpPr>
        <p:sp>
          <p:nvSpPr>
            <p:cNvPr id="5298" name=""/>
            <p:cNvSpPr/>
            <p:nvPr/>
          </p:nvSpPr>
          <p:spPr>
            <a:xfrm>
              <a:off x="3873240" y="34923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809880" y="342900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0" name=""/>
          <p:cNvSpPr/>
          <p:nvPr/>
        </p:nvSpPr>
        <p:spPr>
          <a:xfrm>
            <a:off x="3200400" y="5867280"/>
            <a:ext cx="15228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96" y="96"/>
                </a:lnTo>
                <a:lnTo>
                  <a:pt x="0" y="48"/>
                </a:lnTo>
                <a:lnTo>
                  <a:pt x="9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3200400" y="6095880"/>
            <a:ext cx="15228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96" y="96"/>
                </a:lnTo>
                <a:lnTo>
                  <a:pt x="0" y="48"/>
                </a:lnTo>
                <a:lnTo>
                  <a:pt x="9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3352680" y="5943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3352680" y="6172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 flipV="1">
            <a:off x="3886200" y="5791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 flipV="1">
            <a:off x="403848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 flipH="1">
            <a:off x="2895120" y="5943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 flipH="1">
            <a:off x="2895120" y="6172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1865880" y="5838840"/>
            <a:ext cx="13248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ect 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1865880" y="6067440"/>
            <a:ext cx="12988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ect D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 flipH="1">
            <a:off x="7162200" y="5867280"/>
            <a:ext cx="15228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96" y="96"/>
                </a:lnTo>
                <a:lnTo>
                  <a:pt x="0" y="48"/>
                </a:lnTo>
                <a:lnTo>
                  <a:pt x="9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 flipH="1">
            <a:off x="7162200" y="6095880"/>
            <a:ext cx="15228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96" y="96"/>
                </a:lnTo>
                <a:lnTo>
                  <a:pt x="0" y="48"/>
                </a:lnTo>
                <a:lnTo>
                  <a:pt x="9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6477120" y="5943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6629400" y="6172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>
            <a:off x="7314840" y="6172200"/>
            <a:ext cx="304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 flipH="1">
            <a:off x="7314840" y="5943600"/>
            <a:ext cx="304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7280640" y="5829480"/>
            <a:ext cx="13248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ect 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7281000" y="6058080"/>
            <a:ext cx="12988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ect D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662940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647712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0" name=""/>
          <p:cNvGrpSpPr/>
          <p:nvPr/>
        </p:nvGrpSpPr>
        <p:grpSpPr>
          <a:xfrm>
            <a:off x="6400800" y="5486400"/>
            <a:ext cx="152280" cy="152280"/>
            <a:chOff x="6400800" y="5486400"/>
            <a:chExt cx="152280" cy="152280"/>
          </a:xfrm>
        </p:grpSpPr>
        <p:sp>
          <p:nvSpPr>
            <p:cNvPr id="5321" name=""/>
            <p:cNvSpPr/>
            <p:nvPr/>
          </p:nvSpPr>
          <p:spPr>
            <a:xfrm>
              <a:off x="6464160" y="55497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6400800" y="54864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3" name=""/>
          <p:cNvGrpSpPr/>
          <p:nvPr/>
        </p:nvGrpSpPr>
        <p:grpSpPr>
          <a:xfrm>
            <a:off x="6553080" y="5638680"/>
            <a:ext cx="152640" cy="152640"/>
            <a:chOff x="6553080" y="5638680"/>
            <a:chExt cx="152640" cy="152640"/>
          </a:xfrm>
        </p:grpSpPr>
        <p:sp>
          <p:nvSpPr>
            <p:cNvPr id="5324" name=""/>
            <p:cNvSpPr/>
            <p:nvPr/>
          </p:nvSpPr>
          <p:spPr>
            <a:xfrm>
              <a:off x="6616440" y="57020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553080" y="5638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Connexion d'un Devic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3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tion d'un 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ph High-Speed s'effectue via un protocole particulier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 p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ph/hub se connecte initialement comme un Device Full Speed (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tance de tirage Rpu connec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'il 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te une signalisation SEO (Reset) sur D+/D- il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t vers le hub une modulation High-Speed particuli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 ('Chirp K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 le hub est vali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n mode High-Speed, il 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nd au Device par une 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ence High-Speed sp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fique (alternance 'Chirp J' et 'Chirp K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 le Device r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it cette 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ence il commute en mode High Speed (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tance Rpu 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"/>
          <p:cNvSpPr/>
          <p:nvPr/>
        </p:nvSpPr>
        <p:spPr>
          <a:xfrm>
            <a:off x="609480" y="4419720"/>
            <a:ext cx="777240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 passage en mode Suspend 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ssit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lement une reconnexion temporaire en mode Full Speed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 de distinction possible en mode High Speed ent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t 'Idle' et 'SEO' (Res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rsqu'un Device High Speed constate l'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t Idle pendant 3ms, il commute en mode Full Speed (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stance Rpu connec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) pour confirmation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t Idle : passage en mode Susp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t SEO : passage en mode connexion (cf ci-dess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xion d'un Device High Speed n'est pas visible du Hub de man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 automatique (pas de 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stance de tir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ion d'un postambule particulier ap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chaque transaction SOF High Sp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 l'absence de Device High Speed connec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 niveau dif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tiel D+/D- double de valeur pendant le postamb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 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pteur dif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tiel s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fique dans le Hub 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cte ce niveau et signale la 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D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  <a:ea typeface="Arial"/>
              </a:rPr>
              <a:t>é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connexion d'un Devic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3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mode High Speed le temps est 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micro-t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 d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25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Micro-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r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marquées p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ken SO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ul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5335" name=""/>
          <p:cNvGrpSpPr/>
          <p:nvPr/>
        </p:nvGrpSpPr>
        <p:grpSpPr>
          <a:xfrm>
            <a:off x="1219320" y="4724280"/>
            <a:ext cx="228600" cy="609840"/>
            <a:chOff x="1219320" y="4724280"/>
            <a:chExt cx="228600" cy="609840"/>
          </a:xfrm>
        </p:grpSpPr>
        <p:sp>
          <p:nvSpPr>
            <p:cNvPr id="5336" name=""/>
            <p:cNvSpPr/>
            <p:nvPr/>
          </p:nvSpPr>
          <p:spPr>
            <a:xfrm>
              <a:off x="12193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14479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8" name=""/>
          <p:cNvGrpSpPr/>
          <p:nvPr/>
        </p:nvGrpSpPr>
        <p:grpSpPr>
          <a:xfrm>
            <a:off x="1523880" y="4724280"/>
            <a:ext cx="228600" cy="609840"/>
            <a:chOff x="1523880" y="4724280"/>
            <a:chExt cx="228600" cy="609840"/>
          </a:xfrm>
        </p:grpSpPr>
        <p:sp>
          <p:nvSpPr>
            <p:cNvPr id="5339" name=""/>
            <p:cNvSpPr/>
            <p:nvPr/>
          </p:nvSpPr>
          <p:spPr>
            <a:xfrm>
              <a:off x="15238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17524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2133720" y="4724280"/>
            <a:ext cx="228600" cy="609840"/>
            <a:chOff x="2133720" y="4724280"/>
            <a:chExt cx="228600" cy="609840"/>
          </a:xfrm>
        </p:grpSpPr>
        <p:sp>
          <p:nvSpPr>
            <p:cNvPr id="5342" name=""/>
            <p:cNvSpPr/>
            <p:nvPr/>
          </p:nvSpPr>
          <p:spPr>
            <a:xfrm>
              <a:off x="21337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3623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4" name=""/>
          <p:cNvGrpSpPr/>
          <p:nvPr/>
        </p:nvGrpSpPr>
        <p:grpSpPr>
          <a:xfrm>
            <a:off x="1828800" y="4724280"/>
            <a:ext cx="228600" cy="609840"/>
            <a:chOff x="1828800" y="4724280"/>
            <a:chExt cx="228600" cy="609840"/>
          </a:xfrm>
        </p:grpSpPr>
        <p:sp>
          <p:nvSpPr>
            <p:cNvPr id="5345" name=""/>
            <p:cNvSpPr/>
            <p:nvPr/>
          </p:nvSpPr>
          <p:spPr>
            <a:xfrm>
              <a:off x="18288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0574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7" name=""/>
          <p:cNvGrpSpPr/>
          <p:nvPr/>
        </p:nvGrpSpPr>
        <p:grpSpPr>
          <a:xfrm>
            <a:off x="2438280" y="4724280"/>
            <a:ext cx="228600" cy="609840"/>
            <a:chOff x="2438280" y="4724280"/>
            <a:chExt cx="228600" cy="609840"/>
          </a:xfrm>
        </p:grpSpPr>
        <p:sp>
          <p:nvSpPr>
            <p:cNvPr id="5348" name=""/>
            <p:cNvSpPr/>
            <p:nvPr/>
          </p:nvSpPr>
          <p:spPr>
            <a:xfrm>
              <a:off x="24382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6668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2743200" y="4724280"/>
            <a:ext cx="228600" cy="609840"/>
            <a:chOff x="2743200" y="4724280"/>
            <a:chExt cx="228600" cy="609840"/>
          </a:xfrm>
        </p:grpSpPr>
        <p:sp>
          <p:nvSpPr>
            <p:cNvPr id="5351" name=""/>
            <p:cNvSpPr/>
            <p:nvPr/>
          </p:nvSpPr>
          <p:spPr>
            <a:xfrm>
              <a:off x="27432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9718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3048120" y="4724280"/>
            <a:ext cx="228600" cy="609840"/>
            <a:chOff x="3048120" y="4724280"/>
            <a:chExt cx="228600" cy="609840"/>
          </a:xfrm>
        </p:grpSpPr>
        <p:sp>
          <p:nvSpPr>
            <p:cNvPr id="5354" name=""/>
            <p:cNvSpPr/>
            <p:nvPr/>
          </p:nvSpPr>
          <p:spPr>
            <a:xfrm>
              <a:off x="30481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32767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3352680" y="4724280"/>
            <a:ext cx="228600" cy="609840"/>
            <a:chOff x="3352680" y="4724280"/>
            <a:chExt cx="228600" cy="609840"/>
          </a:xfrm>
        </p:grpSpPr>
        <p:sp>
          <p:nvSpPr>
            <p:cNvPr id="5357" name=""/>
            <p:cNvSpPr/>
            <p:nvPr/>
          </p:nvSpPr>
          <p:spPr>
            <a:xfrm>
              <a:off x="33526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35812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9" name=""/>
          <p:cNvSpPr/>
          <p:nvPr/>
        </p:nvSpPr>
        <p:spPr>
          <a:xfrm>
            <a:off x="358128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3657600" y="4724280"/>
            <a:ext cx="228600" cy="609840"/>
            <a:chOff x="3657600" y="4724280"/>
            <a:chExt cx="228600" cy="609840"/>
          </a:xfrm>
        </p:grpSpPr>
        <p:sp>
          <p:nvSpPr>
            <p:cNvPr id="5361" name=""/>
            <p:cNvSpPr/>
            <p:nvPr/>
          </p:nvSpPr>
          <p:spPr>
            <a:xfrm>
              <a:off x="36576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38862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3" name=""/>
          <p:cNvGrpSpPr/>
          <p:nvPr/>
        </p:nvGrpSpPr>
        <p:grpSpPr>
          <a:xfrm>
            <a:off x="3962520" y="4724280"/>
            <a:ext cx="228600" cy="609840"/>
            <a:chOff x="3962520" y="4724280"/>
            <a:chExt cx="228600" cy="609840"/>
          </a:xfrm>
        </p:grpSpPr>
        <p:sp>
          <p:nvSpPr>
            <p:cNvPr id="5364" name=""/>
            <p:cNvSpPr/>
            <p:nvPr/>
          </p:nvSpPr>
          <p:spPr>
            <a:xfrm>
              <a:off x="39625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1911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4572000" y="4724280"/>
            <a:ext cx="228600" cy="609840"/>
            <a:chOff x="4572000" y="4724280"/>
            <a:chExt cx="228600" cy="609840"/>
          </a:xfrm>
        </p:grpSpPr>
        <p:sp>
          <p:nvSpPr>
            <p:cNvPr id="5367" name=""/>
            <p:cNvSpPr/>
            <p:nvPr/>
          </p:nvSpPr>
          <p:spPr>
            <a:xfrm>
              <a:off x="45720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48006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9" name=""/>
          <p:cNvGrpSpPr/>
          <p:nvPr/>
        </p:nvGrpSpPr>
        <p:grpSpPr>
          <a:xfrm>
            <a:off x="4267080" y="4724280"/>
            <a:ext cx="228600" cy="609840"/>
            <a:chOff x="4267080" y="4724280"/>
            <a:chExt cx="228600" cy="609840"/>
          </a:xfrm>
        </p:grpSpPr>
        <p:sp>
          <p:nvSpPr>
            <p:cNvPr id="5370" name=""/>
            <p:cNvSpPr/>
            <p:nvPr/>
          </p:nvSpPr>
          <p:spPr>
            <a:xfrm>
              <a:off x="42670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44956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2" name=""/>
          <p:cNvGrpSpPr/>
          <p:nvPr/>
        </p:nvGrpSpPr>
        <p:grpSpPr>
          <a:xfrm>
            <a:off x="4876920" y="4724280"/>
            <a:ext cx="228600" cy="609840"/>
            <a:chOff x="4876920" y="4724280"/>
            <a:chExt cx="228600" cy="609840"/>
          </a:xfrm>
        </p:grpSpPr>
        <p:sp>
          <p:nvSpPr>
            <p:cNvPr id="5373" name=""/>
            <p:cNvSpPr/>
            <p:nvPr/>
          </p:nvSpPr>
          <p:spPr>
            <a:xfrm>
              <a:off x="48769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1055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5" name=""/>
          <p:cNvGrpSpPr/>
          <p:nvPr/>
        </p:nvGrpSpPr>
        <p:grpSpPr>
          <a:xfrm>
            <a:off x="5181480" y="4724280"/>
            <a:ext cx="228600" cy="609840"/>
            <a:chOff x="5181480" y="4724280"/>
            <a:chExt cx="228600" cy="609840"/>
          </a:xfrm>
        </p:grpSpPr>
        <p:sp>
          <p:nvSpPr>
            <p:cNvPr id="5376" name=""/>
            <p:cNvSpPr/>
            <p:nvPr/>
          </p:nvSpPr>
          <p:spPr>
            <a:xfrm>
              <a:off x="51814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4100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8" name=""/>
          <p:cNvGrpSpPr/>
          <p:nvPr/>
        </p:nvGrpSpPr>
        <p:grpSpPr>
          <a:xfrm>
            <a:off x="5486400" y="4724280"/>
            <a:ext cx="228600" cy="609840"/>
            <a:chOff x="5486400" y="4724280"/>
            <a:chExt cx="228600" cy="609840"/>
          </a:xfrm>
        </p:grpSpPr>
        <p:sp>
          <p:nvSpPr>
            <p:cNvPr id="5379" name=""/>
            <p:cNvSpPr/>
            <p:nvPr/>
          </p:nvSpPr>
          <p:spPr>
            <a:xfrm>
              <a:off x="54864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7150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1" name=""/>
          <p:cNvGrpSpPr/>
          <p:nvPr/>
        </p:nvGrpSpPr>
        <p:grpSpPr>
          <a:xfrm>
            <a:off x="5791320" y="4724280"/>
            <a:ext cx="228600" cy="609840"/>
            <a:chOff x="5791320" y="4724280"/>
            <a:chExt cx="228600" cy="609840"/>
          </a:xfrm>
        </p:grpSpPr>
        <p:sp>
          <p:nvSpPr>
            <p:cNvPr id="5382" name=""/>
            <p:cNvSpPr/>
            <p:nvPr/>
          </p:nvSpPr>
          <p:spPr>
            <a:xfrm>
              <a:off x="57913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0199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4" name=""/>
          <p:cNvSpPr/>
          <p:nvPr/>
        </p:nvSpPr>
        <p:spPr>
          <a:xfrm>
            <a:off x="601992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5" name=""/>
          <p:cNvGrpSpPr/>
          <p:nvPr/>
        </p:nvGrpSpPr>
        <p:grpSpPr>
          <a:xfrm>
            <a:off x="6095880" y="4724280"/>
            <a:ext cx="228600" cy="609840"/>
            <a:chOff x="6095880" y="4724280"/>
            <a:chExt cx="228600" cy="609840"/>
          </a:xfrm>
        </p:grpSpPr>
        <p:sp>
          <p:nvSpPr>
            <p:cNvPr id="5386" name=""/>
            <p:cNvSpPr/>
            <p:nvPr/>
          </p:nvSpPr>
          <p:spPr>
            <a:xfrm>
              <a:off x="60958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3244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8" name=""/>
          <p:cNvGrpSpPr/>
          <p:nvPr/>
        </p:nvGrpSpPr>
        <p:grpSpPr>
          <a:xfrm>
            <a:off x="6400800" y="4724280"/>
            <a:ext cx="228600" cy="609840"/>
            <a:chOff x="6400800" y="4724280"/>
            <a:chExt cx="228600" cy="609840"/>
          </a:xfrm>
        </p:grpSpPr>
        <p:sp>
          <p:nvSpPr>
            <p:cNvPr id="5389" name=""/>
            <p:cNvSpPr/>
            <p:nvPr/>
          </p:nvSpPr>
          <p:spPr>
            <a:xfrm>
              <a:off x="64008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66294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1" name=""/>
          <p:cNvGrpSpPr/>
          <p:nvPr/>
        </p:nvGrpSpPr>
        <p:grpSpPr>
          <a:xfrm>
            <a:off x="6705720" y="4724280"/>
            <a:ext cx="228600" cy="609840"/>
            <a:chOff x="6705720" y="4724280"/>
            <a:chExt cx="228600" cy="609840"/>
          </a:xfrm>
        </p:grpSpPr>
        <p:sp>
          <p:nvSpPr>
            <p:cNvPr id="5392" name=""/>
            <p:cNvSpPr/>
            <p:nvPr/>
          </p:nvSpPr>
          <p:spPr>
            <a:xfrm>
              <a:off x="67057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9343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4" name=""/>
          <p:cNvGrpSpPr/>
          <p:nvPr/>
        </p:nvGrpSpPr>
        <p:grpSpPr>
          <a:xfrm>
            <a:off x="1143000" y="3809880"/>
            <a:ext cx="380880" cy="381240"/>
            <a:chOff x="1143000" y="3809880"/>
            <a:chExt cx="380880" cy="381240"/>
          </a:xfrm>
        </p:grpSpPr>
        <p:sp>
          <p:nvSpPr>
            <p:cNvPr id="5395" name=""/>
            <p:cNvSpPr/>
            <p:nvPr/>
          </p:nvSpPr>
          <p:spPr>
            <a:xfrm>
              <a:off x="1143000" y="3809880"/>
              <a:ext cx="38088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1523880" y="3962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7" name=""/>
          <p:cNvGrpSpPr/>
          <p:nvPr/>
        </p:nvGrpSpPr>
        <p:grpSpPr>
          <a:xfrm>
            <a:off x="1447920" y="5257800"/>
            <a:ext cx="380880" cy="380520"/>
            <a:chOff x="1447920" y="5257800"/>
            <a:chExt cx="380880" cy="380520"/>
          </a:xfrm>
        </p:grpSpPr>
        <p:sp>
          <p:nvSpPr>
            <p:cNvPr id="5398" name=""/>
            <p:cNvSpPr/>
            <p:nvPr/>
          </p:nvSpPr>
          <p:spPr>
            <a:xfrm>
              <a:off x="1447920" y="5257800"/>
              <a:ext cx="380880" cy="22824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1828800" y="54100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0" name=""/>
          <p:cNvGrpSpPr/>
          <p:nvPr/>
        </p:nvGrpSpPr>
        <p:grpSpPr>
          <a:xfrm>
            <a:off x="4038480" y="5181480"/>
            <a:ext cx="381240" cy="381240"/>
            <a:chOff x="4038480" y="5181480"/>
            <a:chExt cx="381240" cy="381240"/>
          </a:xfrm>
        </p:grpSpPr>
        <p:sp>
          <p:nvSpPr>
            <p:cNvPr id="5401" name=""/>
            <p:cNvSpPr/>
            <p:nvPr/>
          </p:nvSpPr>
          <p:spPr>
            <a:xfrm>
              <a:off x="4038480" y="5181480"/>
              <a:ext cx="38124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4419720" y="53341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3" name=""/>
          <p:cNvSpPr/>
          <p:nvPr/>
        </p:nvSpPr>
        <p:spPr>
          <a:xfrm>
            <a:off x="2057400" y="3581280"/>
            <a:ext cx="121932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4267080" y="3581280"/>
            <a:ext cx="121932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1143000" y="335268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3581280" y="33526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1523880" y="3962520"/>
            <a:ext cx="1521000" cy="23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Full Speed USB Frame Ti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1835640" y="5334120"/>
            <a:ext cx="1428840" cy="39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USB2.0 Micro-Frame Ti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(1/8th Full Speed Fra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5181480" y="3962520"/>
            <a:ext cx="2210040" cy="23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Narrow"/>
              </a:rPr>
              <a:t>Full Speed Data Payload (Isochrono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1148040" y="3124080"/>
            <a:ext cx="52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3586320" y="3124080"/>
            <a:ext cx="52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146240" y="4419720"/>
            <a:ext cx="2658600" cy="269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igh Speed Micro-Frames (125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 flipH="1">
            <a:off x="6019560" y="335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6934320" y="3352680"/>
            <a:ext cx="7596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7010280" y="5029200"/>
            <a:ext cx="7632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7162920" y="5029200"/>
            <a:ext cx="7596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7315200" y="5029200"/>
            <a:ext cx="7632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4419720" y="5334120"/>
            <a:ext cx="1430280" cy="23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High Speed Data Pay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1" name=""/>
          <p:cNvGrpSpPr/>
          <p:nvPr/>
        </p:nvGrpSpPr>
        <p:grpSpPr>
          <a:xfrm>
            <a:off x="4800600" y="3886200"/>
            <a:ext cx="380880" cy="380520"/>
            <a:chOff x="4800600" y="3886200"/>
            <a:chExt cx="380880" cy="380520"/>
          </a:xfrm>
        </p:grpSpPr>
        <p:sp>
          <p:nvSpPr>
            <p:cNvPr id="5422" name=""/>
            <p:cNvSpPr/>
            <p:nvPr/>
          </p:nvSpPr>
          <p:spPr>
            <a:xfrm>
              <a:off x="4800600" y="3886200"/>
              <a:ext cx="380880" cy="22824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5181480" y="40384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4" name=""/>
          <p:cNvSpPr/>
          <p:nvPr/>
        </p:nvSpPr>
        <p:spPr>
          <a:xfrm>
            <a:off x="114300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ur ne pas encombrer la bande passante les transactions USB1.1 sont compri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dans les micro-trames (fonction 'Transaction Translator' des Hubs 2.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5427" name=""/>
          <p:cNvGrpSpPr/>
          <p:nvPr/>
        </p:nvGrpSpPr>
        <p:grpSpPr>
          <a:xfrm>
            <a:off x="152280" y="2819520"/>
            <a:ext cx="8229600" cy="3035520"/>
            <a:chOff x="152280" y="2819520"/>
            <a:chExt cx="8229600" cy="3035520"/>
          </a:xfrm>
        </p:grpSpPr>
        <p:sp>
          <p:nvSpPr>
            <p:cNvPr id="5428" name=""/>
            <p:cNvSpPr/>
            <p:nvPr/>
          </p:nvSpPr>
          <p:spPr>
            <a:xfrm>
              <a:off x="5029200" y="441972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7467480" y="44197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590920" y="44197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1" name=""/>
            <p:cNvGrpSpPr/>
            <p:nvPr/>
          </p:nvGrpSpPr>
          <p:grpSpPr>
            <a:xfrm>
              <a:off x="2666880" y="3429000"/>
              <a:ext cx="228600" cy="609480"/>
              <a:chOff x="2666880" y="3429000"/>
              <a:chExt cx="228600" cy="609480"/>
            </a:xfrm>
          </p:grpSpPr>
          <p:sp>
            <p:nvSpPr>
              <p:cNvPr id="5432" name=""/>
              <p:cNvSpPr/>
              <p:nvPr/>
            </p:nvSpPr>
            <p:spPr>
              <a:xfrm>
                <a:off x="26668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8954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4" name=""/>
            <p:cNvGrpSpPr/>
            <p:nvPr/>
          </p:nvGrpSpPr>
          <p:grpSpPr>
            <a:xfrm>
              <a:off x="2971800" y="3429000"/>
              <a:ext cx="228600" cy="609480"/>
              <a:chOff x="2971800" y="3429000"/>
              <a:chExt cx="228600" cy="609480"/>
            </a:xfrm>
          </p:grpSpPr>
          <p:sp>
            <p:nvSpPr>
              <p:cNvPr id="5435" name=""/>
              <p:cNvSpPr/>
              <p:nvPr/>
            </p:nvSpPr>
            <p:spPr>
              <a:xfrm>
                <a:off x="29718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32004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7" name=""/>
            <p:cNvGrpSpPr/>
            <p:nvPr/>
          </p:nvGrpSpPr>
          <p:grpSpPr>
            <a:xfrm>
              <a:off x="3581280" y="3429000"/>
              <a:ext cx="228600" cy="609480"/>
              <a:chOff x="3581280" y="3429000"/>
              <a:chExt cx="228600" cy="609480"/>
            </a:xfrm>
          </p:grpSpPr>
          <p:sp>
            <p:nvSpPr>
              <p:cNvPr id="5438" name=""/>
              <p:cNvSpPr/>
              <p:nvPr/>
            </p:nvSpPr>
            <p:spPr>
              <a:xfrm>
                <a:off x="35812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38098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0" name=""/>
            <p:cNvGrpSpPr/>
            <p:nvPr/>
          </p:nvGrpSpPr>
          <p:grpSpPr>
            <a:xfrm>
              <a:off x="3276720" y="3429000"/>
              <a:ext cx="228600" cy="609480"/>
              <a:chOff x="3276720" y="3429000"/>
              <a:chExt cx="228600" cy="609480"/>
            </a:xfrm>
          </p:grpSpPr>
          <p:sp>
            <p:nvSpPr>
              <p:cNvPr id="5441" name=""/>
              <p:cNvSpPr/>
              <p:nvPr/>
            </p:nvSpPr>
            <p:spPr>
              <a:xfrm>
                <a:off x="32767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35053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3" name=""/>
            <p:cNvGrpSpPr/>
            <p:nvPr/>
          </p:nvGrpSpPr>
          <p:grpSpPr>
            <a:xfrm>
              <a:off x="3886200" y="3429000"/>
              <a:ext cx="228600" cy="609480"/>
              <a:chOff x="3886200" y="3429000"/>
              <a:chExt cx="228600" cy="609480"/>
            </a:xfrm>
          </p:grpSpPr>
          <p:sp>
            <p:nvSpPr>
              <p:cNvPr id="5444" name=""/>
              <p:cNvSpPr/>
              <p:nvPr/>
            </p:nvSpPr>
            <p:spPr>
              <a:xfrm>
                <a:off x="38862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1148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6" name=""/>
            <p:cNvGrpSpPr/>
            <p:nvPr/>
          </p:nvGrpSpPr>
          <p:grpSpPr>
            <a:xfrm>
              <a:off x="4191120" y="3429000"/>
              <a:ext cx="228600" cy="609480"/>
              <a:chOff x="4191120" y="3429000"/>
              <a:chExt cx="228600" cy="609480"/>
            </a:xfrm>
          </p:grpSpPr>
          <p:sp>
            <p:nvSpPr>
              <p:cNvPr id="5447" name=""/>
              <p:cNvSpPr/>
              <p:nvPr/>
            </p:nvSpPr>
            <p:spPr>
              <a:xfrm>
                <a:off x="41911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4197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9" name=""/>
            <p:cNvGrpSpPr/>
            <p:nvPr/>
          </p:nvGrpSpPr>
          <p:grpSpPr>
            <a:xfrm>
              <a:off x="4495680" y="3429000"/>
              <a:ext cx="228600" cy="609480"/>
              <a:chOff x="4495680" y="3429000"/>
              <a:chExt cx="228600" cy="609480"/>
            </a:xfrm>
          </p:grpSpPr>
          <p:sp>
            <p:nvSpPr>
              <p:cNvPr id="5450" name=""/>
              <p:cNvSpPr/>
              <p:nvPr/>
            </p:nvSpPr>
            <p:spPr>
              <a:xfrm>
                <a:off x="44956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7242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2" name=""/>
            <p:cNvGrpSpPr/>
            <p:nvPr/>
          </p:nvGrpSpPr>
          <p:grpSpPr>
            <a:xfrm>
              <a:off x="4800600" y="3429000"/>
              <a:ext cx="228600" cy="609480"/>
              <a:chOff x="4800600" y="3429000"/>
              <a:chExt cx="228600" cy="609480"/>
            </a:xfrm>
          </p:grpSpPr>
          <p:sp>
            <p:nvSpPr>
              <p:cNvPr id="5453" name=""/>
              <p:cNvSpPr/>
              <p:nvPr/>
            </p:nvSpPr>
            <p:spPr>
              <a:xfrm>
                <a:off x="48006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50292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5" name=""/>
            <p:cNvSpPr/>
            <p:nvPr/>
          </p:nvSpPr>
          <p:spPr>
            <a:xfrm>
              <a:off x="5029200" y="31240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6" name=""/>
            <p:cNvGrpSpPr/>
            <p:nvPr/>
          </p:nvGrpSpPr>
          <p:grpSpPr>
            <a:xfrm>
              <a:off x="5105520" y="3429000"/>
              <a:ext cx="228600" cy="609480"/>
              <a:chOff x="5105520" y="3429000"/>
              <a:chExt cx="228600" cy="609480"/>
            </a:xfrm>
          </p:grpSpPr>
          <p:sp>
            <p:nvSpPr>
              <p:cNvPr id="5457" name=""/>
              <p:cNvSpPr/>
              <p:nvPr/>
            </p:nvSpPr>
            <p:spPr>
              <a:xfrm>
                <a:off x="51055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53341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9" name=""/>
            <p:cNvGrpSpPr/>
            <p:nvPr/>
          </p:nvGrpSpPr>
          <p:grpSpPr>
            <a:xfrm>
              <a:off x="5410080" y="3429000"/>
              <a:ext cx="228600" cy="609480"/>
              <a:chOff x="5410080" y="3429000"/>
              <a:chExt cx="228600" cy="609480"/>
            </a:xfrm>
          </p:grpSpPr>
          <p:sp>
            <p:nvSpPr>
              <p:cNvPr id="5460" name=""/>
              <p:cNvSpPr/>
              <p:nvPr/>
            </p:nvSpPr>
            <p:spPr>
              <a:xfrm>
                <a:off x="54100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56386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2" name=""/>
            <p:cNvGrpSpPr/>
            <p:nvPr/>
          </p:nvGrpSpPr>
          <p:grpSpPr>
            <a:xfrm>
              <a:off x="6019920" y="3429000"/>
              <a:ext cx="228600" cy="609480"/>
              <a:chOff x="6019920" y="3429000"/>
              <a:chExt cx="228600" cy="609480"/>
            </a:xfrm>
          </p:grpSpPr>
          <p:sp>
            <p:nvSpPr>
              <p:cNvPr id="5463" name=""/>
              <p:cNvSpPr/>
              <p:nvPr/>
            </p:nvSpPr>
            <p:spPr>
              <a:xfrm>
                <a:off x="60199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62485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5" name=""/>
            <p:cNvGrpSpPr/>
            <p:nvPr/>
          </p:nvGrpSpPr>
          <p:grpSpPr>
            <a:xfrm>
              <a:off x="5715000" y="3429000"/>
              <a:ext cx="228600" cy="609480"/>
              <a:chOff x="5715000" y="3429000"/>
              <a:chExt cx="228600" cy="609480"/>
            </a:xfrm>
          </p:grpSpPr>
          <p:sp>
            <p:nvSpPr>
              <p:cNvPr id="5466" name=""/>
              <p:cNvSpPr/>
              <p:nvPr/>
            </p:nvSpPr>
            <p:spPr>
              <a:xfrm>
                <a:off x="57150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9436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8" name=""/>
            <p:cNvGrpSpPr/>
            <p:nvPr/>
          </p:nvGrpSpPr>
          <p:grpSpPr>
            <a:xfrm>
              <a:off x="6324480" y="3429000"/>
              <a:ext cx="228600" cy="609480"/>
              <a:chOff x="6324480" y="3429000"/>
              <a:chExt cx="228600" cy="609480"/>
            </a:xfrm>
          </p:grpSpPr>
          <p:sp>
            <p:nvSpPr>
              <p:cNvPr id="5469" name=""/>
              <p:cNvSpPr/>
              <p:nvPr/>
            </p:nvSpPr>
            <p:spPr>
              <a:xfrm>
                <a:off x="63244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65530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1" name=""/>
            <p:cNvGrpSpPr/>
            <p:nvPr/>
          </p:nvGrpSpPr>
          <p:grpSpPr>
            <a:xfrm>
              <a:off x="6629400" y="3429000"/>
              <a:ext cx="228600" cy="609480"/>
              <a:chOff x="6629400" y="3429000"/>
              <a:chExt cx="228600" cy="609480"/>
            </a:xfrm>
          </p:grpSpPr>
          <p:sp>
            <p:nvSpPr>
              <p:cNvPr id="5472" name=""/>
              <p:cNvSpPr/>
              <p:nvPr/>
            </p:nvSpPr>
            <p:spPr>
              <a:xfrm>
                <a:off x="66294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68580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4" name=""/>
            <p:cNvGrpSpPr/>
            <p:nvPr/>
          </p:nvGrpSpPr>
          <p:grpSpPr>
            <a:xfrm>
              <a:off x="6934320" y="3429000"/>
              <a:ext cx="228600" cy="609480"/>
              <a:chOff x="6934320" y="3429000"/>
              <a:chExt cx="228600" cy="609480"/>
            </a:xfrm>
          </p:grpSpPr>
          <p:sp>
            <p:nvSpPr>
              <p:cNvPr id="5475" name=""/>
              <p:cNvSpPr/>
              <p:nvPr/>
            </p:nvSpPr>
            <p:spPr>
              <a:xfrm>
                <a:off x="69343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71629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7" name=""/>
            <p:cNvGrpSpPr/>
            <p:nvPr/>
          </p:nvGrpSpPr>
          <p:grpSpPr>
            <a:xfrm>
              <a:off x="7238880" y="3429000"/>
              <a:ext cx="228600" cy="609480"/>
              <a:chOff x="7238880" y="3429000"/>
              <a:chExt cx="228600" cy="609480"/>
            </a:xfrm>
          </p:grpSpPr>
          <p:sp>
            <p:nvSpPr>
              <p:cNvPr id="5478" name=""/>
              <p:cNvSpPr/>
              <p:nvPr/>
            </p:nvSpPr>
            <p:spPr>
              <a:xfrm>
                <a:off x="72388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4674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0" name=""/>
            <p:cNvSpPr/>
            <p:nvPr/>
          </p:nvSpPr>
          <p:spPr>
            <a:xfrm>
              <a:off x="7467480" y="3048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1" name=""/>
            <p:cNvGrpSpPr/>
            <p:nvPr/>
          </p:nvGrpSpPr>
          <p:grpSpPr>
            <a:xfrm>
              <a:off x="7543800" y="3429000"/>
              <a:ext cx="228600" cy="609480"/>
              <a:chOff x="7543800" y="3429000"/>
              <a:chExt cx="228600" cy="609480"/>
            </a:xfrm>
          </p:grpSpPr>
          <p:sp>
            <p:nvSpPr>
              <p:cNvPr id="5482" name=""/>
              <p:cNvSpPr/>
              <p:nvPr/>
            </p:nvSpPr>
            <p:spPr>
              <a:xfrm>
                <a:off x="75438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77724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4" name=""/>
            <p:cNvGrpSpPr/>
            <p:nvPr/>
          </p:nvGrpSpPr>
          <p:grpSpPr>
            <a:xfrm>
              <a:off x="7848720" y="3429000"/>
              <a:ext cx="228600" cy="609480"/>
              <a:chOff x="7848720" y="3429000"/>
              <a:chExt cx="228600" cy="609480"/>
            </a:xfrm>
          </p:grpSpPr>
          <p:sp>
            <p:nvSpPr>
              <p:cNvPr id="5485" name=""/>
              <p:cNvSpPr/>
              <p:nvPr/>
            </p:nvSpPr>
            <p:spPr>
              <a:xfrm>
                <a:off x="78487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80773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7" name=""/>
            <p:cNvGrpSpPr/>
            <p:nvPr/>
          </p:nvGrpSpPr>
          <p:grpSpPr>
            <a:xfrm>
              <a:off x="8153280" y="3429000"/>
              <a:ext cx="228600" cy="609480"/>
              <a:chOff x="8153280" y="3429000"/>
              <a:chExt cx="228600" cy="609480"/>
            </a:xfrm>
          </p:grpSpPr>
          <p:sp>
            <p:nvSpPr>
              <p:cNvPr id="5488" name=""/>
              <p:cNvSpPr/>
              <p:nvPr/>
            </p:nvSpPr>
            <p:spPr>
              <a:xfrm>
                <a:off x="81532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83818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0" name=""/>
            <p:cNvSpPr/>
            <p:nvPr/>
          </p:nvSpPr>
          <p:spPr>
            <a:xfrm>
              <a:off x="3429000" y="4952880"/>
              <a:ext cx="1219320" cy="304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5867280" y="4952880"/>
              <a:ext cx="1219320" cy="304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2590920" y="457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5029200" y="457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2595960" y="4343400"/>
              <a:ext cx="529560" cy="26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5034240" y="4343400"/>
              <a:ext cx="529560" cy="26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2590920" y="31240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7" name=""/>
            <p:cNvGrpSpPr/>
            <p:nvPr/>
          </p:nvGrpSpPr>
          <p:grpSpPr>
            <a:xfrm>
              <a:off x="152280" y="2819520"/>
              <a:ext cx="664920" cy="988560"/>
              <a:chOff x="152280" y="2819520"/>
              <a:chExt cx="664920" cy="988560"/>
            </a:xfrm>
          </p:grpSpPr>
          <p:sp>
            <p:nvSpPr>
              <p:cNvPr id="5498" name=""/>
              <p:cNvSpPr/>
              <p:nvPr/>
            </p:nvSpPr>
            <p:spPr>
              <a:xfrm>
                <a:off x="229320" y="2819520"/>
                <a:ext cx="529560" cy="16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USB 2.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12920" y="3003120"/>
                <a:ext cx="194400" cy="16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152280" y="3623760"/>
                <a:ext cx="662760" cy="171720"/>
              </a:xfrm>
              <a:custGeom>
                <a:avLst/>
                <a:gdLst/>
                <a:ahLst/>
                <a:rect l="l" t="t" r="r" b="b"/>
                <a:pathLst>
                  <a:path w="523" h="136">
                    <a:moveTo>
                      <a:pt x="85" y="0"/>
                    </a:moveTo>
                    <a:lnTo>
                      <a:pt x="0" y="30"/>
                    </a:lnTo>
                    <a:lnTo>
                      <a:pt x="4" y="123"/>
                    </a:lnTo>
                    <a:lnTo>
                      <a:pt x="500" y="136"/>
                    </a:lnTo>
                    <a:lnTo>
                      <a:pt x="523" y="98"/>
                    </a:lnTo>
                    <a:lnTo>
                      <a:pt x="519" y="1"/>
                    </a:lnTo>
                    <a:lnTo>
                      <a:pt x="32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34720" y="3157560"/>
                <a:ext cx="525600" cy="403560"/>
              </a:xfrm>
              <a:custGeom>
                <a:avLst/>
                <a:gdLst/>
                <a:ahLst/>
                <a:rect l="l" t="t" r="r" b="b"/>
                <a:pathLst>
                  <a:path w="415" h="319">
                    <a:moveTo>
                      <a:pt x="14" y="0"/>
                    </a:moveTo>
                    <a:lnTo>
                      <a:pt x="408" y="3"/>
                    </a:lnTo>
                    <a:lnTo>
                      <a:pt x="415" y="8"/>
                    </a:lnTo>
                    <a:lnTo>
                      <a:pt x="412" y="290"/>
                    </a:lnTo>
                    <a:lnTo>
                      <a:pt x="388" y="306"/>
                    </a:lnTo>
                    <a:lnTo>
                      <a:pt x="373" y="319"/>
                    </a:lnTo>
                    <a:lnTo>
                      <a:pt x="26" y="305"/>
                    </a:lnTo>
                    <a:lnTo>
                      <a:pt x="0" y="288"/>
                    </a:lnTo>
                    <a:lnTo>
                      <a:pt x="4" y="13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264960" y="3534840"/>
                <a:ext cx="451080" cy="42840"/>
              </a:xfrm>
              <a:custGeom>
                <a:avLst/>
                <a:gdLst/>
                <a:ahLst/>
                <a:rect l="l" t="t" r="r" b="b"/>
                <a:pathLst>
                  <a:path w="356" h="34">
                    <a:moveTo>
                      <a:pt x="0" y="0"/>
                    </a:moveTo>
                    <a:lnTo>
                      <a:pt x="0" y="24"/>
                    </a:lnTo>
                    <a:lnTo>
                      <a:pt x="330" y="34"/>
                    </a:lnTo>
                    <a:lnTo>
                      <a:pt x="356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518400" y="3670560"/>
                <a:ext cx="9720" cy="113760"/>
              </a:xfrm>
              <a:custGeom>
                <a:avLst/>
                <a:gdLst/>
                <a:ahLst/>
                <a:rect l="l" t="t" r="r" b="b"/>
                <a:pathLst>
                  <a:path w="8" h="90">
                    <a:moveTo>
                      <a:pt x="8" y="0"/>
                    </a:moveTo>
                    <a:lnTo>
                      <a:pt x="5" y="88"/>
                    </a:lnTo>
                    <a:lnTo>
                      <a:pt x="0" y="90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163440" y="3656520"/>
                <a:ext cx="621000" cy="145440"/>
              </a:xfrm>
              <a:custGeom>
                <a:avLst/>
                <a:gdLst/>
                <a:ahLst/>
                <a:rect l="l" t="t" r="r" b="b"/>
                <a:pathLst>
                  <a:path w="490" h="115">
                    <a:moveTo>
                      <a:pt x="7" y="0"/>
                    </a:moveTo>
                    <a:lnTo>
                      <a:pt x="11" y="6"/>
                    </a:lnTo>
                    <a:lnTo>
                      <a:pt x="9" y="49"/>
                    </a:lnTo>
                    <a:lnTo>
                      <a:pt x="280" y="54"/>
                    </a:lnTo>
                    <a:lnTo>
                      <a:pt x="479" y="59"/>
                    </a:lnTo>
                    <a:lnTo>
                      <a:pt x="484" y="64"/>
                    </a:lnTo>
                    <a:lnTo>
                      <a:pt x="8" y="55"/>
                    </a:lnTo>
                    <a:lnTo>
                      <a:pt x="7" y="92"/>
                    </a:lnTo>
                    <a:lnTo>
                      <a:pt x="281" y="95"/>
                    </a:lnTo>
                    <a:lnTo>
                      <a:pt x="489" y="98"/>
                    </a:lnTo>
                    <a:lnTo>
                      <a:pt x="490" y="115"/>
                    </a:lnTo>
                    <a:lnTo>
                      <a:pt x="160" y="112"/>
                    </a:lnTo>
                    <a:lnTo>
                      <a:pt x="6" y="108"/>
                    </a:lnTo>
                    <a:lnTo>
                      <a:pt x="0" y="103"/>
                    </a:lnTo>
                    <a:lnTo>
                      <a:pt x="0" y="1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60360" y="3669120"/>
                <a:ext cx="149400" cy="35280"/>
              </a:xfrm>
              <a:custGeom>
                <a:avLst/>
                <a:gdLst/>
                <a:ahLst/>
                <a:rect l="l" t="t" r="r" b="b"/>
                <a:pathLst>
                  <a:path w="118" h="28">
                    <a:moveTo>
                      <a:pt x="0" y="0"/>
                    </a:moveTo>
                    <a:lnTo>
                      <a:pt x="0" y="27"/>
                    </a:lnTo>
                    <a:lnTo>
                      <a:pt x="118" y="28"/>
                    </a:lnTo>
                    <a:lnTo>
                      <a:pt x="117" y="16"/>
                    </a:lnTo>
                    <a:lnTo>
                      <a:pt x="83" y="16"/>
                    </a:lnTo>
                    <a:lnTo>
                      <a:pt x="80" y="19"/>
                    </a:lnTo>
                    <a:lnTo>
                      <a:pt x="39" y="19"/>
                    </a:lnTo>
                    <a:lnTo>
                      <a:pt x="37" y="15"/>
                    </a:lnTo>
                    <a:lnTo>
                      <a:pt x="9" y="1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528480" y="3694320"/>
                <a:ext cx="197640" cy="8640"/>
              </a:xfrm>
              <a:custGeom>
                <a:avLst/>
                <a:gdLst/>
                <a:ahLst/>
                <a:rect l="l" t="t" r="r" b="b"/>
                <a:pathLst>
                  <a:path w="156" h="7">
                    <a:moveTo>
                      <a:pt x="0" y="0"/>
                    </a:moveTo>
                    <a:lnTo>
                      <a:pt x="156" y="2"/>
                    </a:lnTo>
                    <a:lnTo>
                      <a:pt x="156" y="7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169920" y="3619800"/>
                <a:ext cx="636120" cy="49320"/>
              </a:xfrm>
              <a:custGeom>
                <a:avLst/>
                <a:gdLst/>
                <a:ahLst/>
                <a:rect l="l" t="t" r="r" b="b"/>
                <a:pathLst>
                  <a:path w="502" h="39">
                    <a:moveTo>
                      <a:pt x="0" y="28"/>
                    </a:moveTo>
                    <a:lnTo>
                      <a:pt x="120" y="31"/>
                    </a:lnTo>
                    <a:lnTo>
                      <a:pt x="139" y="14"/>
                    </a:lnTo>
                    <a:lnTo>
                      <a:pt x="231" y="12"/>
                    </a:lnTo>
                    <a:lnTo>
                      <a:pt x="371" y="21"/>
                    </a:lnTo>
                    <a:lnTo>
                      <a:pt x="397" y="9"/>
                    </a:lnTo>
                    <a:lnTo>
                      <a:pt x="398" y="16"/>
                    </a:lnTo>
                    <a:lnTo>
                      <a:pt x="380" y="37"/>
                    </a:lnTo>
                    <a:lnTo>
                      <a:pt x="480" y="39"/>
                    </a:lnTo>
                    <a:lnTo>
                      <a:pt x="502" y="5"/>
                    </a:lnTo>
                    <a:lnTo>
                      <a:pt x="346" y="3"/>
                    </a:lnTo>
                    <a:lnTo>
                      <a:pt x="168" y="0"/>
                    </a:lnTo>
                    <a:lnTo>
                      <a:pt x="71" y="1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27320" y="3595680"/>
                <a:ext cx="150840" cy="28800"/>
              </a:xfrm>
              <a:custGeom>
                <a:avLst/>
                <a:gdLst/>
                <a:ahLst/>
                <a:rect l="l" t="t" r="r" b="b"/>
                <a:pathLst>
                  <a:path w="119" h="23">
                    <a:moveTo>
                      <a:pt x="2" y="0"/>
                    </a:moveTo>
                    <a:lnTo>
                      <a:pt x="0" y="23"/>
                    </a:lnTo>
                    <a:lnTo>
                      <a:pt x="118" y="23"/>
                    </a:lnTo>
                    <a:lnTo>
                      <a:pt x="119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27320" y="3600720"/>
                <a:ext cx="18720" cy="2664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1"/>
                    </a:moveTo>
                    <a:lnTo>
                      <a:pt x="10" y="2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523440" y="3598200"/>
                <a:ext cx="42840" cy="291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0"/>
                    </a:moveTo>
                    <a:lnTo>
                      <a:pt x="10" y="23"/>
                    </a:lnTo>
                    <a:lnTo>
                      <a:pt x="31" y="22"/>
                    </a:lnTo>
                    <a:lnTo>
                      <a:pt x="3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01680" y="3650040"/>
                <a:ext cx="378720" cy="18720"/>
              </a:xfrm>
              <a:custGeom>
                <a:avLst/>
                <a:gdLst/>
                <a:ahLst/>
                <a:rect l="l" t="t" r="r" b="b"/>
                <a:pathLst>
                  <a:path w="299" h="15">
                    <a:moveTo>
                      <a:pt x="0" y="7"/>
                    </a:moveTo>
                    <a:lnTo>
                      <a:pt x="299" y="15"/>
                    </a:lnTo>
                    <a:lnTo>
                      <a:pt x="287" y="7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780840" y="3631320"/>
                <a:ext cx="31320" cy="172080"/>
              </a:xfrm>
              <a:custGeom>
                <a:avLst/>
                <a:gdLst/>
                <a:ahLst/>
                <a:rect l="l" t="t" r="r" b="b"/>
                <a:pathLst>
                  <a:path w="25" h="136">
                    <a:moveTo>
                      <a:pt x="25" y="0"/>
                    </a:moveTo>
                    <a:lnTo>
                      <a:pt x="0" y="39"/>
                    </a:lnTo>
                    <a:lnTo>
                      <a:pt x="2" y="136"/>
                    </a:lnTo>
                    <a:lnTo>
                      <a:pt x="25" y="94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40160" y="3167640"/>
                <a:ext cx="17640" cy="371880"/>
              </a:xfrm>
              <a:custGeom>
                <a:avLst/>
                <a:gdLst/>
                <a:ahLst/>
                <a:rect l="l" t="t" r="r" b="b"/>
                <a:pathLst>
                  <a:path w="14" h="294">
                    <a:moveTo>
                      <a:pt x="14" y="0"/>
                    </a:moveTo>
                    <a:lnTo>
                      <a:pt x="1" y="8"/>
                    </a:lnTo>
                    <a:lnTo>
                      <a:pt x="0" y="294"/>
                    </a:lnTo>
                    <a:lnTo>
                      <a:pt x="14" y="276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234720" y="3167640"/>
                <a:ext cx="447480" cy="361800"/>
              </a:xfrm>
              <a:custGeom>
                <a:avLst/>
                <a:gdLst/>
                <a:ahLst/>
                <a:rect l="l" t="t" r="r" b="b"/>
                <a:pathLst>
                  <a:path w="353" h="286">
                    <a:moveTo>
                      <a:pt x="4" y="8"/>
                    </a:moveTo>
                    <a:lnTo>
                      <a:pt x="17" y="0"/>
                    </a:lnTo>
                    <a:lnTo>
                      <a:pt x="346" y="5"/>
                    </a:lnTo>
                    <a:lnTo>
                      <a:pt x="228" y="11"/>
                    </a:lnTo>
                    <a:lnTo>
                      <a:pt x="346" y="17"/>
                    </a:lnTo>
                    <a:lnTo>
                      <a:pt x="227" y="19"/>
                    </a:lnTo>
                    <a:lnTo>
                      <a:pt x="347" y="28"/>
                    </a:lnTo>
                    <a:lnTo>
                      <a:pt x="228" y="28"/>
                    </a:lnTo>
                    <a:lnTo>
                      <a:pt x="346" y="37"/>
                    </a:lnTo>
                    <a:lnTo>
                      <a:pt x="40" y="35"/>
                    </a:lnTo>
                    <a:lnTo>
                      <a:pt x="39" y="251"/>
                    </a:lnTo>
                    <a:lnTo>
                      <a:pt x="224" y="257"/>
                    </a:lnTo>
                    <a:lnTo>
                      <a:pt x="353" y="259"/>
                    </a:lnTo>
                    <a:lnTo>
                      <a:pt x="238" y="267"/>
                    </a:lnTo>
                    <a:lnTo>
                      <a:pt x="353" y="270"/>
                    </a:lnTo>
                    <a:lnTo>
                      <a:pt x="252" y="275"/>
                    </a:lnTo>
                    <a:lnTo>
                      <a:pt x="353" y="282"/>
                    </a:lnTo>
                    <a:lnTo>
                      <a:pt x="282" y="286"/>
                    </a:lnTo>
                    <a:lnTo>
                      <a:pt x="0" y="281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03120" y="3225960"/>
                <a:ext cx="372600" cy="258120"/>
              </a:xfrm>
              <a:custGeom>
                <a:avLst/>
                <a:gdLst/>
                <a:ahLst/>
                <a:rect l="l" t="t" r="r" b="b"/>
                <a:pathLst>
                  <a:path w="294" h="204">
                    <a:moveTo>
                      <a:pt x="2" y="0"/>
                    </a:moveTo>
                    <a:lnTo>
                      <a:pt x="294" y="1"/>
                    </a:lnTo>
                    <a:lnTo>
                      <a:pt x="291" y="204"/>
                    </a:lnTo>
                    <a:lnTo>
                      <a:pt x="0" y="19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73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48400" y="3157560"/>
                <a:ext cx="513000" cy="394920"/>
              </a:xfrm>
              <a:custGeom>
                <a:avLst/>
                <a:gdLst/>
                <a:ahLst/>
                <a:rect l="l" t="t" r="r" b="b"/>
                <a:pathLst>
                  <a:path w="405" h="312">
                    <a:moveTo>
                      <a:pt x="3" y="2"/>
                    </a:moveTo>
                    <a:lnTo>
                      <a:pt x="393" y="7"/>
                    </a:lnTo>
                    <a:lnTo>
                      <a:pt x="400" y="12"/>
                    </a:lnTo>
                    <a:lnTo>
                      <a:pt x="399" y="287"/>
                    </a:lnTo>
                    <a:lnTo>
                      <a:pt x="391" y="297"/>
                    </a:lnTo>
                    <a:lnTo>
                      <a:pt x="373" y="304"/>
                    </a:lnTo>
                    <a:lnTo>
                      <a:pt x="0" y="296"/>
                    </a:lnTo>
                    <a:lnTo>
                      <a:pt x="15" y="304"/>
                    </a:lnTo>
                    <a:lnTo>
                      <a:pt x="368" y="312"/>
                    </a:lnTo>
                    <a:lnTo>
                      <a:pt x="389" y="306"/>
                    </a:lnTo>
                    <a:lnTo>
                      <a:pt x="401" y="290"/>
                    </a:lnTo>
                    <a:lnTo>
                      <a:pt x="405" y="278"/>
                    </a:lnTo>
                    <a:lnTo>
                      <a:pt x="405" y="10"/>
                    </a:lnTo>
                    <a:lnTo>
                      <a:pt x="39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31840" y="3156120"/>
                <a:ext cx="491400" cy="379800"/>
              </a:xfrm>
              <a:custGeom>
                <a:avLst/>
                <a:gdLst/>
                <a:ahLst/>
                <a:rect l="l" t="t" r="r" b="b"/>
                <a:pathLst>
                  <a:path w="388" h="300">
                    <a:moveTo>
                      <a:pt x="20" y="1"/>
                    </a:moveTo>
                    <a:lnTo>
                      <a:pt x="9" y="14"/>
                    </a:lnTo>
                    <a:lnTo>
                      <a:pt x="6" y="287"/>
                    </a:lnTo>
                    <a:lnTo>
                      <a:pt x="13" y="289"/>
                    </a:lnTo>
                    <a:lnTo>
                      <a:pt x="388" y="297"/>
                    </a:lnTo>
                    <a:lnTo>
                      <a:pt x="371" y="300"/>
                    </a:lnTo>
                    <a:lnTo>
                      <a:pt x="6" y="293"/>
                    </a:lnTo>
                    <a:lnTo>
                      <a:pt x="0" y="289"/>
                    </a:lnTo>
                    <a:lnTo>
                      <a:pt x="4" y="13"/>
                    </a:lnTo>
                    <a:lnTo>
                      <a:pt x="17" y="0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03040" y="3538800"/>
                <a:ext cx="505440" cy="107640"/>
              </a:xfrm>
              <a:custGeom>
                <a:avLst/>
                <a:gdLst/>
                <a:ahLst/>
                <a:rect l="l" t="t" r="r" b="b"/>
                <a:pathLst>
                  <a:path w="399" h="85">
                    <a:moveTo>
                      <a:pt x="49" y="0"/>
                    </a:moveTo>
                    <a:lnTo>
                      <a:pt x="49" y="26"/>
                    </a:lnTo>
                    <a:lnTo>
                      <a:pt x="101" y="29"/>
                    </a:lnTo>
                    <a:lnTo>
                      <a:pt x="102" y="47"/>
                    </a:lnTo>
                    <a:lnTo>
                      <a:pt x="173" y="48"/>
                    </a:lnTo>
                    <a:lnTo>
                      <a:pt x="174" y="63"/>
                    </a:lnTo>
                    <a:lnTo>
                      <a:pt x="45" y="61"/>
                    </a:lnTo>
                    <a:lnTo>
                      <a:pt x="0" y="82"/>
                    </a:lnTo>
                    <a:lnTo>
                      <a:pt x="86" y="83"/>
                    </a:lnTo>
                    <a:lnTo>
                      <a:pt x="100" y="85"/>
                    </a:lnTo>
                    <a:lnTo>
                      <a:pt x="107" y="72"/>
                    </a:lnTo>
                    <a:lnTo>
                      <a:pt x="207" y="73"/>
                    </a:lnTo>
                    <a:lnTo>
                      <a:pt x="232" y="68"/>
                    </a:lnTo>
                    <a:lnTo>
                      <a:pt x="182" y="65"/>
                    </a:lnTo>
                    <a:lnTo>
                      <a:pt x="183" y="55"/>
                    </a:lnTo>
                    <a:lnTo>
                      <a:pt x="218" y="52"/>
                    </a:lnTo>
                    <a:lnTo>
                      <a:pt x="270" y="54"/>
                    </a:lnTo>
                    <a:lnTo>
                      <a:pt x="278" y="59"/>
                    </a:lnTo>
                    <a:lnTo>
                      <a:pt x="271" y="65"/>
                    </a:lnTo>
                    <a:lnTo>
                      <a:pt x="247" y="71"/>
                    </a:lnTo>
                    <a:lnTo>
                      <a:pt x="273" y="75"/>
                    </a:lnTo>
                    <a:lnTo>
                      <a:pt x="347" y="78"/>
                    </a:lnTo>
                    <a:lnTo>
                      <a:pt x="365" y="70"/>
                    </a:lnTo>
                    <a:lnTo>
                      <a:pt x="304" y="65"/>
                    </a:lnTo>
                    <a:lnTo>
                      <a:pt x="304" y="55"/>
                    </a:lnTo>
                    <a:lnTo>
                      <a:pt x="356" y="55"/>
                    </a:lnTo>
                    <a:lnTo>
                      <a:pt x="362" y="39"/>
                    </a:lnTo>
                    <a:lnTo>
                      <a:pt x="399" y="26"/>
                    </a:lnTo>
                    <a:lnTo>
                      <a:pt x="56" y="17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24720" y="3636360"/>
                <a:ext cx="353160" cy="25200"/>
              </a:xfrm>
              <a:custGeom>
                <a:avLst/>
                <a:gdLst/>
                <a:ahLst/>
                <a:rect l="l" t="t" r="r" b="b"/>
                <a:pathLst>
                  <a:path w="279" h="20">
                    <a:moveTo>
                      <a:pt x="6" y="9"/>
                    </a:moveTo>
                    <a:lnTo>
                      <a:pt x="259" y="16"/>
                    </a:lnTo>
                    <a:lnTo>
                      <a:pt x="278" y="0"/>
                    </a:lnTo>
                    <a:lnTo>
                      <a:pt x="279" y="4"/>
                    </a:lnTo>
                    <a:lnTo>
                      <a:pt x="262" y="20"/>
                    </a:lnTo>
                    <a:lnTo>
                      <a:pt x="0" y="13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167400" y="3615840"/>
                <a:ext cx="649800" cy="192240"/>
              </a:xfrm>
              <a:custGeom>
                <a:avLst/>
                <a:gdLst/>
                <a:ahLst/>
                <a:rect l="l" t="t" r="r" b="b"/>
                <a:pathLst>
                  <a:path w="513" h="152">
                    <a:moveTo>
                      <a:pt x="0" y="138"/>
                    </a:moveTo>
                    <a:lnTo>
                      <a:pt x="485" y="146"/>
                    </a:lnTo>
                    <a:lnTo>
                      <a:pt x="506" y="104"/>
                    </a:lnTo>
                    <a:lnTo>
                      <a:pt x="506" y="11"/>
                    </a:lnTo>
                    <a:lnTo>
                      <a:pt x="398" y="9"/>
                    </a:lnTo>
                    <a:lnTo>
                      <a:pt x="340" y="0"/>
                    </a:lnTo>
                    <a:lnTo>
                      <a:pt x="511" y="5"/>
                    </a:lnTo>
                    <a:lnTo>
                      <a:pt x="513" y="108"/>
                    </a:lnTo>
                    <a:lnTo>
                      <a:pt x="488" y="152"/>
                    </a:lnTo>
                    <a:lnTo>
                      <a:pt x="2" y="142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176400" y="3662640"/>
                <a:ext cx="599400" cy="17640"/>
              </a:xfrm>
              <a:custGeom>
                <a:avLst/>
                <a:gdLst/>
                <a:ahLst/>
                <a:rect l="l" t="t" r="r" b="b"/>
                <a:pathLst>
                  <a:path w="473" h="14">
                    <a:moveTo>
                      <a:pt x="0" y="0"/>
                    </a:moveTo>
                    <a:lnTo>
                      <a:pt x="469" y="10"/>
                    </a:lnTo>
                    <a:lnTo>
                      <a:pt x="473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58920" y="3668040"/>
                <a:ext cx="153360" cy="37800"/>
              </a:xfrm>
              <a:custGeom>
                <a:avLst/>
                <a:gdLst/>
                <a:ahLst/>
                <a:rect l="l" t="t" r="r" b="b"/>
                <a:pathLst>
                  <a:path w="121" h="30">
                    <a:moveTo>
                      <a:pt x="0" y="1"/>
                    </a:moveTo>
                    <a:lnTo>
                      <a:pt x="0" y="29"/>
                    </a:lnTo>
                    <a:lnTo>
                      <a:pt x="121" y="30"/>
                    </a:lnTo>
                    <a:lnTo>
                      <a:pt x="121" y="3"/>
                    </a:lnTo>
                    <a:lnTo>
                      <a:pt x="117" y="3"/>
                    </a:lnTo>
                    <a:lnTo>
                      <a:pt x="117" y="28"/>
                    </a:lnTo>
                    <a:lnTo>
                      <a:pt x="4" y="26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172440" y="3723480"/>
                <a:ext cx="609480" cy="15120"/>
              </a:xfrm>
              <a:custGeom>
                <a:avLst/>
                <a:gdLst/>
                <a:ahLst/>
                <a:rect l="l" t="t" r="r" b="b"/>
                <a:pathLst>
                  <a:path w="481" h="12">
                    <a:moveTo>
                      <a:pt x="0" y="0"/>
                    </a:moveTo>
                    <a:lnTo>
                      <a:pt x="481" y="9"/>
                    </a:lnTo>
                    <a:lnTo>
                      <a:pt x="480" y="12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196560" y="3683160"/>
                <a:ext cx="22680" cy="21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6"/>
                    </a:move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18" y="6"/>
                    </a:lnTo>
                    <a:lnTo>
                      <a:pt x="18" y="11"/>
                    </a:lnTo>
                    <a:lnTo>
                      <a:pt x="14" y="15"/>
                    </a:lnTo>
                    <a:lnTo>
                      <a:pt x="8" y="17"/>
                    </a:lnTo>
                    <a:lnTo>
                      <a:pt x="3" y="16"/>
                    </a:lnTo>
                    <a:lnTo>
                      <a:pt x="8" y="15"/>
                    </a:lnTo>
                    <a:lnTo>
                      <a:pt x="13" y="13"/>
                    </a:lnTo>
                    <a:lnTo>
                      <a:pt x="14" y="8"/>
                    </a:lnTo>
                    <a:lnTo>
                      <a:pt x="11" y="4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37240" y="3684240"/>
                <a:ext cx="24120" cy="212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6"/>
                    </a:moveTo>
                    <a:lnTo>
                      <a:pt x="2" y="2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7" y="3"/>
                    </a:lnTo>
                    <a:lnTo>
                      <a:pt x="19" y="7"/>
                    </a:lnTo>
                    <a:lnTo>
                      <a:pt x="19" y="11"/>
                    </a:lnTo>
                    <a:lnTo>
                      <a:pt x="15" y="15"/>
                    </a:lnTo>
                    <a:lnTo>
                      <a:pt x="9" y="17"/>
                    </a:lnTo>
                    <a:lnTo>
                      <a:pt x="4" y="16"/>
                    </a:lnTo>
                    <a:lnTo>
                      <a:pt x="9" y="15"/>
                    </a:lnTo>
                    <a:lnTo>
                      <a:pt x="14" y="13"/>
                    </a:lnTo>
                    <a:lnTo>
                      <a:pt x="15" y="8"/>
                    </a:lnTo>
                    <a:lnTo>
                      <a:pt x="12" y="4"/>
                    </a:lnTo>
                    <a:lnTo>
                      <a:pt x="8" y="3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74040" y="3675240"/>
                <a:ext cx="127800" cy="14040"/>
              </a:xfrm>
              <a:custGeom>
                <a:avLst/>
                <a:gdLst/>
                <a:ahLst/>
                <a:rect l="l" t="t" r="r" b="b"/>
                <a:pathLst>
                  <a:path w="101" h="11">
                    <a:moveTo>
                      <a:pt x="0" y="3"/>
                    </a:moveTo>
                    <a:lnTo>
                      <a:pt x="30" y="3"/>
                    </a:lnTo>
                    <a:lnTo>
                      <a:pt x="31" y="0"/>
                    </a:lnTo>
                    <a:lnTo>
                      <a:pt x="69" y="0"/>
                    </a:lnTo>
                    <a:lnTo>
                      <a:pt x="70" y="4"/>
                    </a:lnTo>
                    <a:lnTo>
                      <a:pt x="101" y="4"/>
                    </a:lnTo>
                    <a:lnTo>
                      <a:pt x="101" y="9"/>
                    </a:lnTo>
                    <a:lnTo>
                      <a:pt x="70" y="8"/>
                    </a:lnTo>
                    <a:lnTo>
                      <a:pt x="69" y="11"/>
                    </a:lnTo>
                    <a:lnTo>
                      <a:pt x="31" y="11"/>
                    </a:lnTo>
                    <a:lnTo>
                      <a:pt x="29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52360" y="3166560"/>
                <a:ext cx="483840" cy="365760"/>
              </a:xfrm>
              <a:custGeom>
                <a:avLst/>
                <a:gdLst/>
                <a:ahLst/>
                <a:rect l="l" t="t" r="r" b="b"/>
                <a:pathLst>
                  <a:path w="382" h="289">
                    <a:moveTo>
                      <a:pt x="3" y="0"/>
                    </a:moveTo>
                    <a:lnTo>
                      <a:pt x="376" y="4"/>
                    </a:lnTo>
                    <a:lnTo>
                      <a:pt x="382" y="10"/>
                    </a:lnTo>
                    <a:lnTo>
                      <a:pt x="380" y="286"/>
                    </a:lnTo>
                    <a:lnTo>
                      <a:pt x="375" y="289"/>
                    </a:lnTo>
                    <a:lnTo>
                      <a:pt x="377" y="13"/>
                    </a:lnTo>
                    <a:lnTo>
                      <a:pt x="372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528480" y="3683160"/>
                <a:ext cx="201240" cy="24120"/>
              </a:xfrm>
              <a:custGeom>
                <a:avLst/>
                <a:gdLst/>
                <a:ahLst/>
                <a:rect l="l" t="t" r="r" b="b"/>
                <a:pathLst>
                  <a:path w="159" h="19">
                    <a:moveTo>
                      <a:pt x="0" y="0"/>
                    </a:moveTo>
                    <a:lnTo>
                      <a:pt x="0" y="16"/>
                    </a:lnTo>
                    <a:lnTo>
                      <a:pt x="159" y="19"/>
                    </a:lnTo>
                    <a:lnTo>
                      <a:pt x="159" y="3"/>
                    </a:lnTo>
                    <a:lnTo>
                      <a:pt x="155" y="2"/>
                    </a:lnTo>
                    <a:lnTo>
                      <a:pt x="154" y="15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516960" y="3670560"/>
                <a:ext cx="6120" cy="112320"/>
              </a:xfrm>
              <a:custGeom>
                <a:avLst/>
                <a:gdLst/>
                <a:ahLst/>
                <a:rect l="l" t="t" r="r" b="b"/>
                <a:pathLst>
                  <a:path w="5" h="89">
                    <a:moveTo>
                      <a:pt x="1" y="0"/>
                    </a:moveTo>
                    <a:lnTo>
                      <a:pt x="0" y="89"/>
                    </a:lnTo>
                    <a:lnTo>
                      <a:pt x="3" y="88"/>
                    </a:lnTo>
                    <a:lnTo>
                      <a:pt x="5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735120" y="3676680"/>
                <a:ext cx="4680" cy="109800"/>
              </a:xfrm>
              <a:custGeom>
                <a:avLst/>
                <a:gdLst/>
                <a:ahLst/>
                <a:rect l="l" t="t" r="r" b="b"/>
                <a:pathLst>
                  <a:path w="4" h="87">
                    <a:moveTo>
                      <a:pt x="0" y="0"/>
                    </a:moveTo>
                    <a:lnTo>
                      <a:pt x="1" y="87"/>
                    </a:lnTo>
                    <a:lnTo>
                      <a:pt x="4" y="8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745200" y="3695760"/>
                <a:ext cx="22680" cy="21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6"/>
                    </a:move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18" y="6"/>
                    </a:lnTo>
                    <a:lnTo>
                      <a:pt x="18" y="11"/>
                    </a:lnTo>
                    <a:lnTo>
                      <a:pt x="14" y="15"/>
                    </a:lnTo>
                    <a:lnTo>
                      <a:pt x="8" y="17"/>
                    </a:lnTo>
                    <a:lnTo>
                      <a:pt x="3" y="16"/>
                    </a:lnTo>
                    <a:lnTo>
                      <a:pt x="8" y="15"/>
                    </a:lnTo>
                    <a:lnTo>
                      <a:pt x="13" y="13"/>
                    </a:lnTo>
                    <a:lnTo>
                      <a:pt x="14" y="8"/>
                    </a:lnTo>
                    <a:lnTo>
                      <a:pt x="11" y="4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56720" y="379080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289080" y="3209760"/>
                <a:ext cx="394920" cy="264240"/>
              </a:xfrm>
              <a:custGeom>
                <a:avLst/>
                <a:gdLst/>
                <a:ahLst/>
                <a:rect l="l" t="t" r="r" b="b"/>
                <a:pathLst>
                  <a:path w="312" h="209">
                    <a:moveTo>
                      <a:pt x="0" y="0"/>
                    </a:moveTo>
                    <a:lnTo>
                      <a:pt x="6" y="13"/>
                    </a:lnTo>
                    <a:lnTo>
                      <a:pt x="5" y="138"/>
                    </a:lnTo>
                    <a:lnTo>
                      <a:pt x="5" y="209"/>
                    </a:lnTo>
                    <a:lnTo>
                      <a:pt x="21" y="205"/>
                    </a:lnTo>
                    <a:lnTo>
                      <a:pt x="23" y="17"/>
                    </a:lnTo>
                    <a:lnTo>
                      <a:pt x="122" y="15"/>
                    </a:lnTo>
                    <a:lnTo>
                      <a:pt x="303" y="19"/>
                    </a:lnTo>
                    <a:lnTo>
                      <a:pt x="312" y="13"/>
                    </a:lnTo>
                    <a:lnTo>
                      <a:pt x="234" y="11"/>
                    </a:lnTo>
                    <a:lnTo>
                      <a:pt x="100" y="8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296640" y="3224520"/>
                <a:ext cx="386280" cy="267120"/>
              </a:xfrm>
              <a:custGeom>
                <a:avLst/>
                <a:gdLst/>
                <a:ahLst/>
                <a:rect l="l" t="t" r="r" b="b"/>
                <a:pathLst>
                  <a:path w="305" h="211">
                    <a:moveTo>
                      <a:pt x="0" y="198"/>
                    </a:moveTo>
                    <a:lnTo>
                      <a:pt x="115" y="203"/>
                    </a:lnTo>
                    <a:lnTo>
                      <a:pt x="289" y="205"/>
                    </a:lnTo>
                    <a:lnTo>
                      <a:pt x="305" y="211"/>
                    </a:lnTo>
                    <a:lnTo>
                      <a:pt x="303" y="203"/>
                    </a:lnTo>
                    <a:lnTo>
                      <a:pt x="305" y="0"/>
                    </a:lnTo>
                    <a:lnTo>
                      <a:pt x="293" y="5"/>
                    </a:lnTo>
                    <a:lnTo>
                      <a:pt x="292" y="194"/>
                    </a:lnTo>
                    <a:lnTo>
                      <a:pt x="188" y="197"/>
                    </a:lnTo>
                    <a:lnTo>
                      <a:pt x="60" y="193"/>
                    </a:lnTo>
                    <a:lnTo>
                      <a:pt x="10" y="191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44120" y="37908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1" y="9"/>
                    </a:lnTo>
                    <a:lnTo>
                      <a:pt x="4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32600" y="379080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20000" y="379080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08480" y="379080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695880" y="378936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684360" y="37893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671760" y="37893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659160" y="378936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1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648000" y="378936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635040" y="378936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623880" y="378936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610920" y="378828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598320" y="37882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1" y="9"/>
                    </a:lnTo>
                    <a:lnTo>
                      <a:pt x="4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586800" y="378828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574200" y="378828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1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562680" y="378828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550080" y="378684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538560" y="378684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525960" y="378684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513360" y="378684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501840" y="3786840"/>
                <a:ext cx="3960" cy="100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489240" y="3786840"/>
                <a:ext cx="3960" cy="100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478080" y="3786840"/>
                <a:ext cx="3600" cy="100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465480" y="378576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453960" y="378576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441360" y="378576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428760" y="378576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417240" y="378576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404280" y="378432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93120" y="378432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80160" y="378432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8640" y="378432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56040" y="378432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43440" y="378324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1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332280" y="378324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319320" y="378324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308160" y="378324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95560" y="378324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82960" y="3783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71440" y="378324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58840" y="378180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1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47320" y="378180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34720" y="378180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23200" y="378180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10600" y="378180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197640" y="378036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1" y="9"/>
                    </a:lnTo>
                    <a:lnTo>
                      <a:pt x="4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186480" y="37803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167400" y="3681720"/>
                <a:ext cx="617040" cy="121680"/>
              </a:xfrm>
              <a:custGeom>
                <a:avLst/>
                <a:gdLst/>
                <a:ahLst/>
                <a:rect l="l" t="t" r="r" b="b"/>
                <a:pathLst>
                  <a:path w="487" h="96">
                    <a:moveTo>
                      <a:pt x="0" y="73"/>
                    </a:moveTo>
                    <a:lnTo>
                      <a:pt x="483" y="80"/>
                    </a:lnTo>
                    <a:lnTo>
                      <a:pt x="481" y="0"/>
                    </a:lnTo>
                    <a:lnTo>
                      <a:pt x="484" y="2"/>
                    </a:lnTo>
                    <a:lnTo>
                      <a:pt x="487" y="96"/>
                    </a:lnTo>
                    <a:lnTo>
                      <a:pt x="482" y="84"/>
                    </a:lnTo>
                    <a:lnTo>
                      <a:pt x="10" y="77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23280" y="3234960"/>
                <a:ext cx="334440" cy="227880"/>
              </a:xfrm>
              <a:custGeom>
                <a:avLst/>
                <a:gdLst/>
                <a:ahLst/>
                <a:rect l="l" t="t" r="r" b="b"/>
                <a:pathLst>
                  <a:path w="264" h="180">
                    <a:moveTo>
                      <a:pt x="0" y="0"/>
                    </a:moveTo>
                    <a:lnTo>
                      <a:pt x="264" y="3"/>
                    </a:lnTo>
                    <a:lnTo>
                      <a:pt x="264" y="180"/>
                    </a:lnTo>
                    <a:lnTo>
                      <a:pt x="3" y="17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528480" y="3678120"/>
                <a:ext cx="200160" cy="9720"/>
              </a:xfrm>
              <a:custGeom>
                <a:avLst/>
                <a:gdLst/>
                <a:ahLst/>
                <a:rect l="l" t="t" r="r" b="b"/>
                <a:pathLst>
                  <a:path w="158" h="8">
                    <a:moveTo>
                      <a:pt x="0" y="4"/>
                    </a:moveTo>
                    <a:lnTo>
                      <a:pt x="158" y="8"/>
                    </a:lnTo>
                    <a:lnTo>
                      <a:pt x="158" y="5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690840" y="3546360"/>
                <a:ext cx="31680" cy="262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5" y="5"/>
                    </a:moveTo>
                    <a:lnTo>
                      <a:pt x="0" y="21"/>
                    </a:lnTo>
                    <a:lnTo>
                      <a:pt x="15" y="21"/>
                    </a:lnTo>
                    <a:lnTo>
                      <a:pt x="25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6" name=""/>
            <p:cNvGrpSpPr/>
            <p:nvPr/>
          </p:nvGrpSpPr>
          <p:grpSpPr>
            <a:xfrm>
              <a:off x="229320" y="5049720"/>
              <a:ext cx="964440" cy="805320"/>
              <a:chOff x="229320" y="5049720"/>
              <a:chExt cx="964440" cy="805320"/>
            </a:xfrm>
          </p:grpSpPr>
          <p:sp>
            <p:nvSpPr>
              <p:cNvPr id="5587" name=""/>
              <p:cNvSpPr/>
              <p:nvPr/>
            </p:nvSpPr>
            <p:spPr>
              <a:xfrm>
                <a:off x="576000" y="5055840"/>
                <a:ext cx="610920" cy="37584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945360" y="5124240"/>
                <a:ext cx="244080" cy="44136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1173240" y="516204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655560" y="5063400"/>
                <a:ext cx="462960" cy="3254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736560" y="5247000"/>
                <a:ext cx="4680" cy="10224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752040" y="5229360"/>
                <a:ext cx="12600" cy="1126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866880" y="5127840"/>
                <a:ext cx="13680" cy="20880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972000" y="5070960"/>
                <a:ext cx="12600" cy="15804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997200" y="5072040"/>
                <a:ext cx="3600" cy="10224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558000" y="5320440"/>
                <a:ext cx="371880" cy="26316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793440" y="5394960"/>
                <a:ext cx="135360" cy="11484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558000" y="5380920"/>
                <a:ext cx="35280" cy="8748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927720" y="54201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929160" y="5426640"/>
                <a:ext cx="16200" cy="1555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584640" y="5344200"/>
                <a:ext cx="317520" cy="20988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594720" y="539748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594720" y="5372280"/>
                <a:ext cx="46440" cy="770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628920" y="5372280"/>
                <a:ext cx="36720" cy="442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593280" y="5362200"/>
                <a:ext cx="72000" cy="9468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558000" y="5305320"/>
                <a:ext cx="388440" cy="27936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558000" y="5320440"/>
                <a:ext cx="370800" cy="26424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579600" y="5342040"/>
                <a:ext cx="322560" cy="21744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579600" y="5342040"/>
                <a:ext cx="322560" cy="21744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567000" y="5336640"/>
                <a:ext cx="6120" cy="11016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911160" y="5449320"/>
                <a:ext cx="7560" cy="11628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675720" y="5393520"/>
                <a:ext cx="226440" cy="1202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594720" y="5360760"/>
                <a:ext cx="72000" cy="9612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945360" y="5159880"/>
                <a:ext cx="237600" cy="37296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882360" y="5049720"/>
                <a:ext cx="311400" cy="19080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945360" y="5238000"/>
                <a:ext cx="239040" cy="32868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945360" y="5129280"/>
                <a:ext cx="240480" cy="30096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655560" y="5099040"/>
                <a:ext cx="462960" cy="2959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930240" y="5117760"/>
                <a:ext cx="245520" cy="30132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913680" y="5116680"/>
                <a:ext cx="249120" cy="2955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892440" y="5116680"/>
                <a:ext cx="252000" cy="29448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875880" y="5111640"/>
                <a:ext cx="255240" cy="2898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655560" y="5064840"/>
                <a:ext cx="297360" cy="25920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631800" y="5070960"/>
                <a:ext cx="298440" cy="2541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616320" y="5067360"/>
                <a:ext cx="303480" cy="25164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601200" y="5062320"/>
                <a:ext cx="309960" cy="2541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588600" y="5062320"/>
                <a:ext cx="307080" cy="24912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573480" y="5053320"/>
                <a:ext cx="321480" cy="25560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594720" y="5431680"/>
                <a:ext cx="68040" cy="277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691200" y="5410440"/>
                <a:ext cx="1620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717480" y="5419080"/>
                <a:ext cx="17640" cy="277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745200" y="5427720"/>
                <a:ext cx="16560" cy="26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771840" y="5435640"/>
                <a:ext cx="1620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798840" y="5444280"/>
                <a:ext cx="1620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826560" y="5453280"/>
                <a:ext cx="1620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852840" y="5461920"/>
                <a:ext cx="1656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879480" y="5469840"/>
                <a:ext cx="1620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694800" y="54165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721440" y="54241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747720" y="54331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774720" y="5441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802440" y="5449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829080" y="545832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855360" y="54669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882360" y="5474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229320" y="5505120"/>
                <a:ext cx="529560" cy="16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420480" y="5687280"/>
                <a:ext cx="178920" cy="16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8" name=""/>
            <p:cNvSpPr/>
            <p:nvPr/>
          </p:nvSpPr>
          <p:spPr>
            <a:xfrm flipV="1">
              <a:off x="1090440" y="4695840"/>
              <a:ext cx="463680" cy="231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1014480" y="4878360"/>
              <a:ext cx="108000" cy="8748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 rot="19980000">
              <a:off x="987840" y="4677120"/>
              <a:ext cx="5630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1.1 Traf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1958400" y="3971880"/>
              <a:ext cx="52956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2100600" y="4152960"/>
              <a:ext cx="27216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1322280" y="4197240"/>
              <a:ext cx="1076400" cy="46224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1336680" y="4192560"/>
              <a:ext cx="536400" cy="7308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1865160" y="4192560"/>
              <a:ext cx="520920" cy="24300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374920" y="4425840"/>
              <a:ext cx="11160" cy="9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374920" y="4429080"/>
              <a:ext cx="30240" cy="4284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2392200" y="4467240"/>
              <a:ext cx="12960" cy="10008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1682640" y="4556160"/>
              <a:ext cx="716040" cy="10800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1684440" y="4651200"/>
              <a:ext cx="9360" cy="11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1316160" y="4371840"/>
              <a:ext cx="376200" cy="28908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1316160" y="4286160"/>
              <a:ext cx="12600" cy="9072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1316160" y="4254480"/>
              <a:ext cx="27000" cy="428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1322280" y="4292640"/>
              <a:ext cx="365400" cy="36684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1316160" y="4371840"/>
              <a:ext cx="376200" cy="29052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1316160" y="4286160"/>
              <a:ext cx="12600" cy="9072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1320840" y="4287960"/>
              <a:ext cx="372960" cy="2602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1681200" y="4543560"/>
              <a:ext cx="12600" cy="12060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1322280" y="4259160"/>
              <a:ext cx="382680" cy="28440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1682640" y="4503600"/>
              <a:ext cx="28800" cy="4284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1332000" y="4254480"/>
              <a:ext cx="376200" cy="2620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1316160" y="4257720"/>
              <a:ext cx="27000" cy="414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1320840" y="4287960"/>
              <a:ext cx="371520" cy="2602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1687680" y="4430880"/>
              <a:ext cx="711000" cy="22860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1681200" y="4537080"/>
              <a:ext cx="12600" cy="12240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1682640" y="4503600"/>
              <a:ext cx="28800" cy="4284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1704960" y="4425840"/>
              <a:ext cx="681120" cy="9072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374920" y="4429080"/>
              <a:ext cx="30240" cy="4284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392200" y="4467240"/>
              <a:ext cx="12960" cy="10008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1681200" y="4556160"/>
              <a:ext cx="717480" cy="10800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1706400" y="4454640"/>
              <a:ext cx="675000" cy="18576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1706400" y="4454640"/>
              <a:ext cx="675000" cy="18576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725480" y="4522680"/>
              <a:ext cx="154080" cy="6372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1719360" y="4541760"/>
              <a:ext cx="12600" cy="493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1725480" y="4560840"/>
              <a:ext cx="162000" cy="3024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1873080" y="4516560"/>
              <a:ext cx="14400" cy="5076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1719360" y="4518000"/>
              <a:ext cx="160200" cy="2844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192400" y="4506840"/>
              <a:ext cx="19080" cy="237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2203560" y="4519440"/>
              <a:ext cx="15840" cy="176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203560" y="4500720"/>
              <a:ext cx="15840" cy="18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185920" y="4500720"/>
              <a:ext cx="17640" cy="18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185920" y="4519440"/>
              <a:ext cx="17640" cy="176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286000" y="4495680"/>
              <a:ext cx="19080" cy="237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295360" y="4506840"/>
              <a:ext cx="16200" cy="190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2295360" y="4489560"/>
              <a:ext cx="16200" cy="172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279520" y="4489560"/>
              <a:ext cx="15840" cy="172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279520" y="4506840"/>
              <a:ext cx="15840" cy="190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1014480" y="3774960"/>
              <a:ext cx="615960" cy="309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1598760" y="4033800"/>
              <a:ext cx="107640" cy="8748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 rot="1560000">
              <a:off x="1063080" y="3778560"/>
              <a:ext cx="5630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2.0 Traf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971800" y="388620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864">
                  <a:moveTo>
                    <a:pt x="1056" y="864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288" y="864"/>
                  </a:lnTo>
                  <a:lnTo>
                    <a:pt x="1056" y="864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971800" y="35812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410080" y="35812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410080" y="388620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864">
                  <a:moveTo>
                    <a:pt x="1056" y="864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288" y="864"/>
                  </a:lnTo>
                  <a:lnTo>
                    <a:pt x="1056" y="864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4114800" y="5334120"/>
              <a:ext cx="2209680" cy="23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Narrow"/>
                </a:rPr>
                <a:t>USB1.1 Trans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6" name=""/>
            <p:cNvGrpSpPr/>
            <p:nvPr/>
          </p:nvGrpSpPr>
          <p:grpSpPr>
            <a:xfrm>
              <a:off x="3733920" y="5257800"/>
              <a:ext cx="380880" cy="380520"/>
              <a:chOff x="3733920" y="5257800"/>
              <a:chExt cx="380880" cy="380520"/>
            </a:xfrm>
          </p:grpSpPr>
          <p:sp>
            <p:nvSpPr>
              <p:cNvPr id="5707" name=""/>
              <p:cNvSpPr/>
              <p:nvPr/>
            </p:nvSpPr>
            <p:spPr>
              <a:xfrm>
                <a:off x="3733920" y="5257800"/>
                <a:ext cx="380880" cy="22824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96" y="14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4114800" y="541008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9" name=""/>
            <p:cNvGrpSpPr/>
            <p:nvPr/>
          </p:nvGrpSpPr>
          <p:grpSpPr>
            <a:xfrm>
              <a:off x="3276720" y="3200760"/>
              <a:ext cx="380880" cy="380520"/>
              <a:chOff x="3276720" y="3200760"/>
              <a:chExt cx="380880" cy="380520"/>
            </a:xfrm>
          </p:grpSpPr>
          <p:sp>
            <p:nvSpPr>
              <p:cNvPr id="5710" name=""/>
              <p:cNvSpPr/>
              <p:nvPr/>
            </p:nvSpPr>
            <p:spPr>
              <a:xfrm flipV="1">
                <a:off x="3276720" y="3353040"/>
                <a:ext cx="380880" cy="22824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96" y="14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 flipV="1">
                <a:off x="3657600" y="32007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2" name=""/>
            <p:cNvSpPr/>
            <p:nvPr/>
          </p:nvSpPr>
          <p:spPr>
            <a:xfrm>
              <a:off x="3657600" y="3200400"/>
              <a:ext cx="14302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High Speed Transac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"/>
          <p:cNvSpPr/>
          <p:nvPr/>
        </p:nvSpPr>
        <p:spPr>
          <a:xfrm>
            <a:off x="4495680" y="3809880"/>
            <a:ext cx="3886200" cy="1828800"/>
          </a:xfrm>
          <a:prstGeom prst="roundRect">
            <a:avLst>
              <a:gd name="adj" fmla="val 10144"/>
            </a:avLst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1447920" y="3809880"/>
            <a:ext cx="1828800" cy="1828800"/>
          </a:xfrm>
          <a:prstGeom prst="roundRect">
            <a:avLst>
              <a:gd name="adj" fmla="val 10144"/>
            </a:avLst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Hub 2.0 peut 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r un seul 'Transfer Translator' ou plusie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c N 'Transfer Translators' le Hub peut 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r simult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 N sous-bus USB1.1 (N x 12Mbp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5717" name=""/>
          <p:cNvGrpSpPr/>
          <p:nvPr/>
        </p:nvGrpSpPr>
        <p:grpSpPr>
          <a:xfrm>
            <a:off x="1600200" y="4419360"/>
            <a:ext cx="609480" cy="609840"/>
            <a:chOff x="1600200" y="4419360"/>
            <a:chExt cx="609480" cy="609840"/>
          </a:xfrm>
        </p:grpSpPr>
        <p:sp>
          <p:nvSpPr>
            <p:cNvPr id="5718" name=""/>
            <p:cNvSpPr/>
            <p:nvPr/>
          </p:nvSpPr>
          <p:spPr>
            <a:xfrm>
              <a:off x="1600200" y="4572000"/>
              <a:ext cx="609480" cy="30492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167616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182880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198108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13336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1676160" y="464832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V="1">
              <a:off x="1904760" y="464760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1904760" y="441936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6" name=""/>
          <p:cNvGrpSpPr/>
          <p:nvPr/>
        </p:nvGrpSpPr>
        <p:grpSpPr>
          <a:xfrm>
            <a:off x="2514600" y="4419360"/>
            <a:ext cx="609480" cy="609840"/>
            <a:chOff x="2514600" y="4419360"/>
            <a:chExt cx="609480" cy="609840"/>
          </a:xfrm>
        </p:grpSpPr>
        <p:sp>
          <p:nvSpPr>
            <p:cNvPr id="5727" name=""/>
            <p:cNvSpPr/>
            <p:nvPr/>
          </p:nvSpPr>
          <p:spPr>
            <a:xfrm>
              <a:off x="2514600" y="4572000"/>
              <a:ext cx="609480" cy="30492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59056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74320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89548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304776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590560" y="464832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2819160" y="464760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 flipV="1">
              <a:off x="2819160" y="441936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5" name=""/>
          <p:cNvSpPr/>
          <p:nvPr/>
        </p:nvSpPr>
        <p:spPr>
          <a:xfrm>
            <a:off x="2819520" y="396252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 flipH="1">
            <a:off x="1905120" y="3962520"/>
            <a:ext cx="914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2362320" y="3809880"/>
            <a:ext cx="0" cy="15264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1676520" y="5029200"/>
            <a:ext cx="0" cy="6094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3048120" y="5029200"/>
            <a:ext cx="0" cy="6094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160020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205740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251460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297180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2286000" y="3657600"/>
            <a:ext cx="152280" cy="15228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1828800" y="502920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1828800" y="5486400"/>
            <a:ext cx="30492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2133720" y="548640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2133720" y="5029200"/>
            <a:ext cx="914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2590920" y="502920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 flipH="1">
            <a:off x="1676520" y="5181480"/>
            <a:ext cx="914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2743200" y="502920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 flipH="1">
            <a:off x="2133360" y="5486400"/>
            <a:ext cx="60948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1981080" y="5029200"/>
            <a:ext cx="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1981080" y="5334120"/>
            <a:ext cx="914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 flipV="1">
            <a:off x="2895480" y="5028840"/>
            <a:ext cx="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590920" y="5334120"/>
            <a:ext cx="0" cy="30456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8" name=""/>
          <p:cNvGrpSpPr/>
          <p:nvPr/>
        </p:nvGrpSpPr>
        <p:grpSpPr>
          <a:xfrm>
            <a:off x="2971800" y="4952880"/>
            <a:ext cx="152280" cy="152640"/>
            <a:chOff x="2971800" y="4952880"/>
            <a:chExt cx="152280" cy="152640"/>
          </a:xfrm>
        </p:grpSpPr>
        <p:sp>
          <p:nvSpPr>
            <p:cNvPr id="5759" name=""/>
            <p:cNvSpPr/>
            <p:nvPr/>
          </p:nvSpPr>
          <p:spPr>
            <a:xfrm>
              <a:off x="3022560" y="500364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971800" y="495288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1" name=""/>
          <p:cNvGrpSpPr/>
          <p:nvPr/>
        </p:nvGrpSpPr>
        <p:grpSpPr>
          <a:xfrm>
            <a:off x="2514600" y="5257800"/>
            <a:ext cx="152280" cy="152280"/>
            <a:chOff x="2514600" y="5257800"/>
            <a:chExt cx="152280" cy="152280"/>
          </a:xfrm>
        </p:grpSpPr>
        <p:sp>
          <p:nvSpPr>
            <p:cNvPr id="5762" name=""/>
            <p:cNvSpPr/>
            <p:nvPr/>
          </p:nvSpPr>
          <p:spPr>
            <a:xfrm>
              <a:off x="2565360" y="53085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2514600" y="52578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4" name=""/>
          <p:cNvGrpSpPr/>
          <p:nvPr/>
        </p:nvGrpSpPr>
        <p:grpSpPr>
          <a:xfrm>
            <a:off x="2057400" y="5410080"/>
            <a:ext cx="152280" cy="152640"/>
            <a:chOff x="2057400" y="5410080"/>
            <a:chExt cx="152280" cy="152640"/>
          </a:xfrm>
        </p:grpSpPr>
        <p:sp>
          <p:nvSpPr>
            <p:cNvPr id="5765" name=""/>
            <p:cNvSpPr/>
            <p:nvPr/>
          </p:nvSpPr>
          <p:spPr>
            <a:xfrm>
              <a:off x="2108160" y="546084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057400" y="541008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7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5768" name=""/>
            <p:cNvSpPr/>
            <p:nvPr/>
          </p:nvSpPr>
          <p:spPr>
            <a:xfrm>
              <a:off x="1650960" y="515628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1600200" y="510552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0" name=""/>
          <p:cNvGrpSpPr/>
          <p:nvPr/>
        </p:nvGrpSpPr>
        <p:grpSpPr>
          <a:xfrm>
            <a:off x="2286000" y="3886200"/>
            <a:ext cx="152280" cy="152280"/>
            <a:chOff x="2286000" y="3886200"/>
            <a:chExt cx="152280" cy="152280"/>
          </a:xfrm>
        </p:grpSpPr>
        <p:sp>
          <p:nvSpPr>
            <p:cNvPr id="5771" name=""/>
            <p:cNvSpPr/>
            <p:nvPr/>
          </p:nvSpPr>
          <p:spPr>
            <a:xfrm>
              <a:off x="2336760" y="39369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286000" y="38862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3" name=""/>
          <p:cNvSpPr/>
          <p:nvPr/>
        </p:nvSpPr>
        <p:spPr>
          <a:xfrm>
            <a:off x="1828800" y="3429000"/>
            <a:ext cx="533520" cy="2590920"/>
          </a:xfrm>
          <a:custGeom>
            <a:avLst/>
            <a:gdLst/>
            <a:ahLst/>
            <a:rect l="l" t="t" r="r" b="b"/>
            <a:pathLst>
              <a:path w="336" h="1632">
                <a:moveTo>
                  <a:pt x="336" y="0"/>
                </a:moveTo>
                <a:lnTo>
                  <a:pt x="336" y="336"/>
                </a:lnTo>
                <a:lnTo>
                  <a:pt x="48" y="336"/>
                </a:lnTo>
                <a:lnTo>
                  <a:pt x="48" y="720"/>
                </a:lnTo>
                <a:lnTo>
                  <a:pt x="0" y="912"/>
                </a:lnTo>
                <a:lnTo>
                  <a:pt x="0" y="1296"/>
                </a:lnTo>
                <a:lnTo>
                  <a:pt x="192" y="1296"/>
                </a:lnTo>
                <a:lnTo>
                  <a:pt x="192" y="1632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4" name=""/>
          <p:cNvGrpSpPr/>
          <p:nvPr/>
        </p:nvGrpSpPr>
        <p:grpSpPr>
          <a:xfrm>
            <a:off x="7620120" y="4419360"/>
            <a:ext cx="609480" cy="609840"/>
            <a:chOff x="7620120" y="4419360"/>
            <a:chExt cx="609480" cy="609840"/>
          </a:xfrm>
        </p:grpSpPr>
        <p:sp>
          <p:nvSpPr>
            <p:cNvPr id="5775" name=""/>
            <p:cNvSpPr/>
            <p:nvPr/>
          </p:nvSpPr>
          <p:spPr>
            <a:xfrm>
              <a:off x="7620120" y="4572000"/>
              <a:ext cx="609480" cy="30492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769608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84872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800100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815328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7696080" y="464832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V="1">
              <a:off x="7924680" y="464760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V="1">
              <a:off x="7924680" y="441936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3" name=""/>
          <p:cNvSpPr/>
          <p:nvPr/>
        </p:nvSpPr>
        <p:spPr>
          <a:xfrm>
            <a:off x="7924680" y="396252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 flipH="1">
            <a:off x="7010280" y="3962520"/>
            <a:ext cx="914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7010280" y="396252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7467480" y="3809880"/>
            <a:ext cx="0" cy="15264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6781680" y="548640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8153280" y="5029200"/>
            <a:ext cx="0" cy="6094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670572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716292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762012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2" name=""/>
          <p:cNvSpPr/>
          <p:nvPr/>
        </p:nvSpPr>
        <p:spPr>
          <a:xfrm>
            <a:off x="807732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3" name=""/>
          <p:cNvSpPr/>
          <p:nvPr/>
        </p:nvSpPr>
        <p:spPr>
          <a:xfrm>
            <a:off x="7391520" y="3657600"/>
            <a:ext cx="152280" cy="15228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>
            <a:off x="6934320" y="5486400"/>
            <a:ext cx="30456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7238880" y="5334120"/>
            <a:ext cx="0" cy="30456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7010280" y="5029200"/>
            <a:ext cx="11430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7696080" y="502920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8" name=""/>
          <p:cNvSpPr/>
          <p:nvPr/>
        </p:nvSpPr>
        <p:spPr>
          <a:xfrm flipH="1">
            <a:off x="6324480" y="5181480"/>
            <a:ext cx="13716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>
            <a:off x="7848720" y="502920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 flipH="1">
            <a:off x="4952880" y="5486400"/>
            <a:ext cx="28958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5638680" y="5334120"/>
            <a:ext cx="236232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 flipV="1">
            <a:off x="8001000" y="5028840"/>
            <a:ext cx="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7696080" y="518148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4" name=""/>
          <p:cNvGrpSpPr/>
          <p:nvPr/>
        </p:nvGrpSpPr>
        <p:grpSpPr>
          <a:xfrm>
            <a:off x="8077320" y="4952880"/>
            <a:ext cx="152280" cy="152640"/>
            <a:chOff x="8077320" y="4952880"/>
            <a:chExt cx="152280" cy="152640"/>
          </a:xfrm>
        </p:grpSpPr>
        <p:sp>
          <p:nvSpPr>
            <p:cNvPr id="5805" name=""/>
            <p:cNvSpPr/>
            <p:nvPr/>
          </p:nvSpPr>
          <p:spPr>
            <a:xfrm>
              <a:off x="8128080" y="500364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8077320" y="495288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7" name=""/>
          <p:cNvGrpSpPr/>
          <p:nvPr/>
        </p:nvGrpSpPr>
        <p:grpSpPr>
          <a:xfrm>
            <a:off x="7620120" y="5105520"/>
            <a:ext cx="152280" cy="152280"/>
            <a:chOff x="7620120" y="5105520"/>
            <a:chExt cx="152280" cy="152280"/>
          </a:xfrm>
        </p:grpSpPr>
        <p:sp>
          <p:nvSpPr>
            <p:cNvPr id="5808" name=""/>
            <p:cNvSpPr/>
            <p:nvPr/>
          </p:nvSpPr>
          <p:spPr>
            <a:xfrm>
              <a:off x="7670880" y="515628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7620120" y="510552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0" name=""/>
          <p:cNvGrpSpPr/>
          <p:nvPr/>
        </p:nvGrpSpPr>
        <p:grpSpPr>
          <a:xfrm>
            <a:off x="7162920" y="5257800"/>
            <a:ext cx="152280" cy="152280"/>
            <a:chOff x="7162920" y="5257800"/>
            <a:chExt cx="152280" cy="152280"/>
          </a:xfrm>
        </p:grpSpPr>
        <p:sp>
          <p:nvSpPr>
            <p:cNvPr id="5811" name=""/>
            <p:cNvSpPr/>
            <p:nvPr/>
          </p:nvSpPr>
          <p:spPr>
            <a:xfrm>
              <a:off x="7213680" y="53085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7162920" y="52578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3" name=""/>
          <p:cNvGrpSpPr/>
          <p:nvPr/>
        </p:nvGrpSpPr>
        <p:grpSpPr>
          <a:xfrm>
            <a:off x="7391520" y="3886200"/>
            <a:ext cx="152280" cy="152280"/>
            <a:chOff x="7391520" y="3886200"/>
            <a:chExt cx="152280" cy="152280"/>
          </a:xfrm>
        </p:grpSpPr>
        <p:sp>
          <p:nvSpPr>
            <p:cNvPr id="5814" name=""/>
            <p:cNvSpPr/>
            <p:nvPr/>
          </p:nvSpPr>
          <p:spPr>
            <a:xfrm>
              <a:off x="7442280" y="39369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7391520" y="38862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6" name=""/>
          <p:cNvGrpSpPr/>
          <p:nvPr/>
        </p:nvGrpSpPr>
        <p:grpSpPr>
          <a:xfrm>
            <a:off x="6705720" y="5410080"/>
            <a:ext cx="152280" cy="152640"/>
            <a:chOff x="6705720" y="5410080"/>
            <a:chExt cx="152280" cy="152640"/>
          </a:xfrm>
        </p:grpSpPr>
        <p:sp>
          <p:nvSpPr>
            <p:cNvPr id="5817" name=""/>
            <p:cNvSpPr/>
            <p:nvPr/>
          </p:nvSpPr>
          <p:spPr>
            <a:xfrm>
              <a:off x="6756480" y="546084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705720" y="541008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9" name=""/>
          <p:cNvSpPr/>
          <p:nvPr/>
        </p:nvSpPr>
        <p:spPr>
          <a:xfrm flipV="1">
            <a:off x="4952880" y="396216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 flipV="1">
            <a:off x="5638680" y="396216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 flipV="1">
            <a:off x="6324480" y="396216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4952880" y="3962520"/>
            <a:ext cx="2057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3" name=""/>
          <p:cNvGrpSpPr/>
          <p:nvPr/>
        </p:nvGrpSpPr>
        <p:grpSpPr>
          <a:xfrm>
            <a:off x="6934320" y="3886200"/>
            <a:ext cx="152280" cy="152280"/>
            <a:chOff x="6934320" y="3886200"/>
            <a:chExt cx="152280" cy="152280"/>
          </a:xfrm>
        </p:grpSpPr>
        <p:sp>
          <p:nvSpPr>
            <p:cNvPr id="5824" name=""/>
            <p:cNvSpPr/>
            <p:nvPr/>
          </p:nvSpPr>
          <p:spPr>
            <a:xfrm>
              <a:off x="6985080" y="39369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934320" y="38862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6248520" y="3886200"/>
            <a:ext cx="152280" cy="152280"/>
            <a:chOff x="6248520" y="3886200"/>
            <a:chExt cx="152280" cy="152280"/>
          </a:xfrm>
        </p:grpSpPr>
        <p:sp>
          <p:nvSpPr>
            <p:cNvPr id="5827" name=""/>
            <p:cNvSpPr/>
            <p:nvPr/>
          </p:nvSpPr>
          <p:spPr>
            <a:xfrm>
              <a:off x="6299280" y="39369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248520" y="38862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5562720" y="3886200"/>
            <a:ext cx="152280" cy="152280"/>
            <a:chOff x="5562720" y="3886200"/>
            <a:chExt cx="152280" cy="152280"/>
          </a:xfrm>
        </p:grpSpPr>
        <p:sp>
          <p:nvSpPr>
            <p:cNvPr id="5830" name=""/>
            <p:cNvSpPr/>
            <p:nvPr/>
          </p:nvSpPr>
          <p:spPr>
            <a:xfrm>
              <a:off x="5613480" y="39369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5562720" y="38862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2" name=""/>
          <p:cNvSpPr/>
          <p:nvPr/>
        </p:nvSpPr>
        <p:spPr>
          <a:xfrm flipV="1">
            <a:off x="7010280" y="4419360"/>
            <a:ext cx="0" cy="6094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6324480" y="4419720"/>
            <a:ext cx="0" cy="76176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5638680" y="4419720"/>
            <a:ext cx="0" cy="9144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4952880" y="4419720"/>
            <a:ext cx="0" cy="10666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4952880" y="3429000"/>
            <a:ext cx="2514600" cy="2590920"/>
          </a:xfrm>
          <a:custGeom>
            <a:avLst/>
            <a:gdLst/>
            <a:ahLst/>
            <a:rect l="l" t="t" r="r" b="b"/>
            <a:pathLst>
              <a:path w="1584" h="1632">
                <a:moveTo>
                  <a:pt x="1584" y="0"/>
                </a:moveTo>
                <a:lnTo>
                  <a:pt x="1584" y="336"/>
                </a:lnTo>
                <a:lnTo>
                  <a:pt x="0" y="336"/>
                </a:lnTo>
                <a:lnTo>
                  <a:pt x="0" y="1296"/>
                </a:lnTo>
                <a:lnTo>
                  <a:pt x="1152" y="1296"/>
                </a:lnTo>
                <a:lnTo>
                  <a:pt x="1152" y="1632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6324480" y="3962520"/>
            <a:ext cx="1371600" cy="20574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lnTo>
                  <a:pt x="0" y="768"/>
                </a:lnTo>
                <a:lnTo>
                  <a:pt x="864" y="768"/>
                </a:lnTo>
                <a:lnTo>
                  <a:pt x="864" y="129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6705720" y="4114800"/>
            <a:ext cx="60948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4648320" y="4114800"/>
            <a:ext cx="60948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5334120" y="4114800"/>
            <a:ext cx="60948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6019920" y="4114800"/>
            <a:ext cx="60948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600200" y="4114800"/>
            <a:ext cx="60948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557720" y="3200400"/>
            <a:ext cx="166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176480" y="6019920"/>
            <a:ext cx="1922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/Ful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7044120" y="6019920"/>
            <a:ext cx="1922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/Ful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5519880" y="6019920"/>
            <a:ext cx="1922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/Ful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6662880" y="3200400"/>
            <a:ext cx="166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isation des transactions Low/Full Spee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'étant pas immédi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leur acquittement do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 dif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tilisation de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Split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Split Transactions s'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ent en deux phases : commande de la transaction (Start Split) puis acquisition du 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ltat (Complete Spl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Split Transactions sont 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 par les Hubs 2.0, invisibles des 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ques Low/Full Sp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850" name=""/>
          <p:cNvSpPr/>
          <p:nvPr/>
        </p:nvSpPr>
        <p:spPr>
          <a:xfrm>
            <a:off x="5181480" y="4800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7620120" y="4800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2743200" y="48006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3" name=""/>
          <p:cNvGrpSpPr/>
          <p:nvPr/>
        </p:nvGrpSpPr>
        <p:grpSpPr>
          <a:xfrm>
            <a:off x="2819520" y="3809880"/>
            <a:ext cx="228600" cy="609840"/>
            <a:chOff x="2819520" y="3809880"/>
            <a:chExt cx="228600" cy="609840"/>
          </a:xfrm>
        </p:grpSpPr>
        <p:sp>
          <p:nvSpPr>
            <p:cNvPr id="5854" name=""/>
            <p:cNvSpPr/>
            <p:nvPr/>
          </p:nvSpPr>
          <p:spPr>
            <a:xfrm>
              <a:off x="28195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30481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6" name=""/>
          <p:cNvSpPr/>
          <p:nvPr/>
        </p:nvSpPr>
        <p:spPr>
          <a:xfrm>
            <a:off x="3124080" y="3962520"/>
            <a:ext cx="152640" cy="3045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335268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8" name=""/>
          <p:cNvGrpSpPr/>
          <p:nvPr/>
        </p:nvGrpSpPr>
        <p:grpSpPr>
          <a:xfrm>
            <a:off x="3733920" y="3809880"/>
            <a:ext cx="228600" cy="609840"/>
            <a:chOff x="3733920" y="3809880"/>
            <a:chExt cx="228600" cy="609840"/>
          </a:xfrm>
        </p:grpSpPr>
        <p:sp>
          <p:nvSpPr>
            <p:cNvPr id="5859" name=""/>
            <p:cNvSpPr/>
            <p:nvPr/>
          </p:nvSpPr>
          <p:spPr>
            <a:xfrm>
              <a:off x="37339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39625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1" name=""/>
          <p:cNvGrpSpPr/>
          <p:nvPr/>
        </p:nvGrpSpPr>
        <p:grpSpPr>
          <a:xfrm>
            <a:off x="3429000" y="3809880"/>
            <a:ext cx="228600" cy="609840"/>
            <a:chOff x="3429000" y="3809880"/>
            <a:chExt cx="228600" cy="609840"/>
          </a:xfrm>
        </p:grpSpPr>
        <p:sp>
          <p:nvSpPr>
            <p:cNvPr id="5862" name=""/>
            <p:cNvSpPr/>
            <p:nvPr/>
          </p:nvSpPr>
          <p:spPr>
            <a:xfrm>
              <a:off x="34290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36576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4" name=""/>
          <p:cNvGrpSpPr/>
          <p:nvPr/>
        </p:nvGrpSpPr>
        <p:grpSpPr>
          <a:xfrm>
            <a:off x="4038480" y="3809880"/>
            <a:ext cx="228600" cy="609840"/>
            <a:chOff x="4038480" y="3809880"/>
            <a:chExt cx="228600" cy="609840"/>
          </a:xfrm>
        </p:grpSpPr>
        <p:sp>
          <p:nvSpPr>
            <p:cNvPr id="5865" name=""/>
            <p:cNvSpPr/>
            <p:nvPr/>
          </p:nvSpPr>
          <p:spPr>
            <a:xfrm>
              <a:off x="403848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426708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7" name=""/>
          <p:cNvGrpSpPr/>
          <p:nvPr/>
        </p:nvGrpSpPr>
        <p:grpSpPr>
          <a:xfrm>
            <a:off x="4343400" y="3809880"/>
            <a:ext cx="228600" cy="609840"/>
            <a:chOff x="4343400" y="3809880"/>
            <a:chExt cx="228600" cy="609840"/>
          </a:xfrm>
        </p:grpSpPr>
        <p:sp>
          <p:nvSpPr>
            <p:cNvPr id="5868" name=""/>
            <p:cNvSpPr/>
            <p:nvPr/>
          </p:nvSpPr>
          <p:spPr>
            <a:xfrm>
              <a:off x="43434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45720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0" name=""/>
          <p:cNvGrpSpPr/>
          <p:nvPr/>
        </p:nvGrpSpPr>
        <p:grpSpPr>
          <a:xfrm>
            <a:off x="4648320" y="3809880"/>
            <a:ext cx="228600" cy="609840"/>
            <a:chOff x="4648320" y="3809880"/>
            <a:chExt cx="228600" cy="609840"/>
          </a:xfrm>
        </p:grpSpPr>
        <p:sp>
          <p:nvSpPr>
            <p:cNvPr id="5871" name=""/>
            <p:cNvSpPr/>
            <p:nvPr/>
          </p:nvSpPr>
          <p:spPr>
            <a:xfrm>
              <a:off x="46483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48769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3" name=""/>
          <p:cNvGrpSpPr/>
          <p:nvPr/>
        </p:nvGrpSpPr>
        <p:grpSpPr>
          <a:xfrm>
            <a:off x="4952880" y="3809880"/>
            <a:ext cx="228600" cy="609840"/>
            <a:chOff x="4952880" y="3809880"/>
            <a:chExt cx="228600" cy="609840"/>
          </a:xfrm>
        </p:grpSpPr>
        <p:sp>
          <p:nvSpPr>
            <p:cNvPr id="5874" name=""/>
            <p:cNvSpPr/>
            <p:nvPr/>
          </p:nvSpPr>
          <p:spPr>
            <a:xfrm>
              <a:off x="495288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18148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6" name=""/>
          <p:cNvSpPr/>
          <p:nvPr/>
        </p:nvSpPr>
        <p:spPr>
          <a:xfrm>
            <a:off x="5181480" y="35053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7" name=""/>
          <p:cNvGrpSpPr/>
          <p:nvPr/>
        </p:nvGrpSpPr>
        <p:grpSpPr>
          <a:xfrm>
            <a:off x="5257800" y="3809880"/>
            <a:ext cx="228600" cy="609840"/>
            <a:chOff x="5257800" y="3809880"/>
            <a:chExt cx="228600" cy="609840"/>
          </a:xfrm>
        </p:grpSpPr>
        <p:sp>
          <p:nvSpPr>
            <p:cNvPr id="5878" name=""/>
            <p:cNvSpPr/>
            <p:nvPr/>
          </p:nvSpPr>
          <p:spPr>
            <a:xfrm>
              <a:off x="52578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54864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0" name=""/>
          <p:cNvGrpSpPr/>
          <p:nvPr/>
        </p:nvGrpSpPr>
        <p:grpSpPr>
          <a:xfrm>
            <a:off x="5562720" y="3809880"/>
            <a:ext cx="228600" cy="609840"/>
            <a:chOff x="5562720" y="3809880"/>
            <a:chExt cx="228600" cy="609840"/>
          </a:xfrm>
        </p:grpSpPr>
        <p:sp>
          <p:nvSpPr>
            <p:cNvPr id="5881" name=""/>
            <p:cNvSpPr/>
            <p:nvPr/>
          </p:nvSpPr>
          <p:spPr>
            <a:xfrm>
              <a:off x="55627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57913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6172200" y="3809880"/>
            <a:ext cx="228600" cy="609840"/>
            <a:chOff x="6172200" y="3809880"/>
            <a:chExt cx="228600" cy="609840"/>
          </a:xfrm>
        </p:grpSpPr>
        <p:sp>
          <p:nvSpPr>
            <p:cNvPr id="5884" name=""/>
            <p:cNvSpPr/>
            <p:nvPr/>
          </p:nvSpPr>
          <p:spPr>
            <a:xfrm>
              <a:off x="61722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64008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6" name=""/>
          <p:cNvGrpSpPr/>
          <p:nvPr/>
        </p:nvGrpSpPr>
        <p:grpSpPr>
          <a:xfrm>
            <a:off x="5867280" y="3809880"/>
            <a:ext cx="228600" cy="609840"/>
            <a:chOff x="5867280" y="3809880"/>
            <a:chExt cx="228600" cy="609840"/>
          </a:xfrm>
        </p:grpSpPr>
        <p:sp>
          <p:nvSpPr>
            <p:cNvPr id="5887" name=""/>
            <p:cNvSpPr/>
            <p:nvPr/>
          </p:nvSpPr>
          <p:spPr>
            <a:xfrm>
              <a:off x="586728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609588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9" name=""/>
          <p:cNvGrpSpPr/>
          <p:nvPr/>
        </p:nvGrpSpPr>
        <p:grpSpPr>
          <a:xfrm>
            <a:off x="6477120" y="3809880"/>
            <a:ext cx="228600" cy="609840"/>
            <a:chOff x="6477120" y="3809880"/>
            <a:chExt cx="228600" cy="609840"/>
          </a:xfrm>
        </p:grpSpPr>
        <p:sp>
          <p:nvSpPr>
            <p:cNvPr id="5890" name=""/>
            <p:cNvSpPr/>
            <p:nvPr/>
          </p:nvSpPr>
          <p:spPr>
            <a:xfrm>
              <a:off x="64771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67057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6781680" y="3809880"/>
            <a:ext cx="228600" cy="609840"/>
            <a:chOff x="6781680" y="3809880"/>
            <a:chExt cx="228600" cy="609840"/>
          </a:xfrm>
        </p:grpSpPr>
        <p:sp>
          <p:nvSpPr>
            <p:cNvPr id="5893" name=""/>
            <p:cNvSpPr/>
            <p:nvPr/>
          </p:nvSpPr>
          <p:spPr>
            <a:xfrm>
              <a:off x="678168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01028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5" name=""/>
          <p:cNvGrpSpPr/>
          <p:nvPr/>
        </p:nvGrpSpPr>
        <p:grpSpPr>
          <a:xfrm>
            <a:off x="7086600" y="3809880"/>
            <a:ext cx="228600" cy="609840"/>
            <a:chOff x="7086600" y="3809880"/>
            <a:chExt cx="228600" cy="609840"/>
          </a:xfrm>
        </p:grpSpPr>
        <p:sp>
          <p:nvSpPr>
            <p:cNvPr id="5896" name=""/>
            <p:cNvSpPr/>
            <p:nvPr/>
          </p:nvSpPr>
          <p:spPr>
            <a:xfrm>
              <a:off x="70866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3152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7391520" y="3809880"/>
            <a:ext cx="228600" cy="609840"/>
            <a:chOff x="7391520" y="3809880"/>
            <a:chExt cx="228600" cy="609840"/>
          </a:xfrm>
        </p:grpSpPr>
        <p:sp>
          <p:nvSpPr>
            <p:cNvPr id="5899" name=""/>
            <p:cNvSpPr/>
            <p:nvPr/>
          </p:nvSpPr>
          <p:spPr>
            <a:xfrm>
              <a:off x="73915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6201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1" name=""/>
          <p:cNvSpPr/>
          <p:nvPr/>
        </p:nvSpPr>
        <p:spPr>
          <a:xfrm>
            <a:off x="7620120" y="3429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2" name=""/>
          <p:cNvGrpSpPr/>
          <p:nvPr/>
        </p:nvGrpSpPr>
        <p:grpSpPr>
          <a:xfrm>
            <a:off x="7696080" y="3809880"/>
            <a:ext cx="228600" cy="609840"/>
            <a:chOff x="7696080" y="3809880"/>
            <a:chExt cx="228600" cy="609840"/>
          </a:xfrm>
        </p:grpSpPr>
        <p:sp>
          <p:nvSpPr>
            <p:cNvPr id="5903" name=""/>
            <p:cNvSpPr/>
            <p:nvPr/>
          </p:nvSpPr>
          <p:spPr>
            <a:xfrm>
              <a:off x="769608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92468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5" name=""/>
          <p:cNvGrpSpPr/>
          <p:nvPr/>
        </p:nvGrpSpPr>
        <p:grpSpPr>
          <a:xfrm>
            <a:off x="8001000" y="3809880"/>
            <a:ext cx="228600" cy="609840"/>
            <a:chOff x="8001000" y="3809880"/>
            <a:chExt cx="228600" cy="609840"/>
          </a:xfrm>
        </p:grpSpPr>
        <p:sp>
          <p:nvSpPr>
            <p:cNvPr id="5906" name=""/>
            <p:cNvSpPr/>
            <p:nvPr/>
          </p:nvSpPr>
          <p:spPr>
            <a:xfrm>
              <a:off x="80010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82296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8" name=""/>
          <p:cNvGrpSpPr/>
          <p:nvPr/>
        </p:nvGrpSpPr>
        <p:grpSpPr>
          <a:xfrm>
            <a:off x="8305920" y="3809880"/>
            <a:ext cx="228600" cy="609840"/>
            <a:chOff x="8305920" y="3809880"/>
            <a:chExt cx="228600" cy="609840"/>
          </a:xfrm>
        </p:grpSpPr>
        <p:sp>
          <p:nvSpPr>
            <p:cNvPr id="5909" name=""/>
            <p:cNvSpPr/>
            <p:nvPr/>
          </p:nvSpPr>
          <p:spPr>
            <a:xfrm>
              <a:off x="83059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85345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1" name=""/>
          <p:cNvSpPr/>
          <p:nvPr/>
        </p:nvSpPr>
        <p:spPr>
          <a:xfrm>
            <a:off x="3581280" y="5334120"/>
            <a:ext cx="1219320" cy="3045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6019920" y="5334120"/>
            <a:ext cx="1218960" cy="3045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2743200" y="495288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5181480" y="49528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>
            <a:off x="2748240" y="4724280"/>
            <a:ext cx="52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>
            <a:off x="5186520" y="4724280"/>
            <a:ext cx="52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2743200" y="35053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8" name=""/>
          <p:cNvGrpSpPr/>
          <p:nvPr/>
        </p:nvGrpSpPr>
        <p:grpSpPr>
          <a:xfrm>
            <a:off x="304920" y="3200400"/>
            <a:ext cx="664560" cy="988560"/>
            <a:chOff x="304920" y="3200400"/>
            <a:chExt cx="664560" cy="988560"/>
          </a:xfrm>
        </p:grpSpPr>
        <p:sp>
          <p:nvSpPr>
            <p:cNvPr id="5919" name=""/>
            <p:cNvSpPr/>
            <p:nvPr/>
          </p:nvSpPr>
          <p:spPr>
            <a:xfrm>
              <a:off x="381960" y="3200400"/>
              <a:ext cx="52956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565200" y="3384000"/>
              <a:ext cx="19440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04920" y="4004640"/>
              <a:ext cx="662400" cy="17172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87360" y="3538440"/>
              <a:ext cx="525600" cy="4035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417600" y="3915720"/>
              <a:ext cx="450720" cy="4284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671040" y="4051440"/>
              <a:ext cx="9720" cy="11376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16080" y="4037400"/>
              <a:ext cx="620640" cy="14544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512640" y="4050000"/>
              <a:ext cx="149040" cy="3528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81120" y="4075200"/>
              <a:ext cx="197280" cy="864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22560" y="4000680"/>
              <a:ext cx="635760" cy="493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579600" y="3976560"/>
              <a:ext cx="150480" cy="2880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579600" y="3981600"/>
              <a:ext cx="18720" cy="266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675720" y="3979080"/>
              <a:ext cx="42840" cy="291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454320" y="4030920"/>
              <a:ext cx="378360" cy="1872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933120" y="4012200"/>
              <a:ext cx="31320" cy="17208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892440" y="3548520"/>
              <a:ext cx="17640" cy="37188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87360" y="3548520"/>
              <a:ext cx="447120" cy="36180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455400" y="3606840"/>
              <a:ext cx="372240" cy="25812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401040" y="3538440"/>
              <a:ext cx="513000" cy="39492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84480" y="3537000"/>
              <a:ext cx="491400" cy="37980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55680" y="3919680"/>
              <a:ext cx="505080" cy="10764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477000" y="4017240"/>
              <a:ext cx="353160" cy="2520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20040" y="3996720"/>
              <a:ext cx="649440" cy="19224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29040" y="4043520"/>
              <a:ext cx="599040" cy="1764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511200" y="4048920"/>
              <a:ext cx="153360" cy="3780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25080" y="4104360"/>
              <a:ext cx="609120" cy="1512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49200" y="4064040"/>
              <a:ext cx="22680" cy="21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89880" y="4065120"/>
              <a:ext cx="24120" cy="212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526680" y="4056120"/>
              <a:ext cx="127800" cy="140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405000" y="3547440"/>
              <a:ext cx="483480" cy="36576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681120" y="4064040"/>
              <a:ext cx="201240" cy="2412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669600" y="4051440"/>
              <a:ext cx="6120" cy="1123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887400" y="4057560"/>
              <a:ext cx="4680" cy="10980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897480" y="4076640"/>
              <a:ext cx="22680" cy="21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909000" y="417168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41720" y="3590640"/>
              <a:ext cx="394920" cy="26424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449280" y="3605400"/>
              <a:ext cx="386280" cy="26712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896400" y="4171680"/>
              <a:ext cx="4680" cy="111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884880" y="417168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872280" y="417168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860760" y="417168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848160" y="417024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836640" y="4170240"/>
              <a:ext cx="396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824040" y="4170240"/>
              <a:ext cx="396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811440" y="417024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800280" y="417024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87320" y="4170240"/>
              <a:ext cx="396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76160" y="417024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63560" y="416916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50960" y="4169160"/>
              <a:ext cx="4680" cy="111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39440" y="416916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26840" y="416916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15320" y="416916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02720" y="416772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691200" y="4167720"/>
              <a:ext cx="396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678600" y="416772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665640" y="4167720"/>
              <a:ext cx="5040" cy="100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654480" y="4167720"/>
              <a:ext cx="3960" cy="10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641520" y="4167720"/>
              <a:ext cx="3960" cy="10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630360" y="4167720"/>
              <a:ext cx="3600" cy="10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617760" y="416664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606240" y="416664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593640" y="416664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581040" y="4166640"/>
              <a:ext cx="4680" cy="9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569520" y="416664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56920" y="416520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545400" y="416520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532800" y="416520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521280" y="4165200"/>
              <a:ext cx="396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508680" y="4165200"/>
              <a:ext cx="396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496080" y="416412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484920" y="416412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471960" y="4164120"/>
              <a:ext cx="396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460800" y="416412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448200" y="416412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35600" y="4164120"/>
              <a:ext cx="4680" cy="9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24080" y="416412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411480" y="416268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99960" y="416268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387360" y="416268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75840" y="4162680"/>
              <a:ext cx="396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62880" y="416268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50280" y="4161240"/>
              <a:ext cx="5040" cy="111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38760" y="4161240"/>
              <a:ext cx="396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20040" y="4062600"/>
              <a:ext cx="616680" cy="12168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75920" y="3615840"/>
              <a:ext cx="334080" cy="22788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681120" y="4059000"/>
              <a:ext cx="200160" cy="972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843120" y="3927240"/>
              <a:ext cx="31680" cy="262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7" name=""/>
          <p:cNvGrpSpPr/>
          <p:nvPr/>
        </p:nvGrpSpPr>
        <p:grpSpPr>
          <a:xfrm>
            <a:off x="381960" y="5430960"/>
            <a:ext cx="963720" cy="804960"/>
            <a:chOff x="381960" y="5430960"/>
            <a:chExt cx="963720" cy="804960"/>
          </a:xfrm>
        </p:grpSpPr>
        <p:sp>
          <p:nvSpPr>
            <p:cNvPr id="6008" name=""/>
            <p:cNvSpPr/>
            <p:nvPr/>
          </p:nvSpPr>
          <p:spPr>
            <a:xfrm>
              <a:off x="728280" y="5437080"/>
              <a:ext cx="610560" cy="375480"/>
            </a:xfrm>
            <a:custGeom>
              <a:avLst/>
              <a:gdLst/>
              <a:ahLst/>
              <a:rect l="l" t="t" r="r" b="b"/>
              <a:pathLst>
                <a:path w="483" h="297">
                  <a:moveTo>
                    <a:pt x="0" y="198"/>
                  </a:moveTo>
                  <a:lnTo>
                    <a:pt x="247" y="0"/>
                  </a:lnTo>
                  <a:lnTo>
                    <a:pt x="483" y="50"/>
                  </a:lnTo>
                  <a:lnTo>
                    <a:pt x="483" y="62"/>
                  </a:lnTo>
                  <a:lnTo>
                    <a:pt x="289" y="29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1097640" y="5505480"/>
              <a:ext cx="244080" cy="441360"/>
            </a:xfrm>
            <a:custGeom>
              <a:avLst/>
              <a:gdLst/>
              <a:ahLst/>
              <a:rect l="l" t="t" r="r" b="b"/>
              <a:pathLst>
                <a:path w="193" h="349">
                  <a:moveTo>
                    <a:pt x="0" y="237"/>
                  </a:moveTo>
                  <a:lnTo>
                    <a:pt x="193" y="0"/>
                  </a:lnTo>
                  <a:lnTo>
                    <a:pt x="193" y="84"/>
                  </a:lnTo>
                  <a:lnTo>
                    <a:pt x="189" y="93"/>
                  </a:lnTo>
                  <a:lnTo>
                    <a:pt x="0" y="349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1325520" y="5543280"/>
              <a:ext cx="11160" cy="66960"/>
            </a:xfrm>
            <a:custGeom>
              <a:avLst/>
              <a:gdLst/>
              <a:ahLst/>
              <a:rect l="l" t="t" r="r" b="b"/>
              <a:pathLst>
                <a:path w="9" h="53">
                  <a:moveTo>
                    <a:pt x="9" y="0"/>
                  </a:moveTo>
                  <a:lnTo>
                    <a:pt x="0" y="10"/>
                  </a:lnTo>
                  <a:lnTo>
                    <a:pt x="0" y="53"/>
                  </a:lnTo>
                  <a:lnTo>
                    <a:pt x="9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1515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807840" y="5444640"/>
              <a:ext cx="462960" cy="325080"/>
            </a:xfrm>
            <a:custGeom>
              <a:avLst/>
              <a:gdLst/>
              <a:ahLst/>
              <a:rect l="l" t="t" r="r" b="b"/>
              <a:pathLst>
                <a:path w="366" h="257">
                  <a:moveTo>
                    <a:pt x="0" y="206"/>
                  </a:moveTo>
                  <a:lnTo>
                    <a:pt x="235" y="0"/>
                  </a:lnTo>
                  <a:lnTo>
                    <a:pt x="366" y="28"/>
                  </a:lnTo>
                  <a:lnTo>
                    <a:pt x="162" y="257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889200" y="5628240"/>
              <a:ext cx="4680" cy="102240"/>
            </a:xfrm>
            <a:custGeom>
              <a:avLst/>
              <a:gdLst/>
              <a:ahLst/>
              <a:rect l="l" t="t" r="r" b="b"/>
              <a:pathLst>
                <a:path w="4" h="81">
                  <a:moveTo>
                    <a:pt x="0" y="78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4" y="8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904320" y="5610240"/>
              <a:ext cx="12600" cy="112680"/>
            </a:xfrm>
            <a:custGeom>
              <a:avLst/>
              <a:gdLst/>
              <a:ahLst/>
              <a:rect l="l" t="t" r="r" b="b"/>
              <a:pathLst>
                <a:path w="10" h="89">
                  <a:moveTo>
                    <a:pt x="0" y="8"/>
                  </a:moveTo>
                  <a:lnTo>
                    <a:pt x="0" y="89"/>
                  </a:lnTo>
                  <a:lnTo>
                    <a:pt x="7" y="73"/>
                  </a:lnTo>
                  <a:lnTo>
                    <a:pt x="10" y="76"/>
                  </a:lnTo>
                  <a:lnTo>
                    <a:pt x="1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019520" y="5509080"/>
              <a:ext cx="13680" cy="208800"/>
            </a:xfrm>
            <a:custGeom>
              <a:avLst/>
              <a:gdLst/>
              <a:ahLst/>
              <a:rect l="l" t="t" r="r" b="b"/>
              <a:pathLst>
                <a:path w="11" h="165">
                  <a:moveTo>
                    <a:pt x="0" y="9"/>
                  </a:moveTo>
                  <a:lnTo>
                    <a:pt x="0" y="165"/>
                  </a:lnTo>
                  <a:lnTo>
                    <a:pt x="7" y="141"/>
                  </a:lnTo>
                  <a:lnTo>
                    <a:pt x="11" y="153"/>
                  </a:lnTo>
                  <a:lnTo>
                    <a:pt x="1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1124280" y="5452200"/>
              <a:ext cx="12600" cy="158040"/>
            </a:xfrm>
            <a:custGeom>
              <a:avLst/>
              <a:gdLst/>
              <a:ahLst/>
              <a:rect l="l" t="t" r="r" b="b"/>
              <a:pathLst>
                <a:path w="10" h="125">
                  <a:moveTo>
                    <a:pt x="0" y="0"/>
                  </a:moveTo>
                  <a:lnTo>
                    <a:pt x="0" y="125"/>
                  </a:lnTo>
                  <a:lnTo>
                    <a:pt x="6" y="98"/>
                  </a:lnTo>
                  <a:lnTo>
                    <a:pt x="10" y="108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1149840" y="5453280"/>
              <a:ext cx="3600" cy="102240"/>
            </a:xfrm>
            <a:custGeom>
              <a:avLst/>
              <a:gdLst/>
              <a:ahLst/>
              <a:rect l="l" t="t" r="r" b="b"/>
              <a:pathLst>
                <a:path w="3" h="81">
                  <a:moveTo>
                    <a:pt x="0" y="0"/>
                  </a:moveTo>
                  <a:lnTo>
                    <a:pt x="0" y="81"/>
                  </a:lnTo>
                  <a:lnTo>
                    <a:pt x="3" y="6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10640" y="5701680"/>
              <a:ext cx="371520" cy="262800"/>
            </a:xfrm>
            <a:custGeom>
              <a:avLst/>
              <a:gdLst/>
              <a:ahLst/>
              <a:rect l="l" t="t" r="r" b="b"/>
              <a:pathLst>
                <a:path w="294" h="208">
                  <a:moveTo>
                    <a:pt x="3" y="0"/>
                  </a:moveTo>
                  <a:lnTo>
                    <a:pt x="0" y="0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292" y="208"/>
                  </a:lnTo>
                  <a:lnTo>
                    <a:pt x="294" y="206"/>
                  </a:lnTo>
                  <a:lnTo>
                    <a:pt x="294" y="93"/>
                  </a:lnTo>
                  <a:lnTo>
                    <a:pt x="290" y="9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946080" y="5776200"/>
              <a:ext cx="135360" cy="114840"/>
            </a:xfrm>
            <a:custGeom>
              <a:avLst/>
              <a:gdLst/>
              <a:ahLst/>
              <a:rect l="l" t="t" r="r" b="b"/>
              <a:pathLst>
                <a:path w="107" h="91">
                  <a:moveTo>
                    <a:pt x="0" y="0"/>
                  </a:moveTo>
                  <a:lnTo>
                    <a:pt x="107" y="91"/>
                  </a:lnTo>
                  <a:lnTo>
                    <a:pt x="107" y="77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10640" y="5762160"/>
              <a:ext cx="35280" cy="87480"/>
            </a:xfrm>
            <a:custGeom>
              <a:avLst/>
              <a:gdLst/>
              <a:ahLst/>
              <a:rect l="l" t="t" r="r" b="b"/>
              <a:pathLst>
                <a:path w="28" h="69">
                  <a:moveTo>
                    <a:pt x="0" y="0"/>
                  </a:moveTo>
                  <a:lnTo>
                    <a:pt x="28" y="69"/>
                  </a:lnTo>
                  <a:lnTo>
                    <a:pt x="18" y="66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1080000" y="5801400"/>
              <a:ext cx="17640" cy="223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3" y="18"/>
                  </a:lnTo>
                  <a:lnTo>
                    <a:pt x="14" y="6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1081440" y="5807880"/>
              <a:ext cx="16200" cy="155160"/>
            </a:xfrm>
            <a:custGeom>
              <a:avLst/>
              <a:gdLst/>
              <a:ahLst/>
              <a:rect l="l" t="t" r="r" b="b"/>
              <a:pathLst>
                <a:path w="13" h="123">
                  <a:moveTo>
                    <a:pt x="13" y="0"/>
                  </a:moveTo>
                  <a:lnTo>
                    <a:pt x="0" y="13"/>
                  </a:lnTo>
                  <a:lnTo>
                    <a:pt x="0" y="123"/>
                  </a:lnTo>
                  <a:lnTo>
                    <a:pt x="13" y="10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1515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36920" y="5725440"/>
              <a:ext cx="317520" cy="209880"/>
            </a:xfrm>
            <a:custGeom>
              <a:avLst/>
              <a:gdLst/>
              <a:ahLst/>
              <a:rect l="l" t="t" r="r" b="b"/>
              <a:pathLst>
                <a:path w="251" h="166">
                  <a:moveTo>
                    <a:pt x="0" y="0"/>
                  </a:moveTo>
                  <a:lnTo>
                    <a:pt x="251" y="81"/>
                  </a:lnTo>
                  <a:lnTo>
                    <a:pt x="251" y="166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15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747360" y="5778720"/>
              <a:ext cx="16200" cy="38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12"/>
                  </a:moveTo>
                  <a:lnTo>
                    <a:pt x="8" y="30"/>
                  </a:lnTo>
                  <a:lnTo>
                    <a:pt x="13" y="3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747360" y="5753160"/>
              <a:ext cx="46440" cy="77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4"/>
                  </a:moveTo>
                  <a:lnTo>
                    <a:pt x="21" y="55"/>
                  </a:lnTo>
                  <a:lnTo>
                    <a:pt x="37" y="61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81560" y="5753160"/>
              <a:ext cx="36720" cy="4428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0"/>
                  </a:moveTo>
                  <a:lnTo>
                    <a:pt x="29" y="35"/>
                  </a:lnTo>
                  <a:lnTo>
                    <a:pt x="29" y="25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45920" y="5743080"/>
              <a:ext cx="72000" cy="9468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0" y="0"/>
                  </a:moveTo>
                  <a:lnTo>
                    <a:pt x="0" y="55"/>
                  </a:lnTo>
                  <a:lnTo>
                    <a:pt x="57" y="75"/>
                  </a:lnTo>
                  <a:lnTo>
                    <a:pt x="57" y="74"/>
                  </a:lnTo>
                  <a:lnTo>
                    <a:pt x="1" y="54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10640" y="5686200"/>
              <a:ext cx="388440" cy="279360"/>
            </a:xfrm>
            <a:custGeom>
              <a:avLst/>
              <a:gdLst/>
              <a:ahLst/>
              <a:rect l="l" t="t" r="r" b="b"/>
              <a:pathLst>
                <a:path w="307" h="221">
                  <a:moveTo>
                    <a:pt x="293" y="221"/>
                  </a:moveTo>
                  <a:lnTo>
                    <a:pt x="306" y="207"/>
                  </a:lnTo>
                  <a:lnTo>
                    <a:pt x="307" y="204"/>
                  </a:lnTo>
                  <a:lnTo>
                    <a:pt x="307" y="97"/>
                  </a:lnTo>
                  <a:lnTo>
                    <a:pt x="306" y="92"/>
                  </a:lnTo>
                  <a:lnTo>
                    <a:pt x="303" y="8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291" y="104"/>
                  </a:lnTo>
                  <a:lnTo>
                    <a:pt x="293" y="107"/>
                  </a:lnTo>
                  <a:lnTo>
                    <a:pt x="293" y="204"/>
                  </a:lnTo>
                  <a:lnTo>
                    <a:pt x="296" y="120"/>
                  </a:lnTo>
                  <a:lnTo>
                    <a:pt x="299" y="132"/>
                  </a:lnTo>
                  <a:lnTo>
                    <a:pt x="302" y="119"/>
                  </a:lnTo>
                  <a:lnTo>
                    <a:pt x="304" y="128"/>
                  </a:lnTo>
                  <a:lnTo>
                    <a:pt x="304" y="97"/>
                  </a:lnTo>
                  <a:lnTo>
                    <a:pt x="295" y="107"/>
                  </a:lnTo>
                  <a:lnTo>
                    <a:pt x="293" y="101"/>
                  </a:lnTo>
                  <a:lnTo>
                    <a:pt x="303" y="91"/>
                  </a:lnTo>
                  <a:lnTo>
                    <a:pt x="306" y="96"/>
                  </a:lnTo>
                  <a:lnTo>
                    <a:pt x="306" y="199"/>
                  </a:lnTo>
                  <a:lnTo>
                    <a:pt x="304" y="195"/>
                  </a:lnTo>
                  <a:lnTo>
                    <a:pt x="301" y="208"/>
                  </a:lnTo>
                  <a:lnTo>
                    <a:pt x="297" y="204"/>
                  </a:lnTo>
                  <a:lnTo>
                    <a:pt x="293" y="215"/>
                  </a:lnTo>
                  <a:lnTo>
                    <a:pt x="293" y="22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710640" y="5701680"/>
              <a:ext cx="370440" cy="263880"/>
            </a:xfrm>
            <a:custGeom>
              <a:avLst/>
              <a:gdLst/>
              <a:ahLst/>
              <a:rect l="l" t="t" r="r" b="b"/>
              <a:pathLst>
                <a:path w="293" h="209">
                  <a:moveTo>
                    <a:pt x="3" y="0"/>
                  </a:moveTo>
                  <a:lnTo>
                    <a:pt x="1" y="1"/>
                  </a:lnTo>
                  <a:lnTo>
                    <a:pt x="1" y="104"/>
                  </a:lnTo>
                  <a:lnTo>
                    <a:pt x="3" y="108"/>
                  </a:lnTo>
                  <a:lnTo>
                    <a:pt x="291" y="208"/>
                  </a:lnTo>
                  <a:lnTo>
                    <a:pt x="293" y="208"/>
                  </a:lnTo>
                  <a:lnTo>
                    <a:pt x="293" y="209"/>
                  </a:lnTo>
                  <a:lnTo>
                    <a:pt x="290" y="209"/>
                  </a:lnTo>
                  <a:lnTo>
                    <a:pt x="2" y="110"/>
                  </a:lnTo>
                  <a:lnTo>
                    <a:pt x="0" y="10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32240" y="5722920"/>
              <a:ext cx="322200" cy="217440"/>
            </a:xfrm>
            <a:custGeom>
              <a:avLst/>
              <a:gdLst/>
              <a:ahLst/>
              <a:rect l="l" t="t" r="r" b="b"/>
              <a:pathLst>
                <a:path w="255" h="172">
                  <a:moveTo>
                    <a:pt x="0" y="0"/>
                  </a:moveTo>
                  <a:lnTo>
                    <a:pt x="0" y="85"/>
                  </a:lnTo>
                  <a:lnTo>
                    <a:pt x="255" y="172"/>
                  </a:lnTo>
                  <a:lnTo>
                    <a:pt x="255" y="165"/>
                  </a:lnTo>
                  <a:lnTo>
                    <a:pt x="5" y="80"/>
                  </a:ln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732240" y="5722920"/>
              <a:ext cx="322200" cy="217440"/>
            </a:xfrm>
            <a:custGeom>
              <a:avLst/>
              <a:gdLst/>
              <a:ahLst/>
              <a:rect l="l" t="t" r="r" b="b"/>
              <a:pathLst>
                <a:path w="255" h="172">
                  <a:moveTo>
                    <a:pt x="0" y="0"/>
                  </a:moveTo>
                  <a:lnTo>
                    <a:pt x="255" y="83"/>
                  </a:lnTo>
                  <a:lnTo>
                    <a:pt x="255" y="172"/>
                  </a:lnTo>
                  <a:lnTo>
                    <a:pt x="255" y="172"/>
                  </a:lnTo>
                  <a:lnTo>
                    <a:pt x="255" y="8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19640" y="5717880"/>
              <a:ext cx="6120" cy="109800"/>
            </a:xfrm>
            <a:custGeom>
              <a:avLst/>
              <a:gdLst/>
              <a:ahLst/>
              <a:rect l="l" t="t" r="r" b="b"/>
              <a:pathLst>
                <a:path w="5" h="87">
                  <a:moveTo>
                    <a:pt x="0" y="0"/>
                  </a:moveTo>
                  <a:lnTo>
                    <a:pt x="5" y="2"/>
                  </a:lnTo>
                  <a:lnTo>
                    <a:pt x="5" y="87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1063440" y="5830200"/>
              <a:ext cx="7560" cy="116280"/>
            </a:xfrm>
            <a:custGeom>
              <a:avLst/>
              <a:gdLst/>
              <a:ahLst/>
              <a:rect l="l" t="t" r="r" b="b"/>
              <a:pathLst>
                <a:path w="6" h="92">
                  <a:moveTo>
                    <a:pt x="6" y="2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6" y="9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828360" y="5774760"/>
              <a:ext cx="226080" cy="119880"/>
            </a:xfrm>
            <a:custGeom>
              <a:avLst/>
              <a:gdLst/>
              <a:ahLst/>
              <a:rect l="l" t="t" r="r" b="b"/>
              <a:pathLst>
                <a:path w="179" h="95">
                  <a:moveTo>
                    <a:pt x="179" y="57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179" y="95"/>
                  </a:lnTo>
                  <a:lnTo>
                    <a:pt x="179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47360" y="5742000"/>
              <a:ext cx="72000" cy="9576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2" y="0"/>
                  </a:moveTo>
                  <a:lnTo>
                    <a:pt x="0" y="1"/>
                  </a:lnTo>
                  <a:lnTo>
                    <a:pt x="56" y="18"/>
                  </a:lnTo>
                  <a:lnTo>
                    <a:pt x="56" y="76"/>
                  </a:lnTo>
                  <a:lnTo>
                    <a:pt x="57" y="75"/>
                  </a:lnTo>
                  <a:lnTo>
                    <a:pt x="57" y="1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1097640" y="5540760"/>
              <a:ext cx="237600" cy="372600"/>
            </a:xfrm>
            <a:custGeom>
              <a:avLst/>
              <a:gdLst/>
              <a:ahLst/>
              <a:rect l="l" t="t" r="r" b="b"/>
              <a:pathLst>
                <a:path w="188" h="295">
                  <a:moveTo>
                    <a:pt x="0" y="295"/>
                  </a:moveTo>
                  <a:lnTo>
                    <a:pt x="188" y="47"/>
                  </a:lnTo>
                  <a:lnTo>
                    <a:pt x="182" y="46"/>
                  </a:lnTo>
                  <a:lnTo>
                    <a:pt x="182" y="11"/>
                  </a:lnTo>
                  <a:lnTo>
                    <a:pt x="185" y="15"/>
                  </a:lnTo>
                  <a:lnTo>
                    <a:pt x="188" y="8"/>
                  </a:lnTo>
                  <a:lnTo>
                    <a:pt x="188" y="0"/>
                  </a:lnTo>
                  <a:lnTo>
                    <a:pt x="0" y="239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1034640" y="5430960"/>
              <a:ext cx="311040" cy="190800"/>
            </a:xfrm>
            <a:custGeom>
              <a:avLst/>
              <a:gdLst/>
              <a:ahLst/>
              <a:rect l="l" t="t" r="r" b="b"/>
              <a:pathLst>
                <a:path w="246" h="151">
                  <a:moveTo>
                    <a:pt x="238" y="151"/>
                  </a:moveTo>
                  <a:lnTo>
                    <a:pt x="244" y="141"/>
                  </a:lnTo>
                  <a:lnTo>
                    <a:pt x="245" y="137"/>
                  </a:lnTo>
                  <a:lnTo>
                    <a:pt x="246" y="134"/>
                  </a:lnTo>
                  <a:lnTo>
                    <a:pt x="246" y="55"/>
                  </a:lnTo>
                  <a:lnTo>
                    <a:pt x="245" y="52"/>
                  </a:lnTo>
                  <a:lnTo>
                    <a:pt x="242" y="49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46" y="19"/>
                  </a:lnTo>
                  <a:lnTo>
                    <a:pt x="54" y="12"/>
                  </a:lnTo>
                  <a:lnTo>
                    <a:pt x="187" y="41"/>
                  </a:lnTo>
                  <a:lnTo>
                    <a:pt x="187" y="43"/>
                  </a:lnTo>
                  <a:lnTo>
                    <a:pt x="183" y="48"/>
                  </a:lnTo>
                  <a:lnTo>
                    <a:pt x="235" y="60"/>
                  </a:lnTo>
                  <a:lnTo>
                    <a:pt x="237" y="62"/>
                  </a:lnTo>
                  <a:lnTo>
                    <a:pt x="238" y="67"/>
                  </a:lnTo>
                  <a:lnTo>
                    <a:pt x="238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1097640" y="5619240"/>
              <a:ext cx="239040" cy="328680"/>
            </a:xfrm>
            <a:custGeom>
              <a:avLst/>
              <a:gdLst/>
              <a:ahLst/>
              <a:rect l="l" t="t" r="r" b="b"/>
              <a:pathLst>
                <a:path w="189" h="260">
                  <a:moveTo>
                    <a:pt x="188" y="2"/>
                  </a:moveTo>
                  <a:lnTo>
                    <a:pt x="0" y="260"/>
                  </a:lnTo>
                  <a:lnTo>
                    <a:pt x="0" y="257"/>
                  </a:lnTo>
                  <a:lnTo>
                    <a:pt x="189" y="0"/>
                  </a:lnTo>
                  <a:lnTo>
                    <a:pt x="18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1097640" y="5510520"/>
              <a:ext cx="240120" cy="300600"/>
            </a:xfrm>
            <a:custGeom>
              <a:avLst/>
              <a:gdLst/>
              <a:ahLst/>
              <a:rect l="l" t="t" r="r" b="b"/>
              <a:pathLst>
                <a:path w="190" h="238">
                  <a:moveTo>
                    <a:pt x="1" y="238"/>
                  </a:moveTo>
                  <a:lnTo>
                    <a:pt x="190" y="3"/>
                  </a:lnTo>
                  <a:lnTo>
                    <a:pt x="188" y="0"/>
                  </a:lnTo>
                  <a:lnTo>
                    <a:pt x="0" y="231"/>
                  </a:lnTo>
                  <a:lnTo>
                    <a:pt x="1" y="2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807840" y="5480280"/>
              <a:ext cx="462960" cy="29592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0" y="176"/>
                  </a:moveTo>
                  <a:lnTo>
                    <a:pt x="163" y="226"/>
                  </a:lnTo>
                  <a:lnTo>
                    <a:pt x="366" y="0"/>
                  </a:lnTo>
                  <a:lnTo>
                    <a:pt x="366" y="5"/>
                  </a:lnTo>
                  <a:lnTo>
                    <a:pt x="162" y="234"/>
                  </a:lnTo>
                  <a:lnTo>
                    <a:pt x="0" y="184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1082520" y="5499000"/>
              <a:ext cx="245520" cy="300960"/>
            </a:xfrm>
            <a:custGeom>
              <a:avLst/>
              <a:gdLst/>
              <a:ahLst/>
              <a:rect l="l" t="t" r="r" b="b"/>
              <a:pathLst>
                <a:path w="194" h="238">
                  <a:moveTo>
                    <a:pt x="192" y="4"/>
                  </a:moveTo>
                  <a:lnTo>
                    <a:pt x="0" y="238"/>
                  </a:lnTo>
                  <a:lnTo>
                    <a:pt x="0" y="236"/>
                  </a:lnTo>
                  <a:lnTo>
                    <a:pt x="194" y="0"/>
                  </a:lnTo>
                  <a:lnTo>
                    <a:pt x="192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1066320" y="5497920"/>
              <a:ext cx="249120" cy="295560"/>
            </a:xfrm>
            <a:custGeom>
              <a:avLst/>
              <a:gdLst/>
              <a:ahLst/>
              <a:rect l="l" t="t" r="r" b="b"/>
              <a:pathLst>
                <a:path w="197" h="234">
                  <a:moveTo>
                    <a:pt x="1" y="234"/>
                  </a:moveTo>
                  <a:lnTo>
                    <a:pt x="197" y="0"/>
                  </a:lnTo>
                  <a:lnTo>
                    <a:pt x="196" y="0"/>
                  </a:lnTo>
                  <a:lnTo>
                    <a:pt x="0" y="234"/>
                  </a:lnTo>
                  <a:lnTo>
                    <a:pt x="1" y="23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1044720" y="5497920"/>
              <a:ext cx="251640" cy="294480"/>
            </a:xfrm>
            <a:custGeom>
              <a:avLst/>
              <a:gdLst/>
              <a:ahLst/>
              <a:rect l="l" t="t" r="r" b="b"/>
              <a:pathLst>
                <a:path w="199" h="233">
                  <a:moveTo>
                    <a:pt x="5" y="229"/>
                  </a:moveTo>
                  <a:lnTo>
                    <a:pt x="199" y="0"/>
                  </a:lnTo>
                  <a:lnTo>
                    <a:pt x="197" y="0"/>
                  </a:lnTo>
                  <a:lnTo>
                    <a:pt x="0" y="233"/>
                  </a:lnTo>
                  <a:lnTo>
                    <a:pt x="5" y="22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1028160" y="5492880"/>
              <a:ext cx="255240" cy="289440"/>
            </a:xfrm>
            <a:custGeom>
              <a:avLst/>
              <a:gdLst/>
              <a:ahLst/>
              <a:rect l="l" t="t" r="r" b="b"/>
              <a:pathLst>
                <a:path w="202" h="229">
                  <a:moveTo>
                    <a:pt x="201" y="2"/>
                  </a:moveTo>
                  <a:lnTo>
                    <a:pt x="2" y="229"/>
                  </a:lnTo>
                  <a:lnTo>
                    <a:pt x="0" y="229"/>
                  </a:lnTo>
                  <a:lnTo>
                    <a:pt x="202" y="0"/>
                  </a:lnTo>
                  <a:lnTo>
                    <a:pt x="20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807840" y="5446080"/>
              <a:ext cx="297360" cy="259200"/>
            </a:xfrm>
            <a:custGeom>
              <a:avLst/>
              <a:gdLst/>
              <a:ahLst/>
              <a:rect l="l" t="t" r="r" b="b"/>
              <a:pathLst>
                <a:path w="235" h="205">
                  <a:moveTo>
                    <a:pt x="0" y="203"/>
                  </a:moveTo>
                  <a:lnTo>
                    <a:pt x="233" y="0"/>
                  </a:lnTo>
                  <a:lnTo>
                    <a:pt x="235" y="0"/>
                  </a:lnTo>
                  <a:lnTo>
                    <a:pt x="0" y="205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84080" y="5452200"/>
              <a:ext cx="298080" cy="25380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3" y="200"/>
                  </a:moveTo>
                  <a:lnTo>
                    <a:pt x="236" y="0"/>
                  </a:lnTo>
                  <a:lnTo>
                    <a:pt x="235" y="0"/>
                  </a:lnTo>
                  <a:lnTo>
                    <a:pt x="0" y="201"/>
                  </a:lnTo>
                  <a:lnTo>
                    <a:pt x="3" y="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68960" y="5448600"/>
              <a:ext cx="303480" cy="251280"/>
            </a:xfrm>
            <a:custGeom>
              <a:avLst/>
              <a:gdLst/>
              <a:ahLst/>
              <a:rect l="l" t="t" r="r" b="b"/>
              <a:pathLst>
                <a:path w="240" h="199">
                  <a:moveTo>
                    <a:pt x="240" y="0"/>
                  </a:moveTo>
                  <a:lnTo>
                    <a:pt x="1" y="199"/>
                  </a:lnTo>
                  <a:lnTo>
                    <a:pt x="0" y="199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53840" y="5443560"/>
              <a:ext cx="309600" cy="253800"/>
            </a:xfrm>
            <a:custGeom>
              <a:avLst/>
              <a:gdLst/>
              <a:ahLst/>
              <a:rect l="l" t="t" r="r" b="b"/>
              <a:pathLst>
                <a:path w="245" h="201">
                  <a:moveTo>
                    <a:pt x="2" y="201"/>
                  </a:moveTo>
                  <a:lnTo>
                    <a:pt x="245" y="0"/>
                  </a:lnTo>
                  <a:lnTo>
                    <a:pt x="243" y="0"/>
                  </a:lnTo>
                  <a:lnTo>
                    <a:pt x="0" y="201"/>
                  </a:lnTo>
                  <a:lnTo>
                    <a:pt x="2" y="20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41240" y="5443560"/>
              <a:ext cx="307080" cy="249120"/>
            </a:xfrm>
            <a:custGeom>
              <a:avLst/>
              <a:gdLst/>
              <a:ahLst/>
              <a:rect l="l" t="t" r="r" b="b"/>
              <a:pathLst>
                <a:path w="243" h="197">
                  <a:moveTo>
                    <a:pt x="0" y="196"/>
                  </a:moveTo>
                  <a:lnTo>
                    <a:pt x="242" y="0"/>
                  </a:lnTo>
                  <a:lnTo>
                    <a:pt x="243" y="0"/>
                  </a:lnTo>
                  <a:lnTo>
                    <a:pt x="1" y="197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25760" y="5434560"/>
              <a:ext cx="321120" cy="255240"/>
            </a:xfrm>
            <a:custGeom>
              <a:avLst/>
              <a:gdLst/>
              <a:ahLst/>
              <a:rect l="l" t="t" r="r" b="b"/>
              <a:pathLst>
                <a:path w="254" h="202">
                  <a:moveTo>
                    <a:pt x="1" y="199"/>
                  </a:moveTo>
                  <a:lnTo>
                    <a:pt x="252" y="0"/>
                  </a:lnTo>
                  <a:lnTo>
                    <a:pt x="254" y="0"/>
                  </a:lnTo>
                  <a:lnTo>
                    <a:pt x="0" y="202"/>
                  </a:lnTo>
                  <a:lnTo>
                    <a:pt x="1" y="19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47360" y="5812920"/>
              <a:ext cx="68040" cy="277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19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54" y="22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843480" y="5791320"/>
              <a:ext cx="1620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2"/>
                  </a:moveTo>
                  <a:lnTo>
                    <a:pt x="13" y="9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869760" y="5800320"/>
              <a:ext cx="17640" cy="277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11"/>
                  </a:move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897840" y="5808960"/>
              <a:ext cx="16560" cy="26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924480" y="5816520"/>
              <a:ext cx="1620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1"/>
                  </a:moveTo>
                  <a:lnTo>
                    <a:pt x="13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951120" y="5825520"/>
              <a:ext cx="1620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1"/>
                  </a:move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978840" y="5834520"/>
              <a:ext cx="1620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1"/>
                  </a:moveTo>
                  <a:lnTo>
                    <a:pt x="13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1005480" y="5843160"/>
              <a:ext cx="1656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0"/>
                  </a:moveTo>
                  <a:lnTo>
                    <a:pt x="13" y="8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1032120" y="5850720"/>
              <a:ext cx="1620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1"/>
                  </a:moveTo>
                  <a:lnTo>
                    <a:pt x="13" y="9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847080" y="5797800"/>
              <a:ext cx="9720" cy="162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7"/>
                  </a:move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874080" y="5805000"/>
              <a:ext cx="9720" cy="176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7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900360" y="5814000"/>
              <a:ext cx="10080" cy="162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7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927000" y="582300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6"/>
                  </a:move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954720" y="5830200"/>
              <a:ext cx="9720" cy="176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7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981360" y="5839200"/>
              <a:ext cx="9720" cy="16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7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1008000" y="584820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1034640" y="5855760"/>
              <a:ext cx="11160" cy="172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7"/>
                  </a:moveTo>
                  <a:lnTo>
                    <a:pt x="9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81960" y="5886000"/>
              <a:ext cx="52956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572760" y="6068160"/>
              <a:ext cx="17892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9" name=""/>
          <p:cNvSpPr/>
          <p:nvPr/>
        </p:nvSpPr>
        <p:spPr>
          <a:xfrm flipV="1">
            <a:off x="1243080" y="5076720"/>
            <a:ext cx="463320" cy="2318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1166760" y="5259240"/>
            <a:ext cx="108000" cy="87480"/>
          </a:xfrm>
          <a:custGeom>
            <a:avLst/>
            <a:gdLst/>
            <a:ahLst/>
            <a:rect l="l" t="t" r="r" b="b"/>
            <a:pathLst>
              <a:path w="85" h="69">
                <a:moveTo>
                  <a:pt x="85" y="69"/>
                </a:moveTo>
                <a:lnTo>
                  <a:pt x="0" y="69"/>
                </a:lnTo>
                <a:lnTo>
                  <a:pt x="51" y="0"/>
                </a:lnTo>
                <a:lnTo>
                  <a:pt x="85" y="6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 rot="19980000">
            <a:off x="1140120" y="5058000"/>
            <a:ext cx="5630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.1 Traf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2111040" y="4352760"/>
            <a:ext cx="529560" cy="1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B 2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2252880" y="4533840"/>
            <a:ext cx="272160" cy="1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>
            <a:off x="1474920" y="4578480"/>
            <a:ext cx="1076040" cy="461880"/>
          </a:xfrm>
          <a:custGeom>
            <a:avLst/>
            <a:gdLst/>
            <a:ahLst/>
            <a:rect l="l" t="t" r="r" b="b"/>
            <a:pathLst>
              <a:path w="849" h="364">
                <a:moveTo>
                  <a:pt x="11" y="49"/>
                </a:moveTo>
                <a:lnTo>
                  <a:pt x="430" y="0"/>
                </a:lnTo>
                <a:lnTo>
                  <a:pt x="835" y="184"/>
                </a:lnTo>
                <a:lnTo>
                  <a:pt x="835" y="184"/>
                </a:lnTo>
                <a:lnTo>
                  <a:pt x="849" y="212"/>
                </a:lnTo>
                <a:lnTo>
                  <a:pt x="849" y="287"/>
                </a:lnTo>
                <a:lnTo>
                  <a:pt x="288" y="364"/>
                </a:lnTo>
                <a:lnTo>
                  <a:pt x="289" y="362"/>
                </a:lnTo>
                <a:lnTo>
                  <a:pt x="0" y="141"/>
                </a:lnTo>
                <a:lnTo>
                  <a:pt x="0" y="75"/>
                </a:lnTo>
                <a:lnTo>
                  <a:pt x="11" y="4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1488960" y="4573440"/>
            <a:ext cx="536760" cy="73080"/>
          </a:xfrm>
          <a:custGeom>
            <a:avLst/>
            <a:gdLst/>
            <a:ahLst/>
            <a:rect l="l" t="t" r="r" b="b"/>
            <a:pathLst>
              <a:path w="423" h="57">
                <a:moveTo>
                  <a:pt x="421" y="0"/>
                </a:moveTo>
                <a:lnTo>
                  <a:pt x="419" y="0"/>
                </a:lnTo>
                <a:lnTo>
                  <a:pt x="0" y="49"/>
                </a:lnTo>
                <a:lnTo>
                  <a:pt x="0" y="57"/>
                </a:lnTo>
                <a:lnTo>
                  <a:pt x="419" y="8"/>
                </a:lnTo>
                <a:lnTo>
                  <a:pt x="417" y="8"/>
                </a:lnTo>
                <a:lnTo>
                  <a:pt x="419" y="8"/>
                </a:lnTo>
                <a:lnTo>
                  <a:pt x="422" y="7"/>
                </a:lnTo>
                <a:lnTo>
                  <a:pt x="423" y="4"/>
                </a:lnTo>
                <a:lnTo>
                  <a:pt x="422" y="1"/>
                </a:lnTo>
                <a:lnTo>
                  <a:pt x="419" y="0"/>
                </a:lnTo>
                <a:lnTo>
                  <a:pt x="42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2017800" y="4573440"/>
            <a:ext cx="520560" cy="243000"/>
          </a:xfrm>
          <a:custGeom>
            <a:avLst/>
            <a:gdLst/>
            <a:ahLst/>
            <a:rect l="l" t="t" r="r" b="b"/>
            <a:pathLst>
              <a:path w="411" h="192">
                <a:moveTo>
                  <a:pt x="411" y="186"/>
                </a:moveTo>
                <a:lnTo>
                  <a:pt x="409" y="184"/>
                </a:lnTo>
                <a:lnTo>
                  <a:pt x="4" y="0"/>
                </a:lnTo>
                <a:lnTo>
                  <a:pt x="0" y="8"/>
                </a:lnTo>
                <a:lnTo>
                  <a:pt x="405" y="192"/>
                </a:lnTo>
                <a:lnTo>
                  <a:pt x="403" y="190"/>
                </a:lnTo>
                <a:lnTo>
                  <a:pt x="405" y="192"/>
                </a:lnTo>
                <a:lnTo>
                  <a:pt x="408" y="192"/>
                </a:lnTo>
                <a:lnTo>
                  <a:pt x="411" y="189"/>
                </a:lnTo>
                <a:lnTo>
                  <a:pt x="411" y="186"/>
                </a:lnTo>
                <a:lnTo>
                  <a:pt x="409" y="184"/>
                </a:lnTo>
                <a:lnTo>
                  <a:pt x="411" y="18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>
            <a:off x="2527200" y="4807080"/>
            <a:ext cx="11160" cy="93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2"/>
                </a:move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0" y="6"/>
                </a:lnTo>
                <a:lnTo>
                  <a:pt x="2" y="8"/>
                </a:lnTo>
                <a:lnTo>
                  <a:pt x="5" y="8"/>
                </a:lnTo>
                <a:lnTo>
                  <a:pt x="8" y="5"/>
                </a:lnTo>
                <a:lnTo>
                  <a:pt x="8" y="2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>
            <a:off x="2527200" y="4809960"/>
            <a:ext cx="30240" cy="43200"/>
          </a:xfrm>
          <a:custGeom>
            <a:avLst/>
            <a:gdLst/>
            <a:ahLst/>
            <a:rect l="l" t="t" r="r" b="b"/>
            <a:pathLst>
              <a:path w="23" h="34">
                <a:moveTo>
                  <a:pt x="23" y="30"/>
                </a:moveTo>
                <a:lnTo>
                  <a:pt x="22" y="27"/>
                </a:lnTo>
                <a:lnTo>
                  <a:pt x="8" y="0"/>
                </a:lnTo>
                <a:lnTo>
                  <a:pt x="0" y="4"/>
                </a:lnTo>
                <a:lnTo>
                  <a:pt x="14" y="32"/>
                </a:lnTo>
                <a:lnTo>
                  <a:pt x="13" y="30"/>
                </a:lnTo>
                <a:lnTo>
                  <a:pt x="14" y="32"/>
                </a:lnTo>
                <a:lnTo>
                  <a:pt x="16" y="34"/>
                </a:lnTo>
                <a:lnTo>
                  <a:pt x="20" y="34"/>
                </a:lnTo>
                <a:lnTo>
                  <a:pt x="22" y="31"/>
                </a:lnTo>
                <a:lnTo>
                  <a:pt x="22" y="27"/>
                </a:lnTo>
                <a:lnTo>
                  <a:pt x="23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2544840" y="4848120"/>
            <a:ext cx="12600" cy="100080"/>
          </a:xfrm>
          <a:custGeom>
            <a:avLst/>
            <a:gdLst/>
            <a:ahLst/>
            <a:rect l="l" t="t" r="r" b="b"/>
            <a:pathLst>
              <a:path w="10" h="79">
                <a:moveTo>
                  <a:pt x="5" y="79"/>
                </a:moveTo>
                <a:lnTo>
                  <a:pt x="10" y="75"/>
                </a:lnTo>
                <a:lnTo>
                  <a:pt x="10" y="0"/>
                </a:lnTo>
                <a:lnTo>
                  <a:pt x="0" y="0"/>
                </a:lnTo>
                <a:lnTo>
                  <a:pt x="0" y="75"/>
                </a:lnTo>
                <a:lnTo>
                  <a:pt x="5" y="71"/>
                </a:lnTo>
                <a:lnTo>
                  <a:pt x="0" y="75"/>
                </a:lnTo>
                <a:lnTo>
                  <a:pt x="2" y="78"/>
                </a:lnTo>
                <a:lnTo>
                  <a:pt x="5" y="79"/>
                </a:lnTo>
                <a:lnTo>
                  <a:pt x="8" y="78"/>
                </a:lnTo>
                <a:lnTo>
                  <a:pt x="10" y="75"/>
                </a:lnTo>
                <a:lnTo>
                  <a:pt x="5" y="7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1835280" y="4937040"/>
            <a:ext cx="715680" cy="108000"/>
          </a:xfrm>
          <a:custGeom>
            <a:avLst/>
            <a:gdLst/>
            <a:ahLst/>
            <a:rect l="l" t="t" r="r" b="b"/>
            <a:pathLst>
              <a:path w="565" h="85">
                <a:moveTo>
                  <a:pt x="1" y="77"/>
                </a:moveTo>
                <a:lnTo>
                  <a:pt x="4" y="85"/>
                </a:lnTo>
                <a:lnTo>
                  <a:pt x="565" y="8"/>
                </a:lnTo>
                <a:lnTo>
                  <a:pt x="565" y="0"/>
                </a:lnTo>
                <a:lnTo>
                  <a:pt x="4" y="76"/>
                </a:lnTo>
                <a:lnTo>
                  <a:pt x="7" y="84"/>
                </a:lnTo>
                <a:lnTo>
                  <a:pt x="4" y="76"/>
                </a:lnTo>
                <a:lnTo>
                  <a:pt x="1" y="77"/>
                </a:lnTo>
                <a:lnTo>
                  <a:pt x="0" y="81"/>
                </a:lnTo>
                <a:lnTo>
                  <a:pt x="1" y="84"/>
                </a:lnTo>
                <a:lnTo>
                  <a:pt x="4" y="85"/>
                </a:lnTo>
                <a:lnTo>
                  <a:pt x="1" y="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1836720" y="5032440"/>
            <a:ext cx="972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1" y="8"/>
                </a:moveTo>
                <a:lnTo>
                  <a:pt x="1" y="1"/>
                </a:lnTo>
                <a:lnTo>
                  <a:pt x="0" y="2"/>
                </a:lnTo>
                <a:lnTo>
                  <a:pt x="6" y="9"/>
                </a:lnTo>
                <a:lnTo>
                  <a:pt x="7" y="8"/>
                </a:lnTo>
                <a:lnTo>
                  <a:pt x="7" y="1"/>
                </a:lnTo>
                <a:lnTo>
                  <a:pt x="7" y="8"/>
                </a:lnTo>
                <a:lnTo>
                  <a:pt x="8" y="4"/>
                </a:lnTo>
                <a:lnTo>
                  <a:pt x="7" y="1"/>
                </a:lnTo>
                <a:lnTo>
                  <a:pt x="4" y="0"/>
                </a:lnTo>
                <a:lnTo>
                  <a:pt x="1" y="1"/>
                </a:lnTo>
                <a:lnTo>
                  <a:pt x="1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1468440" y="4753080"/>
            <a:ext cx="376200" cy="288720"/>
          </a:xfrm>
          <a:custGeom>
            <a:avLst/>
            <a:gdLst/>
            <a:ahLst/>
            <a:rect l="l" t="t" r="r" b="b"/>
            <a:pathLst>
              <a:path w="298" h="229">
                <a:moveTo>
                  <a:pt x="0" y="4"/>
                </a:moveTo>
                <a:lnTo>
                  <a:pt x="3" y="8"/>
                </a:lnTo>
                <a:lnTo>
                  <a:pt x="292" y="229"/>
                </a:lnTo>
                <a:lnTo>
                  <a:pt x="298" y="222"/>
                </a:lnTo>
                <a:lnTo>
                  <a:pt x="9" y="1"/>
                </a:lnTo>
                <a:lnTo>
                  <a:pt x="11" y="4"/>
                </a:lnTo>
                <a:lnTo>
                  <a:pt x="9" y="1"/>
                </a:lnTo>
                <a:lnTo>
                  <a:pt x="6" y="0"/>
                </a:lnTo>
                <a:lnTo>
                  <a:pt x="3" y="1"/>
                </a:lnTo>
                <a:lnTo>
                  <a:pt x="1" y="4"/>
                </a:lnTo>
                <a:lnTo>
                  <a:pt x="3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1468440" y="4667400"/>
            <a:ext cx="12600" cy="90360"/>
          </a:xfrm>
          <a:custGeom>
            <a:avLst/>
            <a:gdLst/>
            <a:ahLst/>
            <a:rect l="l" t="t" r="r" b="b"/>
            <a:pathLst>
              <a:path w="11" h="71">
                <a:moveTo>
                  <a:pt x="1" y="3"/>
                </a:moveTo>
                <a:lnTo>
                  <a:pt x="0" y="5"/>
                </a:lnTo>
                <a:lnTo>
                  <a:pt x="0" y="71"/>
                </a:lnTo>
                <a:lnTo>
                  <a:pt x="11" y="71"/>
                </a:lnTo>
                <a:lnTo>
                  <a:pt x="11" y="5"/>
                </a:lnTo>
                <a:lnTo>
                  <a:pt x="10" y="8"/>
                </a:lnTo>
                <a:lnTo>
                  <a:pt x="11" y="5"/>
                </a:lnTo>
                <a:lnTo>
                  <a:pt x="9" y="2"/>
                </a:lnTo>
                <a:lnTo>
                  <a:pt x="6" y="0"/>
                </a:lnTo>
                <a:lnTo>
                  <a:pt x="3" y="2"/>
                </a:lnTo>
                <a:lnTo>
                  <a:pt x="0" y="5"/>
                </a:lnTo>
                <a:lnTo>
                  <a:pt x="1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1468440" y="4635360"/>
            <a:ext cx="27000" cy="42840"/>
          </a:xfrm>
          <a:custGeom>
            <a:avLst/>
            <a:gdLst/>
            <a:ahLst/>
            <a:rect l="l" t="t" r="r" b="b"/>
            <a:pathLst>
              <a:path w="21" h="33">
                <a:moveTo>
                  <a:pt x="16" y="0"/>
                </a:moveTo>
                <a:lnTo>
                  <a:pt x="12" y="2"/>
                </a:lnTo>
                <a:lnTo>
                  <a:pt x="0" y="28"/>
                </a:lnTo>
                <a:lnTo>
                  <a:pt x="9" y="33"/>
                </a:lnTo>
                <a:lnTo>
                  <a:pt x="21" y="6"/>
                </a:lnTo>
                <a:lnTo>
                  <a:pt x="16" y="8"/>
                </a:lnTo>
                <a:lnTo>
                  <a:pt x="21" y="6"/>
                </a:lnTo>
                <a:lnTo>
                  <a:pt x="21" y="3"/>
                </a:lnTo>
                <a:lnTo>
                  <a:pt x="19" y="0"/>
                </a:lnTo>
                <a:lnTo>
                  <a:pt x="14" y="0"/>
                </a:lnTo>
                <a:lnTo>
                  <a:pt x="12" y="2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>
            <a:off x="1474920" y="4673520"/>
            <a:ext cx="365040" cy="3668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288" y="289"/>
                </a:moveTo>
                <a:lnTo>
                  <a:pt x="0" y="66"/>
                </a:lnTo>
                <a:lnTo>
                  <a:pt x="0" y="0"/>
                </a:lnTo>
                <a:lnTo>
                  <a:pt x="288" y="198"/>
                </a:lnTo>
                <a:lnTo>
                  <a:pt x="288" y="2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1468440" y="4753080"/>
            <a:ext cx="376200" cy="290520"/>
          </a:xfrm>
          <a:custGeom>
            <a:avLst/>
            <a:gdLst/>
            <a:ahLst/>
            <a:rect l="l" t="t" r="r" b="b"/>
            <a:pathLst>
              <a:path w="297" h="230">
                <a:moveTo>
                  <a:pt x="0" y="4"/>
                </a:moveTo>
                <a:lnTo>
                  <a:pt x="3" y="8"/>
                </a:lnTo>
                <a:lnTo>
                  <a:pt x="291" y="230"/>
                </a:lnTo>
                <a:lnTo>
                  <a:pt x="297" y="223"/>
                </a:lnTo>
                <a:lnTo>
                  <a:pt x="9" y="1"/>
                </a:lnTo>
                <a:lnTo>
                  <a:pt x="11" y="4"/>
                </a:lnTo>
                <a:lnTo>
                  <a:pt x="9" y="1"/>
                </a:lnTo>
                <a:lnTo>
                  <a:pt x="6" y="0"/>
                </a:lnTo>
                <a:lnTo>
                  <a:pt x="3" y="1"/>
                </a:lnTo>
                <a:lnTo>
                  <a:pt x="1" y="4"/>
                </a:lnTo>
                <a:lnTo>
                  <a:pt x="3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1468440" y="4667400"/>
            <a:ext cx="12600" cy="90360"/>
          </a:xfrm>
          <a:custGeom>
            <a:avLst/>
            <a:gdLst/>
            <a:ahLst/>
            <a:rect l="l" t="t" r="r" b="b"/>
            <a:pathLst>
              <a:path w="11" h="71">
                <a:moveTo>
                  <a:pt x="8" y="1"/>
                </a:moveTo>
                <a:lnTo>
                  <a:pt x="0" y="5"/>
                </a:lnTo>
                <a:lnTo>
                  <a:pt x="0" y="71"/>
                </a:lnTo>
                <a:lnTo>
                  <a:pt x="11" y="71"/>
                </a:lnTo>
                <a:lnTo>
                  <a:pt x="11" y="5"/>
                </a:lnTo>
                <a:lnTo>
                  <a:pt x="4" y="10"/>
                </a:lnTo>
                <a:lnTo>
                  <a:pt x="11" y="5"/>
                </a:lnTo>
                <a:lnTo>
                  <a:pt x="9" y="2"/>
                </a:lnTo>
                <a:lnTo>
                  <a:pt x="6" y="0"/>
                </a:lnTo>
                <a:lnTo>
                  <a:pt x="3" y="2"/>
                </a:lnTo>
                <a:lnTo>
                  <a:pt x="0" y="5"/>
                </a:lnTo>
                <a:lnTo>
                  <a:pt x="8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1473120" y="4668840"/>
            <a:ext cx="373320" cy="260280"/>
          </a:xfrm>
          <a:custGeom>
            <a:avLst/>
            <a:gdLst/>
            <a:ahLst/>
            <a:rect l="l" t="t" r="r" b="b"/>
            <a:pathLst>
              <a:path w="295" h="206">
                <a:moveTo>
                  <a:pt x="295" y="202"/>
                </a:moveTo>
                <a:lnTo>
                  <a:pt x="292" y="198"/>
                </a:lnTo>
                <a:lnTo>
                  <a:pt x="4" y="0"/>
                </a:lnTo>
                <a:lnTo>
                  <a:pt x="0" y="9"/>
                </a:lnTo>
                <a:lnTo>
                  <a:pt x="288" y="206"/>
                </a:lnTo>
                <a:lnTo>
                  <a:pt x="285" y="202"/>
                </a:lnTo>
                <a:lnTo>
                  <a:pt x="288" y="206"/>
                </a:lnTo>
                <a:lnTo>
                  <a:pt x="291" y="206"/>
                </a:lnTo>
                <a:lnTo>
                  <a:pt x="294" y="203"/>
                </a:lnTo>
                <a:lnTo>
                  <a:pt x="294" y="200"/>
                </a:lnTo>
                <a:lnTo>
                  <a:pt x="292" y="198"/>
                </a:lnTo>
                <a:lnTo>
                  <a:pt x="295" y="20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1833480" y="4924440"/>
            <a:ext cx="12960" cy="120600"/>
          </a:xfrm>
          <a:custGeom>
            <a:avLst/>
            <a:gdLst/>
            <a:ahLst/>
            <a:rect l="l" t="t" r="r" b="b"/>
            <a:pathLst>
              <a:path w="10" h="95">
                <a:moveTo>
                  <a:pt x="2" y="94"/>
                </a:moveTo>
                <a:lnTo>
                  <a:pt x="10" y="91"/>
                </a:lnTo>
                <a:lnTo>
                  <a:pt x="10" y="0"/>
                </a:lnTo>
                <a:lnTo>
                  <a:pt x="0" y="0"/>
                </a:lnTo>
                <a:lnTo>
                  <a:pt x="0" y="91"/>
                </a:lnTo>
                <a:lnTo>
                  <a:pt x="8" y="87"/>
                </a:lnTo>
                <a:lnTo>
                  <a:pt x="0" y="91"/>
                </a:lnTo>
                <a:lnTo>
                  <a:pt x="2" y="94"/>
                </a:lnTo>
                <a:lnTo>
                  <a:pt x="5" y="95"/>
                </a:lnTo>
                <a:lnTo>
                  <a:pt x="8" y="94"/>
                </a:lnTo>
                <a:lnTo>
                  <a:pt x="10" y="91"/>
                </a:lnTo>
                <a:lnTo>
                  <a:pt x="2" y="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1474920" y="4640400"/>
            <a:ext cx="382320" cy="284040"/>
          </a:xfrm>
          <a:custGeom>
            <a:avLst/>
            <a:gdLst/>
            <a:ahLst/>
            <a:rect l="l" t="t" r="r" b="b"/>
            <a:pathLst>
              <a:path w="302" h="224">
                <a:moveTo>
                  <a:pt x="288" y="224"/>
                </a:moveTo>
                <a:lnTo>
                  <a:pt x="302" y="198"/>
                </a:lnTo>
                <a:lnTo>
                  <a:pt x="11" y="0"/>
                </a:lnTo>
                <a:lnTo>
                  <a:pt x="0" y="26"/>
                </a:lnTo>
                <a:lnTo>
                  <a:pt x="288" y="2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1835280" y="4884840"/>
            <a:ext cx="28440" cy="42840"/>
          </a:xfrm>
          <a:custGeom>
            <a:avLst/>
            <a:gdLst/>
            <a:ahLst/>
            <a:rect l="l" t="t" r="r" b="b"/>
            <a:pathLst>
              <a:path w="22" h="33">
                <a:moveTo>
                  <a:pt x="16" y="9"/>
                </a:moveTo>
                <a:lnTo>
                  <a:pt x="14" y="2"/>
                </a:lnTo>
                <a:lnTo>
                  <a:pt x="0" y="29"/>
                </a:lnTo>
                <a:lnTo>
                  <a:pt x="8" y="33"/>
                </a:lnTo>
                <a:lnTo>
                  <a:pt x="22" y="7"/>
                </a:lnTo>
                <a:lnTo>
                  <a:pt x="20" y="0"/>
                </a:lnTo>
                <a:lnTo>
                  <a:pt x="22" y="7"/>
                </a:lnTo>
                <a:lnTo>
                  <a:pt x="22" y="4"/>
                </a:lnTo>
                <a:lnTo>
                  <a:pt x="20" y="0"/>
                </a:lnTo>
                <a:lnTo>
                  <a:pt x="16" y="0"/>
                </a:lnTo>
                <a:lnTo>
                  <a:pt x="14" y="2"/>
                </a:lnTo>
                <a:lnTo>
                  <a:pt x="16" y="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1484280" y="4635360"/>
            <a:ext cx="376200" cy="262080"/>
          </a:xfrm>
          <a:custGeom>
            <a:avLst/>
            <a:gdLst/>
            <a:ahLst/>
            <a:rect l="l" t="t" r="r" b="b"/>
            <a:pathLst>
              <a:path w="297" h="206">
                <a:moveTo>
                  <a:pt x="9" y="6"/>
                </a:moveTo>
                <a:lnTo>
                  <a:pt x="2" y="8"/>
                </a:lnTo>
                <a:lnTo>
                  <a:pt x="293" y="206"/>
                </a:lnTo>
                <a:lnTo>
                  <a:pt x="297" y="197"/>
                </a:lnTo>
                <a:lnTo>
                  <a:pt x="7" y="0"/>
                </a:lnTo>
                <a:lnTo>
                  <a:pt x="0" y="2"/>
                </a:lnTo>
                <a:lnTo>
                  <a:pt x="7" y="0"/>
                </a:lnTo>
                <a:lnTo>
                  <a:pt x="3" y="0"/>
                </a:lnTo>
                <a:lnTo>
                  <a:pt x="0" y="2"/>
                </a:lnTo>
                <a:lnTo>
                  <a:pt x="0" y="6"/>
                </a:lnTo>
                <a:lnTo>
                  <a:pt x="2" y="8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1468440" y="4638600"/>
            <a:ext cx="27000" cy="41400"/>
          </a:xfrm>
          <a:custGeom>
            <a:avLst/>
            <a:gdLst/>
            <a:ahLst/>
            <a:rect l="l" t="t" r="r" b="b"/>
            <a:pathLst>
              <a:path w="21" h="33">
                <a:moveTo>
                  <a:pt x="7" y="24"/>
                </a:moveTo>
                <a:lnTo>
                  <a:pt x="9" y="31"/>
                </a:lnTo>
                <a:lnTo>
                  <a:pt x="21" y="4"/>
                </a:lnTo>
                <a:lnTo>
                  <a:pt x="12" y="0"/>
                </a:lnTo>
                <a:lnTo>
                  <a:pt x="0" y="26"/>
                </a:lnTo>
                <a:lnTo>
                  <a:pt x="3" y="33"/>
                </a:lnTo>
                <a:lnTo>
                  <a:pt x="0" y="26"/>
                </a:lnTo>
                <a:lnTo>
                  <a:pt x="0" y="30"/>
                </a:lnTo>
                <a:lnTo>
                  <a:pt x="4" y="33"/>
                </a:lnTo>
                <a:lnTo>
                  <a:pt x="7" y="33"/>
                </a:lnTo>
                <a:lnTo>
                  <a:pt x="9" y="31"/>
                </a:lnTo>
                <a:lnTo>
                  <a:pt x="7" y="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1473120" y="4668840"/>
            <a:ext cx="371520" cy="260280"/>
          </a:xfrm>
          <a:custGeom>
            <a:avLst/>
            <a:gdLst/>
            <a:ahLst/>
            <a:rect l="l" t="t" r="r" b="b"/>
            <a:pathLst>
              <a:path w="294" h="206">
                <a:moveTo>
                  <a:pt x="286" y="200"/>
                </a:moveTo>
                <a:lnTo>
                  <a:pt x="292" y="198"/>
                </a:lnTo>
                <a:lnTo>
                  <a:pt x="4" y="0"/>
                </a:lnTo>
                <a:lnTo>
                  <a:pt x="0" y="9"/>
                </a:lnTo>
                <a:lnTo>
                  <a:pt x="288" y="206"/>
                </a:lnTo>
                <a:lnTo>
                  <a:pt x="294" y="204"/>
                </a:lnTo>
                <a:lnTo>
                  <a:pt x="288" y="206"/>
                </a:lnTo>
                <a:lnTo>
                  <a:pt x="291" y="206"/>
                </a:lnTo>
                <a:lnTo>
                  <a:pt x="294" y="203"/>
                </a:lnTo>
                <a:lnTo>
                  <a:pt x="294" y="200"/>
                </a:lnTo>
                <a:lnTo>
                  <a:pt x="292" y="198"/>
                </a:lnTo>
                <a:lnTo>
                  <a:pt x="286" y="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>
            <a:off x="1839960" y="4811760"/>
            <a:ext cx="711000" cy="228600"/>
          </a:xfrm>
          <a:custGeom>
            <a:avLst/>
            <a:gdLst/>
            <a:ahLst/>
            <a:rect l="l" t="t" r="r" b="b"/>
            <a:pathLst>
              <a:path w="561" h="180">
                <a:moveTo>
                  <a:pt x="0" y="180"/>
                </a:moveTo>
                <a:lnTo>
                  <a:pt x="0" y="89"/>
                </a:lnTo>
                <a:lnTo>
                  <a:pt x="14" y="63"/>
                </a:lnTo>
                <a:lnTo>
                  <a:pt x="547" y="0"/>
                </a:lnTo>
                <a:lnTo>
                  <a:pt x="561" y="28"/>
                </a:lnTo>
                <a:lnTo>
                  <a:pt x="561" y="103"/>
                </a:lnTo>
                <a:lnTo>
                  <a:pt x="0" y="18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1833480" y="4917960"/>
            <a:ext cx="12960" cy="122400"/>
          </a:xfrm>
          <a:custGeom>
            <a:avLst/>
            <a:gdLst/>
            <a:ahLst/>
            <a:rect l="l" t="t" r="r" b="b"/>
            <a:pathLst>
              <a:path w="10" h="96">
                <a:moveTo>
                  <a:pt x="1" y="3"/>
                </a:moveTo>
                <a:lnTo>
                  <a:pt x="0" y="5"/>
                </a:lnTo>
                <a:lnTo>
                  <a:pt x="0" y="96"/>
                </a:lnTo>
                <a:lnTo>
                  <a:pt x="10" y="96"/>
                </a:lnTo>
                <a:lnTo>
                  <a:pt x="10" y="5"/>
                </a:lnTo>
                <a:lnTo>
                  <a:pt x="9" y="7"/>
                </a:lnTo>
                <a:lnTo>
                  <a:pt x="10" y="5"/>
                </a:lnTo>
                <a:lnTo>
                  <a:pt x="8" y="2"/>
                </a:lnTo>
                <a:lnTo>
                  <a:pt x="5" y="0"/>
                </a:lnTo>
                <a:lnTo>
                  <a:pt x="2" y="2"/>
                </a:lnTo>
                <a:lnTo>
                  <a:pt x="0" y="5"/>
                </a:lnTo>
                <a:lnTo>
                  <a:pt x="1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1835280" y="4884840"/>
            <a:ext cx="28440" cy="42840"/>
          </a:xfrm>
          <a:custGeom>
            <a:avLst/>
            <a:gdLst/>
            <a:ahLst/>
            <a:rect l="l" t="t" r="r" b="b"/>
            <a:pathLst>
              <a:path w="22" h="33">
                <a:moveTo>
                  <a:pt x="18" y="0"/>
                </a:moveTo>
                <a:lnTo>
                  <a:pt x="14" y="2"/>
                </a:lnTo>
                <a:lnTo>
                  <a:pt x="0" y="29"/>
                </a:lnTo>
                <a:lnTo>
                  <a:pt x="8" y="33"/>
                </a:lnTo>
                <a:lnTo>
                  <a:pt x="22" y="7"/>
                </a:lnTo>
                <a:lnTo>
                  <a:pt x="18" y="9"/>
                </a:lnTo>
                <a:lnTo>
                  <a:pt x="22" y="7"/>
                </a:lnTo>
                <a:lnTo>
                  <a:pt x="22" y="4"/>
                </a:lnTo>
                <a:lnTo>
                  <a:pt x="20" y="0"/>
                </a:lnTo>
                <a:lnTo>
                  <a:pt x="16" y="0"/>
                </a:lnTo>
                <a:lnTo>
                  <a:pt x="14" y="2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857240" y="4807080"/>
            <a:ext cx="681120" cy="90360"/>
          </a:xfrm>
          <a:custGeom>
            <a:avLst/>
            <a:gdLst/>
            <a:ahLst/>
            <a:rect l="l" t="t" r="r" b="b"/>
            <a:pathLst>
              <a:path w="537" h="71">
                <a:moveTo>
                  <a:pt x="537" y="2"/>
                </a:moveTo>
                <a:lnTo>
                  <a:pt x="533" y="0"/>
                </a:lnTo>
                <a:lnTo>
                  <a:pt x="0" y="62"/>
                </a:lnTo>
                <a:lnTo>
                  <a:pt x="0" y="71"/>
                </a:lnTo>
                <a:lnTo>
                  <a:pt x="533" y="8"/>
                </a:lnTo>
                <a:lnTo>
                  <a:pt x="529" y="6"/>
                </a:lnTo>
                <a:lnTo>
                  <a:pt x="533" y="8"/>
                </a:lnTo>
                <a:lnTo>
                  <a:pt x="536" y="7"/>
                </a:lnTo>
                <a:lnTo>
                  <a:pt x="537" y="4"/>
                </a:lnTo>
                <a:lnTo>
                  <a:pt x="536" y="1"/>
                </a:lnTo>
                <a:lnTo>
                  <a:pt x="533" y="0"/>
                </a:lnTo>
                <a:lnTo>
                  <a:pt x="537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527200" y="4809960"/>
            <a:ext cx="30240" cy="43200"/>
          </a:xfrm>
          <a:custGeom>
            <a:avLst/>
            <a:gdLst/>
            <a:ahLst/>
            <a:rect l="l" t="t" r="r" b="b"/>
            <a:pathLst>
              <a:path w="23" h="34">
                <a:moveTo>
                  <a:pt x="23" y="30"/>
                </a:moveTo>
                <a:lnTo>
                  <a:pt x="22" y="27"/>
                </a:lnTo>
                <a:lnTo>
                  <a:pt x="8" y="0"/>
                </a:lnTo>
                <a:lnTo>
                  <a:pt x="0" y="4"/>
                </a:lnTo>
                <a:lnTo>
                  <a:pt x="14" y="32"/>
                </a:lnTo>
                <a:lnTo>
                  <a:pt x="13" y="30"/>
                </a:lnTo>
                <a:lnTo>
                  <a:pt x="14" y="32"/>
                </a:lnTo>
                <a:lnTo>
                  <a:pt x="16" y="34"/>
                </a:lnTo>
                <a:lnTo>
                  <a:pt x="20" y="34"/>
                </a:lnTo>
                <a:lnTo>
                  <a:pt x="22" y="31"/>
                </a:lnTo>
                <a:lnTo>
                  <a:pt x="22" y="27"/>
                </a:lnTo>
                <a:lnTo>
                  <a:pt x="23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2544840" y="4848120"/>
            <a:ext cx="12600" cy="100080"/>
          </a:xfrm>
          <a:custGeom>
            <a:avLst/>
            <a:gdLst/>
            <a:ahLst/>
            <a:rect l="l" t="t" r="r" b="b"/>
            <a:pathLst>
              <a:path w="10" h="79">
                <a:moveTo>
                  <a:pt x="5" y="79"/>
                </a:moveTo>
                <a:lnTo>
                  <a:pt x="10" y="75"/>
                </a:lnTo>
                <a:lnTo>
                  <a:pt x="10" y="0"/>
                </a:lnTo>
                <a:lnTo>
                  <a:pt x="0" y="0"/>
                </a:lnTo>
                <a:lnTo>
                  <a:pt x="0" y="75"/>
                </a:lnTo>
                <a:lnTo>
                  <a:pt x="5" y="71"/>
                </a:lnTo>
                <a:lnTo>
                  <a:pt x="0" y="75"/>
                </a:lnTo>
                <a:lnTo>
                  <a:pt x="2" y="78"/>
                </a:lnTo>
                <a:lnTo>
                  <a:pt x="5" y="79"/>
                </a:lnTo>
                <a:lnTo>
                  <a:pt x="8" y="78"/>
                </a:lnTo>
                <a:lnTo>
                  <a:pt x="10" y="75"/>
                </a:lnTo>
                <a:lnTo>
                  <a:pt x="5" y="7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1833480" y="4937040"/>
            <a:ext cx="717480" cy="108000"/>
          </a:xfrm>
          <a:custGeom>
            <a:avLst/>
            <a:gdLst/>
            <a:ahLst/>
            <a:rect l="l" t="t" r="r" b="b"/>
            <a:pathLst>
              <a:path w="566" h="85">
                <a:moveTo>
                  <a:pt x="0" y="81"/>
                </a:moveTo>
                <a:lnTo>
                  <a:pt x="5" y="85"/>
                </a:lnTo>
                <a:lnTo>
                  <a:pt x="566" y="8"/>
                </a:lnTo>
                <a:lnTo>
                  <a:pt x="566" y="0"/>
                </a:lnTo>
                <a:lnTo>
                  <a:pt x="5" y="76"/>
                </a:lnTo>
                <a:lnTo>
                  <a:pt x="10" y="81"/>
                </a:lnTo>
                <a:lnTo>
                  <a:pt x="5" y="76"/>
                </a:lnTo>
                <a:lnTo>
                  <a:pt x="2" y="77"/>
                </a:lnTo>
                <a:lnTo>
                  <a:pt x="1" y="81"/>
                </a:lnTo>
                <a:lnTo>
                  <a:pt x="2" y="84"/>
                </a:lnTo>
                <a:lnTo>
                  <a:pt x="5" y="85"/>
                </a:lnTo>
                <a:lnTo>
                  <a:pt x="0" y="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1859040" y="4835520"/>
            <a:ext cx="674640" cy="185760"/>
          </a:xfrm>
          <a:custGeom>
            <a:avLst/>
            <a:gdLst/>
            <a:ahLst/>
            <a:rect l="l" t="t" r="r" b="b"/>
            <a:pathLst>
              <a:path w="533" h="147">
                <a:moveTo>
                  <a:pt x="0" y="147"/>
                </a:moveTo>
                <a:lnTo>
                  <a:pt x="0" y="82"/>
                </a:lnTo>
                <a:lnTo>
                  <a:pt x="9" y="58"/>
                </a:lnTo>
                <a:lnTo>
                  <a:pt x="521" y="0"/>
                </a:lnTo>
                <a:lnTo>
                  <a:pt x="533" y="15"/>
                </a:lnTo>
                <a:lnTo>
                  <a:pt x="533" y="73"/>
                </a:lnTo>
                <a:lnTo>
                  <a:pt x="0" y="147"/>
                </a:lnTo>
                <a:close/>
              </a:path>
            </a:pathLst>
          </a:custGeom>
          <a:solidFill>
            <a:srgbClr val="4c4c4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1859040" y="4835520"/>
            <a:ext cx="674640" cy="185760"/>
          </a:xfrm>
          <a:custGeom>
            <a:avLst/>
            <a:gdLst/>
            <a:ahLst/>
            <a:rect l="l" t="t" r="r" b="b"/>
            <a:pathLst>
              <a:path w="533" h="147">
                <a:moveTo>
                  <a:pt x="0" y="147"/>
                </a:moveTo>
                <a:lnTo>
                  <a:pt x="0" y="82"/>
                </a:lnTo>
                <a:lnTo>
                  <a:pt x="9" y="58"/>
                </a:lnTo>
                <a:lnTo>
                  <a:pt x="521" y="0"/>
                </a:lnTo>
                <a:lnTo>
                  <a:pt x="533" y="15"/>
                </a:lnTo>
                <a:lnTo>
                  <a:pt x="533" y="73"/>
                </a:lnTo>
                <a:lnTo>
                  <a:pt x="0" y="1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1878120" y="4903920"/>
            <a:ext cx="153720" cy="63360"/>
          </a:xfrm>
          <a:custGeom>
            <a:avLst/>
            <a:gdLst/>
            <a:ahLst/>
            <a:rect l="l" t="t" r="r" b="b"/>
            <a:pathLst>
              <a:path w="122" h="49">
                <a:moveTo>
                  <a:pt x="0" y="14"/>
                </a:moveTo>
                <a:lnTo>
                  <a:pt x="0" y="49"/>
                </a:lnTo>
                <a:lnTo>
                  <a:pt x="122" y="34"/>
                </a:lnTo>
                <a:lnTo>
                  <a:pt x="122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1871640" y="4923000"/>
            <a:ext cx="12600" cy="48960"/>
          </a:xfrm>
          <a:custGeom>
            <a:avLst/>
            <a:gdLst/>
            <a:ahLst/>
            <a:rect l="l" t="t" r="r" b="b"/>
            <a:pathLst>
              <a:path w="10" h="39">
                <a:moveTo>
                  <a:pt x="5" y="31"/>
                </a:moveTo>
                <a:lnTo>
                  <a:pt x="10" y="35"/>
                </a:lnTo>
                <a:lnTo>
                  <a:pt x="10" y="0"/>
                </a:lnTo>
                <a:lnTo>
                  <a:pt x="0" y="0"/>
                </a:lnTo>
                <a:lnTo>
                  <a:pt x="0" y="35"/>
                </a:lnTo>
                <a:lnTo>
                  <a:pt x="5" y="39"/>
                </a:lnTo>
                <a:lnTo>
                  <a:pt x="0" y="35"/>
                </a:lnTo>
                <a:lnTo>
                  <a:pt x="2" y="38"/>
                </a:lnTo>
                <a:lnTo>
                  <a:pt x="5" y="39"/>
                </a:lnTo>
                <a:lnTo>
                  <a:pt x="8" y="38"/>
                </a:lnTo>
                <a:lnTo>
                  <a:pt x="10" y="35"/>
                </a:lnTo>
                <a:lnTo>
                  <a:pt x="5" y="3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1878120" y="4941720"/>
            <a:ext cx="161640" cy="30240"/>
          </a:xfrm>
          <a:custGeom>
            <a:avLst/>
            <a:gdLst/>
            <a:ahLst/>
            <a:rect l="l" t="t" r="r" b="b"/>
            <a:pathLst>
              <a:path w="128" h="23">
                <a:moveTo>
                  <a:pt x="117" y="4"/>
                </a:moveTo>
                <a:lnTo>
                  <a:pt x="122" y="0"/>
                </a:lnTo>
                <a:lnTo>
                  <a:pt x="0" y="15"/>
                </a:lnTo>
                <a:lnTo>
                  <a:pt x="0" y="23"/>
                </a:lnTo>
                <a:lnTo>
                  <a:pt x="122" y="8"/>
                </a:lnTo>
                <a:lnTo>
                  <a:pt x="128" y="4"/>
                </a:lnTo>
                <a:lnTo>
                  <a:pt x="122" y="8"/>
                </a:lnTo>
                <a:lnTo>
                  <a:pt x="126" y="7"/>
                </a:lnTo>
                <a:lnTo>
                  <a:pt x="127" y="4"/>
                </a:lnTo>
                <a:lnTo>
                  <a:pt x="126" y="1"/>
                </a:lnTo>
                <a:lnTo>
                  <a:pt x="122" y="0"/>
                </a:lnTo>
                <a:lnTo>
                  <a:pt x="117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2025720" y="4897440"/>
            <a:ext cx="14040" cy="50760"/>
          </a:xfrm>
          <a:custGeom>
            <a:avLst/>
            <a:gdLst/>
            <a:ahLst/>
            <a:rect l="l" t="t" r="r" b="b"/>
            <a:pathLst>
              <a:path w="11" h="39">
                <a:moveTo>
                  <a:pt x="5" y="9"/>
                </a:moveTo>
                <a:lnTo>
                  <a:pt x="0" y="5"/>
                </a:lnTo>
                <a:lnTo>
                  <a:pt x="0" y="39"/>
                </a:lnTo>
                <a:lnTo>
                  <a:pt x="11" y="39"/>
                </a:lnTo>
                <a:lnTo>
                  <a:pt x="11" y="5"/>
                </a:lnTo>
                <a:lnTo>
                  <a:pt x="5" y="1"/>
                </a:lnTo>
                <a:lnTo>
                  <a:pt x="11" y="5"/>
                </a:lnTo>
                <a:lnTo>
                  <a:pt x="9" y="2"/>
                </a:lnTo>
                <a:lnTo>
                  <a:pt x="5" y="0"/>
                </a:lnTo>
                <a:lnTo>
                  <a:pt x="2" y="2"/>
                </a:lnTo>
                <a:lnTo>
                  <a:pt x="0" y="5"/>
                </a:lnTo>
                <a:lnTo>
                  <a:pt x="5" y="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1871640" y="4898880"/>
            <a:ext cx="160200" cy="28800"/>
          </a:xfrm>
          <a:custGeom>
            <a:avLst/>
            <a:gdLst/>
            <a:ahLst/>
            <a:rect l="l" t="t" r="r" b="b"/>
            <a:pathLst>
              <a:path w="127" h="22">
                <a:moveTo>
                  <a:pt x="10" y="18"/>
                </a:moveTo>
                <a:lnTo>
                  <a:pt x="5" y="22"/>
                </a:lnTo>
                <a:lnTo>
                  <a:pt x="127" y="8"/>
                </a:lnTo>
                <a:lnTo>
                  <a:pt x="127" y="0"/>
                </a:lnTo>
                <a:lnTo>
                  <a:pt x="5" y="14"/>
                </a:lnTo>
                <a:lnTo>
                  <a:pt x="0" y="18"/>
                </a:lnTo>
                <a:lnTo>
                  <a:pt x="5" y="14"/>
                </a:lnTo>
                <a:lnTo>
                  <a:pt x="2" y="15"/>
                </a:lnTo>
                <a:lnTo>
                  <a:pt x="1" y="18"/>
                </a:lnTo>
                <a:lnTo>
                  <a:pt x="2" y="21"/>
                </a:lnTo>
                <a:lnTo>
                  <a:pt x="5" y="22"/>
                </a:lnTo>
                <a:lnTo>
                  <a:pt x="10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2344680" y="4888080"/>
            <a:ext cx="19080" cy="23760"/>
          </a:xfrm>
          <a:custGeom>
            <a:avLst/>
            <a:gdLst/>
            <a:ahLst/>
            <a:rect l="l" t="t" r="r" b="b"/>
            <a:pathLst>
              <a:path w="15" h="19">
                <a:moveTo>
                  <a:pt x="8" y="19"/>
                </a:moveTo>
                <a:lnTo>
                  <a:pt x="11" y="17"/>
                </a:lnTo>
                <a:lnTo>
                  <a:pt x="13" y="15"/>
                </a:lnTo>
                <a:lnTo>
                  <a:pt x="14" y="13"/>
                </a:lnTo>
                <a:lnTo>
                  <a:pt x="15" y="10"/>
                </a:lnTo>
                <a:lnTo>
                  <a:pt x="14" y="6"/>
                </a:lnTo>
                <a:lnTo>
                  <a:pt x="13" y="4"/>
                </a:lnTo>
                <a:lnTo>
                  <a:pt x="11" y="2"/>
                </a:lnTo>
                <a:lnTo>
                  <a:pt x="8" y="0"/>
                </a:lnTo>
                <a:lnTo>
                  <a:pt x="5" y="2"/>
                </a:lnTo>
                <a:lnTo>
                  <a:pt x="2" y="4"/>
                </a:lnTo>
                <a:lnTo>
                  <a:pt x="1" y="6"/>
                </a:lnTo>
                <a:lnTo>
                  <a:pt x="0" y="10"/>
                </a:lnTo>
                <a:lnTo>
                  <a:pt x="1" y="13"/>
                </a:lnTo>
                <a:lnTo>
                  <a:pt x="2" y="15"/>
                </a:lnTo>
                <a:lnTo>
                  <a:pt x="5" y="17"/>
                </a:lnTo>
                <a:lnTo>
                  <a:pt x="8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2355840" y="4900680"/>
            <a:ext cx="15840" cy="17280"/>
          </a:xfrm>
          <a:custGeom>
            <a:avLst/>
            <a:gdLst/>
            <a:ahLst/>
            <a:rect l="l" t="t" r="r" b="b"/>
            <a:pathLst>
              <a:path w="13" h="14">
                <a:moveTo>
                  <a:pt x="2" y="0"/>
                </a:moveTo>
                <a:lnTo>
                  <a:pt x="2" y="0"/>
                </a:lnTo>
                <a:lnTo>
                  <a:pt x="2" y="2"/>
                </a:lnTo>
                <a:lnTo>
                  <a:pt x="2" y="3"/>
                </a:lnTo>
                <a:lnTo>
                  <a:pt x="1" y="3"/>
                </a:lnTo>
                <a:lnTo>
                  <a:pt x="0" y="3"/>
                </a:lnTo>
                <a:lnTo>
                  <a:pt x="0" y="14"/>
                </a:lnTo>
                <a:lnTo>
                  <a:pt x="5" y="12"/>
                </a:lnTo>
                <a:lnTo>
                  <a:pt x="8" y="7"/>
                </a:lnTo>
                <a:lnTo>
                  <a:pt x="10" y="4"/>
                </a:lnTo>
                <a:lnTo>
                  <a:pt x="13" y="0"/>
                </a:lnTo>
                <a:lnTo>
                  <a:pt x="13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2355840" y="4881600"/>
            <a:ext cx="15840" cy="19080"/>
          </a:xfrm>
          <a:custGeom>
            <a:avLst/>
            <a:gdLst/>
            <a:ahLst/>
            <a:rect l="l" t="t" r="r" b="b"/>
            <a:pathLst>
              <a:path w="13" h="15">
                <a:moveTo>
                  <a:pt x="0" y="11"/>
                </a:moveTo>
                <a:lnTo>
                  <a:pt x="0" y="11"/>
                </a:lnTo>
                <a:lnTo>
                  <a:pt x="1" y="11"/>
                </a:lnTo>
                <a:lnTo>
                  <a:pt x="2" y="11"/>
                </a:lnTo>
                <a:lnTo>
                  <a:pt x="2" y="12"/>
                </a:lnTo>
                <a:lnTo>
                  <a:pt x="2" y="15"/>
                </a:lnTo>
                <a:lnTo>
                  <a:pt x="13" y="15"/>
                </a:lnTo>
                <a:lnTo>
                  <a:pt x="10" y="10"/>
                </a:lnTo>
                <a:lnTo>
                  <a:pt x="8" y="7"/>
                </a:lnTo>
                <a:lnTo>
                  <a:pt x="5" y="2"/>
                </a:lnTo>
                <a:lnTo>
                  <a:pt x="0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2338560" y="4881600"/>
            <a:ext cx="17280" cy="19080"/>
          </a:xfrm>
          <a:custGeom>
            <a:avLst/>
            <a:gdLst/>
            <a:ahLst/>
            <a:rect l="l" t="t" r="r" b="b"/>
            <a:pathLst>
              <a:path w="13" h="15">
                <a:moveTo>
                  <a:pt x="11" y="15"/>
                </a:moveTo>
                <a:lnTo>
                  <a:pt x="11" y="15"/>
                </a:lnTo>
                <a:lnTo>
                  <a:pt x="11" y="12"/>
                </a:lnTo>
                <a:lnTo>
                  <a:pt x="11" y="11"/>
                </a:lnTo>
                <a:lnTo>
                  <a:pt x="12" y="11"/>
                </a:lnTo>
                <a:lnTo>
                  <a:pt x="13" y="11"/>
                </a:lnTo>
                <a:lnTo>
                  <a:pt x="13" y="0"/>
                </a:lnTo>
                <a:lnTo>
                  <a:pt x="7" y="2"/>
                </a:lnTo>
                <a:lnTo>
                  <a:pt x="4" y="7"/>
                </a:lnTo>
                <a:lnTo>
                  <a:pt x="2" y="10"/>
                </a:lnTo>
                <a:lnTo>
                  <a:pt x="0" y="15"/>
                </a:lnTo>
                <a:lnTo>
                  <a:pt x="0" y="15"/>
                </a:lnTo>
                <a:lnTo>
                  <a:pt x="11" y="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2338560" y="4900680"/>
            <a:ext cx="17280" cy="17280"/>
          </a:xfrm>
          <a:custGeom>
            <a:avLst/>
            <a:gdLst/>
            <a:ahLst/>
            <a:rect l="l" t="t" r="r" b="b"/>
            <a:pathLst>
              <a:path w="13" h="14">
                <a:moveTo>
                  <a:pt x="13" y="3"/>
                </a:moveTo>
                <a:lnTo>
                  <a:pt x="13" y="3"/>
                </a:lnTo>
                <a:lnTo>
                  <a:pt x="12" y="3"/>
                </a:lnTo>
                <a:lnTo>
                  <a:pt x="11" y="3"/>
                </a:lnTo>
                <a:lnTo>
                  <a:pt x="11" y="2"/>
                </a:lnTo>
                <a:lnTo>
                  <a:pt x="11" y="0"/>
                </a:lnTo>
                <a:lnTo>
                  <a:pt x="0" y="0"/>
                </a:lnTo>
                <a:lnTo>
                  <a:pt x="2" y="4"/>
                </a:lnTo>
                <a:lnTo>
                  <a:pt x="4" y="7"/>
                </a:lnTo>
                <a:lnTo>
                  <a:pt x="7" y="12"/>
                </a:lnTo>
                <a:lnTo>
                  <a:pt x="13" y="14"/>
                </a:lnTo>
                <a:lnTo>
                  <a:pt x="13" y="14"/>
                </a:lnTo>
                <a:lnTo>
                  <a:pt x="13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2438280" y="4876920"/>
            <a:ext cx="19080" cy="2376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19"/>
                </a:moveTo>
                <a:lnTo>
                  <a:pt x="10" y="18"/>
                </a:lnTo>
                <a:lnTo>
                  <a:pt x="13" y="16"/>
                </a:lnTo>
                <a:lnTo>
                  <a:pt x="14" y="14"/>
                </a:lnTo>
                <a:lnTo>
                  <a:pt x="15" y="9"/>
                </a:lnTo>
                <a:lnTo>
                  <a:pt x="14" y="5"/>
                </a:lnTo>
                <a:lnTo>
                  <a:pt x="13" y="3"/>
                </a:lnTo>
                <a:lnTo>
                  <a:pt x="10" y="1"/>
                </a:lnTo>
                <a:lnTo>
                  <a:pt x="7" y="0"/>
                </a:lnTo>
                <a:lnTo>
                  <a:pt x="4" y="1"/>
                </a:lnTo>
                <a:lnTo>
                  <a:pt x="2" y="3"/>
                </a:lnTo>
                <a:lnTo>
                  <a:pt x="1" y="5"/>
                </a:lnTo>
                <a:lnTo>
                  <a:pt x="0" y="9"/>
                </a:lnTo>
                <a:lnTo>
                  <a:pt x="1" y="14"/>
                </a:lnTo>
                <a:lnTo>
                  <a:pt x="2" y="16"/>
                </a:lnTo>
                <a:lnTo>
                  <a:pt x="4" y="18"/>
                </a:lnTo>
                <a:lnTo>
                  <a:pt x="7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2448000" y="4888080"/>
            <a:ext cx="15840" cy="18720"/>
          </a:xfrm>
          <a:custGeom>
            <a:avLst/>
            <a:gdLst/>
            <a:ahLst/>
            <a:rect l="l" t="t" r="r" b="b"/>
            <a:pathLst>
              <a:path w="13" h="15">
                <a:moveTo>
                  <a:pt x="2" y="0"/>
                </a:moveTo>
                <a:lnTo>
                  <a:pt x="2" y="0"/>
                </a:lnTo>
                <a:lnTo>
                  <a:pt x="2" y="4"/>
                </a:lnTo>
                <a:lnTo>
                  <a:pt x="2" y="5"/>
                </a:lnTo>
                <a:lnTo>
                  <a:pt x="1" y="5"/>
                </a:lnTo>
                <a:lnTo>
                  <a:pt x="0" y="5"/>
                </a:lnTo>
                <a:lnTo>
                  <a:pt x="0" y="15"/>
                </a:lnTo>
                <a:lnTo>
                  <a:pt x="6" y="13"/>
                </a:lnTo>
                <a:lnTo>
                  <a:pt x="9" y="9"/>
                </a:lnTo>
                <a:lnTo>
                  <a:pt x="11" y="6"/>
                </a:lnTo>
                <a:lnTo>
                  <a:pt x="13" y="0"/>
                </a:lnTo>
                <a:lnTo>
                  <a:pt x="13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2448000" y="4870440"/>
            <a:ext cx="15840" cy="1764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0"/>
                </a:moveTo>
                <a:lnTo>
                  <a:pt x="0" y="10"/>
                </a:lnTo>
                <a:lnTo>
                  <a:pt x="1" y="10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13" y="14"/>
                </a:lnTo>
                <a:lnTo>
                  <a:pt x="11" y="9"/>
                </a:lnTo>
                <a:lnTo>
                  <a:pt x="9" y="6"/>
                </a:lnTo>
                <a:lnTo>
                  <a:pt x="6" y="2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2432160" y="4870440"/>
            <a:ext cx="15840" cy="17640"/>
          </a:xfrm>
          <a:custGeom>
            <a:avLst/>
            <a:gdLst/>
            <a:ahLst/>
            <a:rect l="l" t="t" r="r" b="b"/>
            <a:pathLst>
              <a:path w="13" h="14">
                <a:moveTo>
                  <a:pt x="11" y="14"/>
                </a:moveTo>
                <a:lnTo>
                  <a:pt x="11" y="14"/>
                </a:lnTo>
                <a:lnTo>
                  <a:pt x="11" y="11"/>
                </a:lnTo>
                <a:lnTo>
                  <a:pt x="11" y="10"/>
                </a:lnTo>
                <a:lnTo>
                  <a:pt x="12" y="10"/>
                </a:lnTo>
                <a:lnTo>
                  <a:pt x="13" y="10"/>
                </a:lnTo>
                <a:lnTo>
                  <a:pt x="13" y="0"/>
                </a:lnTo>
                <a:lnTo>
                  <a:pt x="8" y="2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4"/>
                </a:lnTo>
                <a:lnTo>
                  <a:pt x="11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2432160" y="4888080"/>
            <a:ext cx="15840" cy="18720"/>
          </a:xfrm>
          <a:custGeom>
            <a:avLst/>
            <a:gdLst/>
            <a:ahLst/>
            <a:rect l="l" t="t" r="r" b="b"/>
            <a:pathLst>
              <a:path w="13" h="15">
                <a:moveTo>
                  <a:pt x="13" y="5"/>
                </a:moveTo>
                <a:lnTo>
                  <a:pt x="13" y="5"/>
                </a:lnTo>
                <a:lnTo>
                  <a:pt x="12" y="5"/>
                </a:lnTo>
                <a:lnTo>
                  <a:pt x="11" y="5"/>
                </a:lnTo>
                <a:lnTo>
                  <a:pt x="11" y="4"/>
                </a:lnTo>
                <a:lnTo>
                  <a:pt x="11" y="0"/>
                </a:lnTo>
                <a:lnTo>
                  <a:pt x="0" y="0"/>
                </a:lnTo>
                <a:lnTo>
                  <a:pt x="3" y="6"/>
                </a:lnTo>
                <a:lnTo>
                  <a:pt x="5" y="9"/>
                </a:lnTo>
                <a:lnTo>
                  <a:pt x="8" y="13"/>
                </a:lnTo>
                <a:lnTo>
                  <a:pt x="13" y="15"/>
                </a:lnTo>
                <a:lnTo>
                  <a:pt x="13" y="15"/>
                </a:lnTo>
                <a:lnTo>
                  <a:pt x="13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1166760" y="4156200"/>
            <a:ext cx="615960" cy="3096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1751040" y="4414680"/>
            <a:ext cx="108000" cy="87480"/>
          </a:xfrm>
          <a:custGeom>
            <a:avLst/>
            <a:gdLst/>
            <a:ahLst/>
            <a:rect l="l" t="t" r="r" b="b"/>
            <a:pathLst>
              <a:path w="85" h="68">
                <a:moveTo>
                  <a:pt x="34" y="0"/>
                </a:moveTo>
                <a:lnTo>
                  <a:pt x="85" y="68"/>
                </a:lnTo>
                <a:lnTo>
                  <a:pt x="0" y="68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rot="1560000">
            <a:off x="1215720" y="4159440"/>
            <a:ext cx="5630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.0 Traf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3152880" y="4267080"/>
            <a:ext cx="1647720" cy="1067040"/>
          </a:xfrm>
          <a:custGeom>
            <a:avLst/>
            <a:gdLst/>
            <a:ahLst/>
            <a:rect l="l" t="t" r="r" b="b"/>
            <a:pathLst>
              <a:path w="1056" h="864">
                <a:moveTo>
                  <a:pt x="1056" y="864"/>
                </a:moveTo>
                <a:lnTo>
                  <a:pt x="48" y="0"/>
                </a:lnTo>
                <a:lnTo>
                  <a:pt x="0" y="0"/>
                </a:lnTo>
                <a:lnTo>
                  <a:pt x="288" y="864"/>
                </a:lnTo>
                <a:lnTo>
                  <a:pt x="1056" y="864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3162240" y="3952800"/>
            <a:ext cx="763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5562720" y="3962520"/>
            <a:ext cx="759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5562720" y="4267080"/>
            <a:ext cx="1676160" cy="1067040"/>
          </a:xfrm>
          <a:custGeom>
            <a:avLst/>
            <a:gdLst/>
            <a:ahLst/>
            <a:rect l="l" t="t" r="r" b="b"/>
            <a:pathLst>
              <a:path w="1056" h="864">
                <a:moveTo>
                  <a:pt x="1056" y="864"/>
                </a:moveTo>
                <a:lnTo>
                  <a:pt x="48" y="0"/>
                </a:lnTo>
                <a:lnTo>
                  <a:pt x="0" y="0"/>
                </a:lnTo>
                <a:lnTo>
                  <a:pt x="288" y="864"/>
                </a:lnTo>
                <a:lnTo>
                  <a:pt x="1056" y="864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4267080" y="5715000"/>
            <a:ext cx="2210040" cy="23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Narrow"/>
              </a:rPr>
              <a:t>USB1.1 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7" name=""/>
          <p:cNvGrpSpPr/>
          <p:nvPr/>
        </p:nvGrpSpPr>
        <p:grpSpPr>
          <a:xfrm>
            <a:off x="3886200" y="5638680"/>
            <a:ext cx="380880" cy="381240"/>
            <a:chOff x="3886200" y="5638680"/>
            <a:chExt cx="380880" cy="381240"/>
          </a:xfrm>
        </p:grpSpPr>
        <p:sp>
          <p:nvSpPr>
            <p:cNvPr id="6128" name=""/>
            <p:cNvSpPr/>
            <p:nvPr/>
          </p:nvSpPr>
          <p:spPr>
            <a:xfrm>
              <a:off x="3886200" y="5638680"/>
              <a:ext cx="38088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4267080" y="5791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0" name=""/>
          <p:cNvGrpSpPr/>
          <p:nvPr/>
        </p:nvGrpSpPr>
        <p:grpSpPr>
          <a:xfrm>
            <a:off x="3124080" y="3580920"/>
            <a:ext cx="381240" cy="381240"/>
            <a:chOff x="3124080" y="3580920"/>
            <a:chExt cx="381240" cy="381240"/>
          </a:xfrm>
        </p:grpSpPr>
        <p:sp>
          <p:nvSpPr>
            <p:cNvPr id="6131" name=""/>
            <p:cNvSpPr/>
            <p:nvPr/>
          </p:nvSpPr>
          <p:spPr>
            <a:xfrm flipV="1">
              <a:off x="3124080" y="3733200"/>
              <a:ext cx="38124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 flipV="1">
              <a:off x="3505320" y="35809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3" name=""/>
          <p:cNvSpPr/>
          <p:nvPr/>
        </p:nvSpPr>
        <p:spPr>
          <a:xfrm>
            <a:off x="3429000" y="3505320"/>
            <a:ext cx="1430280" cy="23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'Start Split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4" name=""/>
          <p:cNvGrpSpPr/>
          <p:nvPr/>
        </p:nvGrpSpPr>
        <p:grpSpPr>
          <a:xfrm>
            <a:off x="4952880" y="3580920"/>
            <a:ext cx="381240" cy="381240"/>
            <a:chOff x="4952880" y="3580920"/>
            <a:chExt cx="381240" cy="381240"/>
          </a:xfrm>
        </p:grpSpPr>
        <p:sp>
          <p:nvSpPr>
            <p:cNvPr id="6135" name=""/>
            <p:cNvSpPr/>
            <p:nvPr/>
          </p:nvSpPr>
          <p:spPr>
            <a:xfrm flipV="1">
              <a:off x="4952880" y="3733200"/>
              <a:ext cx="38124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 flipV="1">
              <a:off x="5334120" y="35809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7" name=""/>
          <p:cNvSpPr/>
          <p:nvPr/>
        </p:nvSpPr>
        <p:spPr>
          <a:xfrm>
            <a:off x="5257800" y="3505320"/>
            <a:ext cx="1430280" cy="23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'Complete Split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V="1">
            <a:off x="4800600" y="358092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 transaction 'OUT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141" name=""/>
          <p:cNvSpPr/>
          <p:nvPr/>
        </p:nvSpPr>
        <p:spPr>
          <a:xfrm>
            <a:off x="495288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>
            <a:off x="617220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>
            <a:off x="678168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>
            <a:off x="800100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629160" cy="28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46" name=""/>
          <p:cNvSpPr/>
          <p:nvPr/>
        </p:nvSpPr>
        <p:spPr>
          <a:xfrm>
            <a:off x="1143360" y="2666880"/>
            <a:ext cx="18280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>
            <a:off x="1143360" y="2971800"/>
            <a:ext cx="18280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 flipV="1">
            <a:off x="1143360" y="3580920"/>
            <a:ext cx="18280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"/>
          <p:cNvSpPr/>
          <p:nvPr/>
        </p:nvSpPr>
        <p:spPr>
          <a:xfrm>
            <a:off x="3999960" y="1676520"/>
            <a:ext cx="12852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5828760" y="1676520"/>
            <a:ext cx="123948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7656480" y="1735200"/>
            <a:ext cx="14893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6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S/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4952880" y="2209680"/>
            <a:ext cx="12193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4914000" y="2057400"/>
            <a:ext cx="126216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SPL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4952880" y="2438280"/>
            <a:ext cx="12193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4952880" y="2666880"/>
            <a:ext cx="12193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4952880" y="5334120"/>
            <a:ext cx="12193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4952880" y="5562720"/>
            <a:ext cx="12193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4914720" y="2286000"/>
            <a:ext cx="110844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4914000" y="2514600"/>
            <a:ext cx="11098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 flipH="1">
            <a:off x="4952520" y="2971800"/>
            <a:ext cx="1219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4914720" y="2895480"/>
            <a:ext cx="11023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6781680" y="350532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6781680" y="38098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6819840" y="3505320"/>
            <a:ext cx="110844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6819120" y="3809880"/>
            <a:ext cx="11098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 flipH="1">
            <a:off x="6781320" y="4419720"/>
            <a:ext cx="12193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6819840" y="4495680"/>
            <a:ext cx="11023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4838040" y="5181480"/>
            <a:ext cx="12682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SPL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4838400" y="5410080"/>
            <a:ext cx="110844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 flipH="1">
            <a:off x="4952520" y="5867280"/>
            <a:ext cx="1219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4838400" y="5791320"/>
            <a:ext cx="11023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6172200" y="25909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6172200" y="2819520"/>
            <a:ext cx="60948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6172200" y="495288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5" name=""/>
          <p:cNvGrpSpPr/>
          <p:nvPr/>
        </p:nvGrpSpPr>
        <p:grpSpPr>
          <a:xfrm>
            <a:off x="304920" y="3733920"/>
            <a:ext cx="5867280" cy="2514600"/>
            <a:chOff x="304920" y="3733920"/>
            <a:chExt cx="5867280" cy="2514600"/>
          </a:xfrm>
        </p:grpSpPr>
        <p:sp>
          <p:nvSpPr>
            <p:cNvPr id="6176" name=""/>
            <p:cNvSpPr/>
            <p:nvPr/>
          </p:nvSpPr>
          <p:spPr>
            <a:xfrm>
              <a:off x="4952880" y="3886200"/>
              <a:ext cx="1219320" cy="15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4952880" y="4114800"/>
              <a:ext cx="1219320" cy="15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4838040" y="3733920"/>
              <a:ext cx="126828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lnSpc>
                  <a:spcPct val="93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SPL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4838400" y="3962520"/>
              <a:ext cx="110844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lnSpc>
                  <a:spcPct val="93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 flipH="1">
              <a:off x="4952520" y="4419720"/>
              <a:ext cx="12193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4838400" y="4343400"/>
              <a:ext cx="117252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lnSpc>
                  <a:spcPct val="93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NY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04920" y="5562720"/>
              <a:ext cx="4267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93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Un acquittement sp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ial 'NYET' permet d'indiquer le cas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nt que la transaction Low/Full Speed n'est pas termin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3" name=""/>
          <p:cNvSpPr/>
          <p:nvPr/>
        </p:nvSpPr>
        <p:spPr>
          <a:xfrm>
            <a:off x="8077320" y="3962520"/>
            <a:ext cx="91440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 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3733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 transaction 'IN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186" name=""/>
          <p:cNvSpPr/>
          <p:nvPr/>
        </p:nvSpPr>
        <p:spPr>
          <a:xfrm>
            <a:off x="4952880" y="358128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4952880" y="380988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4838040" y="3429000"/>
            <a:ext cx="12682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SPL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4838400" y="3657600"/>
            <a:ext cx="9820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H="1">
            <a:off x="4952520" y="4114800"/>
            <a:ext cx="1219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4838400" y="4038480"/>
            <a:ext cx="11725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Y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2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543480" cy="27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93" name=""/>
          <p:cNvSpPr/>
          <p:nvPr/>
        </p:nvSpPr>
        <p:spPr>
          <a:xfrm>
            <a:off x="1143720" y="2743200"/>
            <a:ext cx="15228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 flipV="1">
            <a:off x="1143000" y="2589840"/>
            <a:ext cx="16761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495288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617220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678168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800100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>
            <a:off x="3999960" y="1676520"/>
            <a:ext cx="12852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5828760" y="1676520"/>
            <a:ext cx="123948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7656480" y="1735200"/>
            <a:ext cx="14893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6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S/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4952880" y="220968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4914000" y="2057400"/>
            <a:ext cx="126216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SPL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4952880" y="243828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 flipH="1">
            <a:off x="4952520" y="5486400"/>
            <a:ext cx="12193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4952880" y="5029200"/>
            <a:ext cx="12193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4952880" y="5257800"/>
            <a:ext cx="12193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4914360" y="2286000"/>
            <a:ext cx="9820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 flipH="1">
            <a:off x="4952520" y="2666880"/>
            <a:ext cx="1219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4914720" y="2590920"/>
            <a:ext cx="11023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6781680" y="335268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 flipH="1">
            <a:off x="6781320" y="38098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6819480" y="3352680"/>
            <a:ext cx="9820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6819120" y="3809880"/>
            <a:ext cx="11098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6781680" y="4343400"/>
            <a:ext cx="1219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6819840" y="4343400"/>
            <a:ext cx="11023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4838040" y="4876920"/>
            <a:ext cx="12682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SPL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4838400" y="5105520"/>
            <a:ext cx="9820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6172200" y="2590920"/>
            <a:ext cx="609480" cy="76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 flipV="1">
            <a:off x="6172200" y="4266720"/>
            <a:ext cx="60948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4837680" y="5410080"/>
            <a:ext cx="11098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8077320" y="3657600"/>
            <a:ext cx="91440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 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3T11:20:46Z</dcterms:created>
  <dc:creator>Philippe Larcher</dc:creator>
  <dc:description/>
  <dc:language>en-US</dc:language>
  <cp:lastModifiedBy>guitton</cp:lastModifiedBy>
  <cp:lastPrinted>2002-10-08T15:10:54Z</cp:lastPrinted>
  <dcterms:modified xsi:type="dcterms:W3CDTF">2002-10-08T15:43:26Z</dcterms:modified>
  <cp:revision>225</cp:revision>
  <dc:subject/>
  <dc:title>Les bases de l'USB</dc:title>
</cp:coreProperties>
</file>